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8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 id="326" r:id="rId229"/>
    <p:sldId id="327" r:id="rId230"/>
    <p:sldId id="328" r:id="rId231"/>
    <p:sldId id="329" r:id="rId232"/>
    <p:sldId id="330" r:id="rId233"/>
    <p:sldId id="331" r:id="rId234"/>
    <p:sldId id="332" r:id="rId235"/>
    <p:sldId id="333" r:id="rId236"/>
    <p:sldId id="334" r:id="rId237"/>
    <p:sldId id="335" r:id="rId238"/>
    <p:sldId id="336" r:id="rId239"/>
    <p:sldId id="337" r:id="rId240"/>
    <p:sldId id="338" r:id="rId241"/>
    <p:sldId id="339" r:id="rId242"/>
    <p:sldId id="340" r:id="rId243"/>
    <p:sldId id="341" r:id="rId244"/>
    <p:sldId id="342" r:id="rId245"/>
    <p:sldId id="343" r:id="rId246"/>
    <p:sldId id="344" r:id="rId247"/>
    <p:sldId id="345" r:id="rId248"/>
    <p:sldId id="346" r:id="rId249"/>
    <p:sldId id="347" r:id="rId250"/>
    <p:sldId id="348" r:id="rId251"/>
    <p:sldId id="349" r:id="rId252"/>
    <p:sldId id="350" r:id="rId253"/>
    <p:sldId id="351" r:id="rId254"/>
    <p:sldId id="352" r:id="rId255"/>
    <p:sldId id="353" r:id="rId256"/>
    <p:sldId id="354" r:id="rId257"/>
    <p:sldId id="355" r:id="rId258"/>
    <p:sldId id="356" r:id="rId259"/>
    <p:sldId id="357" r:id="rId260"/>
    <p:sldId id="358" r:id="rId261"/>
    <p:sldId id="359" r:id="rId262"/>
    <p:sldId id="360" r:id="rId263"/>
    <p:sldId id="361" r:id="rId264"/>
    <p:sldId id="362" r:id="rId265"/>
    <p:sldId id="363" r:id="rId266"/>
    <p:sldId id="364" r:id="rId267"/>
    <p:sldId id="365" r:id="rId268"/>
    <p:sldId id="366" r:id="rId269"/>
    <p:sldId id="367" r:id="rId270"/>
    <p:sldId id="368" r:id="rId271"/>
    <p:sldId id="369" r:id="rId272"/>
    <p:sldId id="370" r:id="rId273"/>
    <p:sldId id="371" r:id="rId274"/>
    <p:sldId id="372" r:id="rId275"/>
    <p:sldId id="373" r:id="rId276"/>
    <p:sldId id="374" r:id="rId277"/>
    <p:sldId id="375" r:id="rId278"/>
    <p:sldId id="376" r:id="rId279"/>
    <p:sldId id="377" r:id="rId280"/>
    <p:sldId id="378" r:id="rId28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slide" Target="slides/slide71.xml"/><Relationship Id="rId230" Type="http://schemas.openxmlformats.org/officeDocument/2006/relationships/slide" Target="slides/slide72.xml"/><Relationship Id="rId231" Type="http://schemas.openxmlformats.org/officeDocument/2006/relationships/slide" Target="slides/slide73.xml"/><Relationship Id="rId232" Type="http://schemas.openxmlformats.org/officeDocument/2006/relationships/slide" Target="slides/slide74.xml"/><Relationship Id="rId233" Type="http://schemas.openxmlformats.org/officeDocument/2006/relationships/slide" Target="slides/slide75.xml"/><Relationship Id="rId234" Type="http://schemas.openxmlformats.org/officeDocument/2006/relationships/slide" Target="slides/slide76.xml"/><Relationship Id="rId235" Type="http://schemas.openxmlformats.org/officeDocument/2006/relationships/slide" Target="slides/slide77.xml"/><Relationship Id="rId236" Type="http://schemas.openxmlformats.org/officeDocument/2006/relationships/slide" Target="slides/slide78.xml"/><Relationship Id="rId237" Type="http://schemas.openxmlformats.org/officeDocument/2006/relationships/slide" Target="slides/slide79.xml"/><Relationship Id="rId238" Type="http://schemas.openxmlformats.org/officeDocument/2006/relationships/slide" Target="slides/slide80.xml"/><Relationship Id="rId239" Type="http://schemas.openxmlformats.org/officeDocument/2006/relationships/slide" Target="slides/slide81.xml"/><Relationship Id="rId240" Type="http://schemas.openxmlformats.org/officeDocument/2006/relationships/slide" Target="slides/slide82.xml"/><Relationship Id="rId241" Type="http://schemas.openxmlformats.org/officeDocument/2006/relationships/slide" Target="slides/slide83.xml"/><Relationship Id="rId242" Type="http://schemas.openxmlformats.org/officeDocument/2006/relationships/slide" Target="slides/slide84.xml"/><Relationship Id="rId243" Type="http://schemas.openxmlformats.org/officeDocument/2006/relationships/slide" Target="slides/slide85.xml"/><Relationship Id="rId244" Type="http://schemas.openxmlformats.org/officeDocument/2006/relationships/slide" Target="slides/slide86.xml"/><Relationship Id="rId245" Type="http://schemas.openxmlformats.org/officeDocument/2006/relationships/slide" Target="slides/slide87.xml"/><Relationship Id="rId246" Type="http://schemas.openxmlformats.org/officeDocument/2006/relationships/slide" Target="slides/slide88.xml"/><Relationship Id="rId247" Type="http://schemas.openxmlformats.org/officeDocument/2006/relationships/slide" Target="slides/slide89.xml"/><Relationship Id="rId248" Type="http://schemas.openxmlformats.org/officeDocument/2006/relationships/slide" Target="slides/slide90.xml"/><Relationship Id="rId249" Type="http://schemas.openxmlformats.org/officeDocument/2006/relationships/slide" Target="slides/slide91.xml"/><Relationship Id="rId250" Type="http://schemas.openxmlformats.org/officeDocument/2006/relationships/slide" Target="slides/slide92.xml"/><Relationship Id="rId251" Type="http://schemas.openxmlformats.org/officeDocument/2006/relationships/slide" Target="slides/slide93.xml"/><Relationship Id="rId252" Type="http://schemas.openxmlformats.org/officeDocument/2006/relationships/slide" Target="slides/slide94.xml"/><Relationship Id="rId253" Type="http://schemas.openxmlformats.org/officeDocument/2006/relationships/slide" Target="slides/slide95.xml"/><Relationship Id="rId254" Type="http://schemas.openxmlformats.org/officeDocument/2006/relationships/slide" Target="slides/slide96.xml"/><Relationship Id="rId255" Type="http://schemas.openxmlformats.org/officeDocument/2006/relationships/slide" Target="slides/slide97.xml"/><Relationship Id="rId256" Type="http://schemas.openxmlformats.org/officeDocument/2006/relationships/slide" Target="slides/slide98.xml"/><Relationship Id="rId257" Type="http://schemas.openxmlformats.org/officeDocument/2006/relationships/slide" Target="slides/slide99.xml"/><Relationship Id="rId258" Type="http://schemas.openxmlformats.org/officeDocument/2006/relationships/slide" Target="slides/slide100.xml"/><Relationship Id="rId259" Type="http://schemas.openxmlformats.org/officeDocument/2006/relationships/slide" Target="slides/slide101.xml"/><Relationship Id="rId260" Type="http://schemas.openxmlformats.org/officeDocument/2006/relationships/slide" Target="slides/slide102.xml"/><Relationship Id="rId261" Type="http://schemas.openxmlformats.org/officeDocument/2006/relationships/slide" Target="slides/slide103.xml"/><Relationship Id="rId262" Type="http://schemas.openxmlformats.org/officeDocument/2006/relationships/slide" Target="slides/slide104.xml"/><Relationship Id="rId263" Type="http://schemas.openxmlformats.org/officeDocument/2006/relationships/slide" Target="slides/slide105.xml"/><Relationship Id="rId264" Type="http://schemas.openxmlformats.org/officeDocument/2006/relationships/slide" Target="slides/slide106.xml"/><Relationship Id="rId265" Type="http://schemas.openxmlformats.org/officeDocument/2006/relationships/slide" Target="slides/slide107.xml"/><Relationship Id="rId266" Type="http://schemas.openxmlformats.org/officeDocument/2006/relationships/slide" Target="slides/slide108.xml"/><Relationship Id="rId267" Type="http://schemas.openxmlformats.org/officeDocument/2006/relationships/slide" Target="slides/slide109.xml"/><Relationship Id="rId268" Type="http://schemas.openxmlformats.org/officeDocument/2006/relationships/slide" Target="slides/slide110.xml"/><Relationship Id="rId269" Type="http://schemas.openxmlformats.org/officeDocument/2006/relationships/slide" Target="slides/slide111.xml"/><Relationship Id="rId270" Type="http://schemas.openxmlformats.org/officeDocument/2006/relationships/slide" Target="slides/slide112.xml"/><Relationship Id="rId271" Type="http://schemas.openxmlformats.org/officeDocument/2006/relationships/slide" Target="slides/slide113.xml"/><Relationship Id="rId272" Type="http://schemas.openxmlformats.org/officeDocument/2006/relationships/slide" Target="slides/slide114.xml"/><Relationship Id="rId273" Type="http://schemas.openxmlformats.org/officeDocument/2006/relationships/slide" Target="slides/slide115.xml"/><Relationship Id="rId274" Type="http://schemas.openxmlformats.org/officeDocument/2006/relationships/slide" Target="slides/slide116.xml"/><Relationship Id="rId275" Type="http://schemas.openxmlformats.org/officeDocument/2006/relationships/slide" Target="slides/slide117.xml"/><Relationship Id="rId276" Type="http://schemas.openxmlformats.org/officeDocument/2006/relationships/slide" Target="slides/slide118.xml"/><Relationship Id="rId277" Type="http://schemas.openxmlformats.org/officeDocument/2006/relationships/slide" Target="slides/slide119.xml"/><Relationship Id="rId278" Type="http://schemas.openxmlformats.org/officeDocument/2006/relationships/slide" Target="slides/slide120.xml"/><Relationship Id="rId279" Type="http://schemas.openxmlformats.org/officeDocument/2006/relationships/slide" Target="slides/slide121.xml"/><Relationship Id="rId280" Type="http://schemas.openxmlformats.org/officeDocument/2006/relationships/slide" Target="slides/slide122.xml"/><Relationship Id="rId281" Type="http://schemas.openxmlformats.org/officeDocument/2006/relationships/slide" Target="slides/slide123.xml"/><Relationship Id="rId2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C4F61-3404-48C3-8857-F29698AE2B13}"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7E812-AE54-423E-A9F0-06EDBD04A04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97" name="PlaceHolder 1"/>
          <p:cNvSpPr>
            <a:spLocks noGrp="1"/>
          </p:cNvSpPr>
          <p:nvPr>
            <p:ph type="sldImg"/>
          </p:nvPr>
        </p:nvSpPr>
        <p:spPr>
          <a:xfrm>
            <a:off x="985680" y="733320"/>
            <a:ext cx="4886640" cy="3665520"/>
          </a:xfrm>
          <a:prstGeom prst="rect">
            <a:avLst/>
          </a:prstGeom>
          <a:ln w="0">
            <a:noFill/>
          </a:ln>
        </p:spPr>
      </p:sp>
      <p:sp>
        <p:nvSpPr>
          <p:cNvPr id="7498"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E780F-2DA1-4212-B269-5AF660B57D5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6752B-E8EC-4132-A892-83F309046BE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3" name="PlaceHolder 1"/>
          <p:cNvSpPr>
            <a:spLocks noGrp="1"/>
          </p:cNvSpPr>
          <p:nvPr>
            <p:ph type="sldImg"/>
          </p:nvPr>
        </p:nvSpPr>
        <p:spPr>
          <a:xfrm>
            <a:off x="985680" y="741240"/>
            <a:ext cx="4886640" cy="3665520"/>
          </a:xfrm>
          <a:prstGeom prst="rect">
            <a:avLst/>
          </a:prstGeom>
          <a:ln w="0">
            <a:noFill/>
          </a:ln>
        </p:spPr>
      </p:sp>
      <p:sp>
        <p:nvSpPr>
          <p:cNvPr id="75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DB1775-052C-453B-A623-62049E44836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5DB0B-EB89-4C46-9832-91BE27E2E39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93" name="PlaceHolder 1"/>
          <p:cNvSpPr>
            <a:spLocks noGrp="1"/>
          </p:cNvSpPr>
          <p:nvPr>
            <p:ph type="sldImg"/>
          </p:nvPr>
        </p:nvSpPr>
        <p:spPr>
          <a:xfrm>
            <a:off x="985680" y="741240"/>
            <a:ext cx="4886640" cy="3665520"/>
          </a:xfrm>
          <a:prstGeom prst="rect">
            <a:avLst/>
          </a:prstGeom>
          <a:ln w="0">
            <a:noFill/>
          </a:ln>
        </p:spPr>
      </p:sp>
      <p:sp>
        <p:nvSpPr>
          <p:cNvPr id="7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D7726-54F3-4990-81C2-26F2196EC31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744B7-2D63-40C6-823B-0F4E2DBD9E1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97" name="PlaceHolder 1"/>
          <p:cNvSpPr>
            <a:spLocks noGrp="1"/>
          </p:cNvSpPr>
          <p:nvPr>
            <p:ph type="sldImg"/>
          </p:nvPr>
        </p:nvSpPr>
        <p:spPr>
          <a:xfrm>
            <a:off x="985680" y="741240"/>
            <a:ext cx="4886640" cy="3665520"/>
          </a:xfrm>
          <a:prstGeom prst="rect">
            <a:avLst/>
          </a:prstGeom>
          <a:ln w="0">
            <a:noFill/>
          </a:ln>
        </p:spPr>
      </p:sp>
      <p:sp>
        <p:nvSpPr>
          <p:cNvPr id="7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909127-FF8F-47B3-B1F0-AB26C1B5E7A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589AD2-FC04-4351-88D1-8D0709EA71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01" name="PlaceHolder 1"/>
          <p:cNvSpPr>
            <a:spLocks noGrp="1"/>
          </p:cNvSpPr>
          <p:nvPr>
            <p:ph type="sldImg"/>
          </p:nvPr>
        </p:nvSpPr>
        <p:spPr>
          <a:xfrm>
            <a:off x="985680" y="741240"/>
            <a:ext cx="4886640" cy="3665520"/>
          </a:xfrm>
          <a:prstGeom prst="rect">
            <a:avLst/>
          </a:prstGeom>
          <a:ln w="0">
            <a:noFill/>
          </a:ln>
        </p:spPr>
      </p:sp>
      <p:sp>
        <p:nvSpPr>
          <p:cNvPr id="7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B551B2-3A6A-45A2-98FA-109C447C087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0078F8-89DB-4944-9F29-19708DC9E75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05" name="PlaceHolder 1"/>
          <p:cNvSpPr>
            <a:spLocks noGrp="1"/>
          </p:cNvSpPr>
          <p:nvPr>
            <p:ph type="sldImg"/>
          </p:nvPr>
        </p:nvSpPr>
        <p:spPr>
          <a:xfrm>
            <a:off x="985680" y="741240"/>
            <a:ext cx="4886640" cy="3665520"/>
          </a:xfrm>
          <a:prstGeom prst="rect">
            <a:avLst/>
          </a:prstGeom>
          <a:ln w="0">
            <a:noFill/>
          </a:ln>
        </p:spPr>
      </p:sp>
      <p:sp>
        <p:nvSpPr>
          <p:cNvPr id="7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F35D2-0E08-4D0B-B414-D5D15DFFD01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A70D1D-802D-49B7-A848-913A8C2F433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09" name="PlaceHolder 1"/>
          <p:cNvSpPr>
            <a:spLocks noGrp="1"/>
          </p:cNvSpPr>
          <p:nvPr>
            <p:ph type="sldImg"/>
          </p:nvPr>
        </p:nvSpPr>
        <p:spPr>
          <a:xfrm>
            <a:off x="985680" y="741240"/>
            <a:ext cx="4886640" cy="3665520"/>
          </a:xfrm>
          <a:prstGeom prst="rect">
            <a:avLst/>
          </a:prstGeom>
          <a:ln w="0">
            <a:noFill/>
          </a:ln>
        </p:spPr>
      </p:sp>
      <p:sp>
        <p:nvSpPr>
          <p:cNvPr id="7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E2847-21D1-4567-BD19-33C654AE4C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B1882-B3B3-4C6D-9364-A399C474419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13" name="PlaceHolder 1"/>
          <p:cNvSpPr>
            <a:spLocks noGrp="1"/>
          </p:cNvSpPr>
          <p:nvPr>
            <p:ph type="sldImg"/>
          </p:nvPr>
        </p:nvSpPr>
        <p:spPr>
          <a:xfrm>
            <a:off x="985680" y="741240"/>
            <a:ext cx="4886640" cy="3665520"/>
          </a:xfrm>
          <a:prstGeom prst="rect">
            <a:avLst/>
          </a:prstGeom>
          <a:ln w="0">
            <a:noFill/>
          </a:ln>
        </p:spPr>
      </p:sp>
      <p:sp>
        <p:nvSpPr>
          <p:cNvPr id="7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DC63B6-E837-4F1A-9CD8-EF916E48083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6B41C-B313-4370-B7B3-4F99A3B4938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17" name="PlaceHolder 1"/>
          <p:cNvSpPr>
            <a:spLocks noGrp="1"/>
          </p:cNvSpPr>
          <p:nvPr>
            <p:ph type="sldImg"/>
          </p:nvPr>
        </p:nvSpPr>
        <p:spPr>
          <a:xfrm>
            <a:off x="985680" y="741240"/>
            <a:ext cx="4886640" cy="3665520"/>
          </a:xfrm>
          <a:prstGeom prst="rect">
            <a:avLst/>
          </a:prstGeom>
          <a:ln w="0">
            <a:noFill/>
          </a:ln>
        </p:spPr>
      </p:sp>
      <p:sp>
        <p:nvSpPr>
          <p:cNvPr id="7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0DE97-2E2E-4941-A49F-CEAF610D85E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8BD60-0D3C-492E-9492-B5CE4B119E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21" name="PlaceHolder 1"/>
          <p:cNvSpPr>
            <a:spLocks noGrp="1"/>
          </p:cNvSpPr>
          <p:nvPr>
            <p:ph type="sldImg"/>
          </p:nvPr>
        </p:nvSpPr>
        <p:spPr>
          <a:xfrm>
            <a:off x="985680" y="741240"/>
            <a:ext cx="4886640" cy="3665520"/>
          </a:xfrm>
          <a:prstGeom prst="rect">
            <a:avLst/>
          </a:prstGeom>
          <a:ln w="0">
            <a:noFill/>
          </a:ln>
        </p:spPr>
      </p:sp>
      <p:sp>
        <p:nvSpPr>
          <p:cNvPr id="7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2338E-F047-4A42-9FCB-98EDC2A39A2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A4EAC-3C86-46BD-B6FE-7DA172426A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25" name="PlaceHolder 1"/>
          <p:cNvSpPr>
            <a:spLocks noGrp="1"/>
          </p:cNvSpPr>
          <p:nvPr>
            <p:ph type="sldImg"/>
          </p:nvPr>
        </p:nvSpPr>
        <p:spPr>
          <a:xfrm>
            <a:off x="985680" y="741240"/>
            <a:ext cx="4886640" cy="3665520"/>
          </a:xfrm>
          <a:prstGeom prst="rect">
            <a:avLst/>
          </a:prstGeom>
          <a:ln w="0">
            <a:noFill/>
          </a:ln>
        </p:spPr>
      </p:sp>
      <p:sp>
        <p:nvSpPr>
          <p:cNvPr id="7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A9D24-8E0D-492E-B86D-5265CE50F43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E5244-794A-4B3A-9D3E-33B3B77D0D2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29" name="PlaceHolder 1"/>
          <p:cNvSpPr>
            <a:spLocks noGrp="1"/>
          </p:cNvSpPr>
          <p:nvPr>
            <p:ph type="sldImg"/>
          </p:nvPr>
        </p:nvSpPr>
        <p:spPr>
          <a:xfrm>
            <a:off x="985680" y="741240"/>
            <a:ext cx="4886640" cy="3665520"/>
          </a:xfrm>
          <a:prstGeom prst="rect">
            <a:avLst/>
          </a:prstGeom>
          <a:ln w="0">
            <a:noFill/>
          </a:ln>
        </p:spPr>
      </p:sp>
      <p:sp>
        <p:nvSpPr>
          <p:cNvPr id="7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2A4B9-D384-41BE-AF62-1F4819DFE77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BE722-F01A-4D23-A714-3FC4F7549C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7" name="PlaceHolder 1"/>
          <p:cNvSpPr>
            <a:spLocks noGrp="1"/>
          </p:cNvSpPr>
          <p:nvPr>
            <p:ph type="sldImg"/>
          </p:nvPr>
        </p:nvSpPr>
        <p:spPr>
          <a:xfrm>
            <a:off x="985680" y="741240"/>
            <a:ext cx="4886640" cy="3665520"/>
          </a:xfrm>
          <a:prstGeom prst="rect">
            <a:avLst/>
          </a:prstGeom>
          <a:ln w="0">
            <a:noFill/>
          </a:ln>
        </p:spPr>
      </p:sp>
      <p:sp>
        <p:nvSpPr>
          <p:cNvPr id="75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24386-290B-4BAF-AF30-66AAEBFBDED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6CAFBC-A7DE-4565-B74E-03E04D8ED9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33" name="PlaceHolder 1"/>
          <p:cNvSpPr>
            <a:spLocks noGrp="1"/>
          </p:cNvSpPr>
          <p:nvPr>
            <p:ph type="sldImg"/>
          </p:nvPr>
        </p:nvSpPr>
        <p:spPr>
          <a:xfrm>
            <a:off x="985680" y="741240"/>
            <a:ext cx="4886640" cy="3665520"/>
          </a:xfrm>
          <a:prstGeom prst="rect">
            <a:avLst/>
          </a:prstGeom>
          <a:ln w="0">
            <a:noFill/>
          </a:ln>
        </p:spPr>
      </p:sp>
      <p:sp>
        <p:nvSpPr>
          <p:cNvPr id="7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3EE5F-0755-4278-9DBB-F49FB4D5DB5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273D5D-BE19-48FB-9584-5A53619A0BF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37" name="PlaceHolder 1"/>
          <p:cNvSpPr>
            <a:spLocks noGrp="1"/>
          </p:cNvSpPr>
          <p:nvPr>
            <p:ph type="sldImg"/>
          </p:nvPr>
        </p:nvSpPr>
        <p:spPr>
          <a:xfrm>
            <a:off x="985680" y="741240"/>
            <a:ext cx="4886640" cy="3665520"/>
          </a:xfrm>
          <a:prstGeom prst="rect">
            <a:avLst/>
          </a:prstGeom>
          <a:ln w="0">
            <a:noFill/>
          </a:ln>
        </p:spPr>
      </p:sp>
      <p:sp>
        <p:nvSpPr>
          <p:cNvPr id="7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E8D9D-0063-4C41-A687-50603FAB0DC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51F457-ADC0-4220-9507-B10167ADE75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41" name="PlaceHolder 1"/>
          <p:cNvSpPr>
            <a:spLocks noGrp="1"/>
          </p:cNvSpPr>
          <p:nvPr>
            <p:ph type="sldImg"/>
          </p:nvPr>
        </p:nvSpPr>
        <p:spPr>
          <a:xfrm>
            <a:off x="985680" y="741240"/>
            <a:ext cx="4886640" cy="3665520"/>
          </a:xfrm>
          <a:prstGeom prst="rect">
            <a:avLst/>
          </a:prstGeom>
          <a:ln w="0">
            <a:noFill/>
          </a:ln>
        </p:spPr>
      </p:sp>
      <p:sp>
        <p:nvSpPr>
          <p:cNvPr id="7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18260-AA27-4158-B4EF-3DA11760E4E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09EE5E-2E33-4544-9CD5-5FFDA81038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45" name="PlaceHolder 1"/>
          <p:cNvSpPr>
            <a:spLocks noGrp="1"/>
          </p:cNvSpPr>
          <p:nvPr>
            <p:ph type="sldImg"/>
          </p:nvPr>
        </p:nvSpPr>
        <p:spPr>
          <a:xfrm>
            <a:off x="985680" y="741240"/>
            <a:ext cx="4886640" cy="3665520"/>
          </a:xfrm>
          <a:prstGeom prst="rect">
            <a:avLst/>
          </a:prstGeom>
          <a:ln w="0">
            <a:noFill/>
          </a:ln>
        </p:spPr>
      </p:sp>
      <p:sp>
        <p:nvSpPr>
          <p:cNvPr id="7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A87DD-7D6B-4770-B406-4DB6429E72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8E6C41-6D2D-47F5-880D-5926003C3E1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49" name="PlaceHolder 1"/>
          <p:cNvSpPr>
            <a:spLocks noGrp="1"/>
          </p:cNvSpPr>
          <p:nvPr>
            <p:ph type="sldImg"/>
          </p:nvPr>
        </p:nvSpPr>
        <p:spPr>
          <a:xfrm>
            <a:off x="985680" y="741240"/>
            <a:ext cx="4886640" cy="3665520"/>
          </a:xfrm>
          <a:prstGeom prst="rect">
            <a:avLst/>
          </a:prstGeom>
          <a:ln w="0">
            <a:noFill/>
          </a:ln>
        </p:spPr>
      </p:sp>
      <p:sp>
        <p:nvSpPr>
          <p:cNvPr id="7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23D66-F8E1-4B86-970D-69672C1A2C0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50199-17BE-480A-86BB-423CE9DE77A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53" name="PlaceHolder 1"/>
          <p:cNvSpPr>
            <a:spLocks noGrp="1"/>
          </p:cNvSpPr>
          <p:nvPr>
            <p:ph type="sldImg"/>
          </p:nvPr>
        </p:nvSpPr>
        <p:spPr>
          <a:xfrm>
            <a:off x="985680" y="741240"/>
            <a:ext cx="4886640" cy="3665520"/>
          </a:xfrm>
          <a:prstGeom prst="rect">
            <a:avLst/>
          </a:prstGeom>
          <a:ln w="0">
            <a:noFill/>
          </a:ln>
        </p:spPr>
      </p:sp>
      <p:sp>
        <p:nvSpPr>
          <p:cNvPr id="7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F254C3-3FAA-48E2-BAE0-4CE1475FF0F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11F22-D728-4CB3-9657-6FC66801846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57" name="PlaceHolder 1"/>
          <p:cNvSpPr>
            <a:spLocks noGrp="1"/>
          </p:cNvSpPr>
          <p:nvPr>
            <p:ph type="sldImg"/>
          </p:nvPr>
        </p:nvSpPr>
        <p:spPr>
          <a:xfrm>
            <a:off x="985680" y="741240"/>
            <a:ext cx="4886640" cy="3665520"/>
          </a:xfrm>
          <a:prstGeom prst="rect">
            <a:avLst/>
          </a:prstGeom>
          <a:ln w="0">
            <a:noFill/>
          </a:ln>
        </p:spPr>
      </p:sp>
      <p:sp>
        <p:nvSpPr>
          <p:cNvPr id="7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CC57D-011D-4008-82E5-8BF5B56E45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7ACED-2C4A-4BE2-B202-6C14A458E22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61" name="PlaceHolder 1"/>
          <p:cNvSpPr>
            <a:spLocks noGrp="1"/>
          </p:cNvSpPr>
          <p:nvPr>
            <p:ph type="sldImg"/>
          </p:nvPr>
        </p:nvSpPr>
        <p:spPr>
          <a:xfrm>
            <a:off x="985680" y="741240"/>
            <a:ext cx="4886640" cy="3665520"/>
          </a:xfrm>
          <a:prstGeom prst="rect">
            <a:avLst/>
          </a:prstGeom>
          <a:ln w="0">
            <a:noFill/>
          </a:ln>
        </p:spPr>
      </p:sp>
      <p:sp>
        <p:nvSpPr>
          <p:cNvPr id="7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59FC7-DFC9-427F-9C84-5A06EACD560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E936CD-6DEA-491D-A630-45F2953AE4B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65" name="PlaceHolder 1"/>
          <p:cNvSpPr>
            <a:spLocks noGrp="1"/>
          </p:cNvSpPr>
          <p:nvPr>
            <p:ph type="sldImg"/>
          </p:nvPr>
        </p:nvSpPr>
        <p:spPr>
          <a:xfrm>
            <a:off x="985680" y="741240"/>
            <a:ext cx="4886640" cy="3665520"/>
          </a:xfrm>
          <a:prstGeom prst="rect">
            <a:avLst/>
          </a:prstGeom>
          <a:ln w="0">
            <a:noFill/>
          </a:ln>
        </p:spPr>
      </p:sp>
      <p:sp>
        <p:nvSpPr>
          <p:cNvPr id="7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62643-F9FD-409D-9D53-9ACEBA447DE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E6DDD-0D3E-47B5-B542-2908F2A6E2A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69" name="PlaceHolder 1"/>
          <p:cNvSpPr>
            <a:spLocks noGrp="1"/>
          </p:cNvSpPr>
          <p:nvPr>
            <p:ph type="sldImg"/>
          </p:nvPr>
        </p:nvSpPr>
        <p:spPr>
          <a:xfrm>
            <a:off x="985680" y="741240"/>
            <a:ext cx="4886640" cy="3665520"/>
          </a:xfrm>
          <a:prstGeom prst="rect">
            <a:avLst/>
          </a:prstGeom>
          <a:ln w="0">
            <a:noFill/>
          </a:ln>
        </p:spPr>
      </p:sp>
      <p:sp>
        <p:nvSpPr>
          <p:cNvPr id="7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D763D-3737-4C7A-AA73-220639B46CC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BC3BA-9EF9-496F-B46D-647D7307C2A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1" name="PlaceHolder 1"/>
          <p:cNvSpPr>
            <a:spLocks noGrp="1"/>
          </p:cNvSpPr>
          <p:nvPr>
            <p:ph type="sldImg"/>
          </p:nvPr>
        </p:nvSpPr>
        <p:spPr>
          <a:xfrm>
            <a:off x="985680" y="741240"/>
            <a:ext cx="4886640" cy="3665520"/>
          </a:xfrm>
          <a:prstGeom prst="rect">
            <a:avLst/>
          </a:prstGeom>
          <a:ln w="0">
            <a:noFill/>
          </a:ln>
        </p:spPr>
      </p:sp>
      <p:sp>
        <p:nvSpPr>
          <p:cNvPr id="75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8692E-F93A-4B7D-A587-7DEC2DA2DF4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29098-CDD9-464B-973D-AD85AEC6E6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73" name="PlaceHolder 1"/>
          <p:cNvSpPr>
            <a:spLocks noGrp="1"/>
          </p:cNvSpPr>
          <p:nvPr>
            <p:ph type="sldImg"/>
          </p:nvPr>
        </p:nvSpPr>
        <p:spPr>
          <a:xfrm>
            <a:off x="985680" y="741240"/>
            <a:ext cx="4886640" cy="3665520"/>
          </a:xfrm>
          <a:prstGeom prst="rect">
            <a:avLst/>
          </a:prstGeom>
          <a:ln w="0">
            <a:noFill/>
          </a:ln>
        </p:spPr>
      </p:sp>
      <p:sp>
        <p:nvSpPr>
          <p:cNvPr id="7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08D59-BC46-4974-BEEE-FAC92B7A72E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B5451-0CE2-47AE-8599-B69118BEE36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77" name="PlaceHolder 1"/>
          <p:cNvSpPr>
            <a:spLocks noGrp="1"/>
          </p:cNvSpPr>
          <p:nvPr>
            <p:ph type="sldImg"/>
          </p:nvPr>
        </p:nvSpPr>
        <p:spPr>
          <a:xfrm>
            <a:off x="985680" y="741240"/>
            <a:ext cx="4886640" cy="3665520"/>
          </a:xfrm>
          <a:prstGeom prst="rect">
            <a:avLst/>
          </a:prstGeom>
          <a:ln w="0">
            <a:noFill/>
          </a:ln>
        </p:spPr>
      </p:sp>
      <p:sp>
        <p:nvSpPr>
          <p:cNvPr id="7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31764-91A9-4BD6-B7F3-54E7A3CE20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8EE21-F6B6-4C4E-A8B8-8FCBDC1E4E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81" name="PlaceHolder 1"/>
          <p:cNvSpPr>
            <a:spLocks noGrp="1"/>
          </p:cNvSpPr>
          <p:nvPr>
            <p:ph type="sldImg"/>
          </p:nvPr>
        </p:nvSpPr>
        <p:spPr>
          <a:xfrm>
            <a:off x="985680" y="741240"/>
            <a:ext cx="4886640" cy="3665520"/>
          </a:xfrm>
          <a:prstGeom prst="rect">
            <a:avLst/>
          </a:prstGeom>
          <a:ln w="0">
            <a:noFill/>
          </a:ln>
        </p:spPr>
      </p:sp>
      <p:sp>
        <p:nvSpPr>
          <p:cNvPr id="79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DB360-267C-49E6-AB33-483F4E447AE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84" name="PlaceHolder 1"/>
          <p:cNvSpPr>
            <a:spLocks noGrp="1"/>
          </p:cNvSpPr>
          <p:nvPr>
            <p:ph type="sldImg"/>
          </p:nvPr>
        </p:nvSpPr>
        <p:spPr>
          <a:xfrm>
            <a:off x="985680" y="733320"/>
            <a:ext cx="4886640" cy="3665520"/>
          </a:xfrm>
          <a:prstGeom prst="rect">
            <a:avLst/>
          </a:prstGeom>
          <a:ln w="0">
            <a:noFill/>
          </a:ln>
        </p:spPr>
      </p:sp>
      <p:sp>
        <p:nvSpPr>
          <p:cNvPr id="798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72B19A-F495-4AB2-879D-C7F012243B1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AD6D64-E145-4336-B573-29300DF0811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5" name="PlaceHolder 1"/>
          <p:cNvSpPr>
            <a:spLocks noGrp="1"/>
          </p:cNvSpPr>
          <p:nvPr>
            <p:ph type="sldImg"/>
          </p:nvPr>
        </p:nvSpPr>
        <p:spPr>
          <a:xfrm>
            <a:off x="985680" y="741240"/>
            <a:ext cx="4886640" cy="3665520"/>
          </a:xfrm>
          <a:prstGeom prst="rect">
            <a:avLst/>
          </a:prstGeom>
          <a:ln w="0">
            <a:noFill/>
          </a:ln>
        </p:spPr>
      </p:sp>
      <p:sp>
        <p:nvSpPr>
          <p:cNvPr id="75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EACAF7-216A-4782-9E81-5FB334E39B2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D4ADFC-1A63-42FD-8CB9-C42768C52C6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9" name="PlaceHolder 1"/>
          <p:cNvSpPr>
            <a:spLocks noGrp="1"/>
          </p:cNvSpPr>
          <p:nvPr>
            <p:ph type="sldImg"/>
          </p:nvPr>
        </p:nvSpPr>
        <p:spPr>
          <a:xfrm>
            <a:off x="985680" y="741240"/>
            <a:ext cx="4886640" cy="3665520"/>
          </a:xfrm>
          <a:prstGeom prst="rect">
            <a:avLst/>
          </a:prstGeom>
          <a:ln w="0">
            <a:noFill/>
          </a:ln>
        </p:spPr>
      </p:sp>
      <p:sp>
        <p:nvSpPr>
          <p:cNvPr id="75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27F01-2742-4D99-870B-D14B1D0A68D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60432-A6B8-4A60-968F-C4CD51E42D8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3" name="PlaceHolder 1"/>
          <p:cNvSpPr>
            <a:spLocks noGrp="1"/>
          </p:cNvSpPr>
          <p:nvPr>
            <p:ph type="sldImg"/>
          </p:nvPr>
        </p:nvSpPr>
        <p:spPr>
          <a:xfrm>
            <a:off x="985680" y="741240"/>
            <a:ext cx="4886640" cy="3665520"/>
          </a:xfrm>
          <a:prstGeom prst="rect">
            <a:avLst/>
          </a:prstGeom>
          <a:ln w="0">
            <a:noFill/>
          </a:ln>
        </p:spPr>
      </p:sp>
      <p:sp>
        <p:nvSpPr>
          <p:cNvPr id="75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C8E91-E061-4593-8233-0BD80024E60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9973B5-4940-4DDF-8C29-0B9E155455F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7" name="PlaceHolder 1"/>
          <p:cNvSpPr>
            <a:spLocks noGrp="1"/>
          </p:cNvSpPr>
          <p:nvPr>
            <p:ph type="sldImg"/>
          </p:nvPr>
        </p:nvSpPr>
        <p:spPr>
          <a:xfrm>
            <a:off x="985680" y="741240"/>
            <a:ext cx="4886640" cy="3665520"/>
          </a:xfrm>
          <a:prstGeom prst="rect">
            <a:avLst/>
          </a:prstGeom>
          <a:ln w="0">
            <a:noFill/>
          </a:ln>
        </p:spPr>
      </p:sp>
      <p:sp>
        <p:nvSpPr>
          <p:cNvPr id="75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52A38-DEEE-49B0-B8E9-1DCB61689AC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23EDC-3083-4633-9709-2338291952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1" name="PlaceHolder 1"/>
          <p:cNvSpPr>
            <a:spLocks noGrp="1"/>
          </p:cNvSpPr>
          <p:nvPr>
            <p:ph type="sldImg"/>
          </p:nvPr>
        </p:nvSpPr>
        <p:spPr>
          <a:xfrm>
            <a:off x="985680" y="741240"/>
            <a:ext cx="4886640" cy="3665520"/>
          </a:xfrm>
          <a:prstGeom prst="rect">
            <a:avLst/>
          </a:prstGeom>
          <a:ln w="0">
            <a:noFill/>
          </a:ln>
        </p:spPr>
      </p:sp>
      <p:sp>
        <p:nvSpPr>
          <p:cNvPr id="75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AC9B33-24F7-4A81-BA9E-B75A94E5A2D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24ACB6-4A15-4DA3-8D52-14CE4DD60AF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5" name="PlaceHolder 1"/>
          <p:cNvSpPr>
            <a:spLocks noGrp="1"/>
          </p:cNvSpPr>
          <p:nvPr>
            <p:ph type="sldImg"/>
          </p:nvPr>
        </p:nvSpPr>
        <p:spPr>
          <a:xfrm>
            <a:off x="985680" y="741240"/>
            <a:ext cx="4886640" cy="3665520"/>
          </a:xfrm>
          <a:prstGeom prst="rect">
            <a:avLst/>
          </a:prstGeom>
          <a:ln w="0">
            <a:noFill/>
          </a:ln>
        </p:spPr>
      </p:sp>
      <p:sp>
        <p:nvSpPr>
          <p:cNvPr id="75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A1A427-5D85-4F95-BB80-279A615C2D3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A72F55-922D-42C8-938A-000BD122BCC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9" name="PlaceHolder 1"/>
          <p:cNvSpPr>
            <a:spLocks noGrp="1"/>
          </p:cNvSpPr>
          <p:nvPr>
            <p:ph type="sldImg"/>
          </p:nvPr>
        </p:nvSpPr>
        <p:spPr>
          <a:xfrm>
            <a:off x="985680" y="741240"/>
            <a:ext cx="4886640" cy="3665520"/>
          </a:xfrm>
          <a:prstGeom prst="rect">
            <a:avLst/>
          </a:prstGeom>
          <a:ln w="0">
            <a:noFill/>
          </a:ln>
        </p:spPr>
      </p:sp>
      <p:sp>
        <p:nvSpPr>
          <p:cNvPr id="75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FAF12-8656-450D-AE10-B72503C2192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F7779-B5D1-4B16-8529-C6983DAA893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1" name="PlaceHolder 1"/>
          <p:cNvSpPr>
            <a:spLocks noGrp="1"/>
          </p:cNvSpPr>
          <p:nvPr>
            <p:ph type="sldImg"/>
          </p:nvPr>
        </p:nvSpPr>
        <p:spPr>
          <a:xfrm>
            <a:off x="985680" y="741240"/>
            <a:ext cx="4886640" cy="3665520"/>
          </a:xfrm>
          <a:prstGeom prst="rect">
            <a:avLst/>
          </a:prstGeom>
          <a:ln w="0">
            <a:noFill/>
          </a:ln>
        </p:spPr>
      </p:sp>
      <p:sp>
        <p:nvSpPr>
          <p:cNvPr id="75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347D0-45FB-4FCE-81A0-3D6FBBF46A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B9A43-81BE-41D2-A545-D4261C6A10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3" name="PlaceHolder 1"/>
          <p:cNvSpPr>
            <a:spLocks noGrp="1"/>
          </p:cNvSpPr>
          <p:nvPr>
            <p:ph type="sldImg"/>
          </p:nvPr>
        </p:nvSpPr>
        <p:spPr>
          <a:xfrm>
            <a:off x="985680" y="741240"/>
            <a:ext cx="4886640" cy="3665520"/>
          </a:xfrm>
          <a:prstGeom prst="rect">
            <a:avLst/>
          </a:prstGeom>
          <a:ln w="0">
            <a:noFill/>
          </a:ln>
        </p:spPr>
      </p:sp>
      <p:sp>
        <p:nvSpPr>
          <p:cNvPr id="75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3C9F69-606C-4257-A3B9-B0A29D961A1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E0893F-FE3C-4400-9D94-5B5104EA5F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7" name="PlaceHolder 1"/>
          <p:cNvSpPr>
            <a:spLocks noGrp="1"/>
          </p:cNvSpPr>
          <p:nvPr>
            <p:ph type="sldImg"/>
          </p:nvPr>
        </p:nvSpPr>
        <p:spPr>
          <a:xfrm>
            <a:off x="985680" y="741240"/>
            <a:ext cx="4886640" cy="3665520"/>
          </a:xfrm>
          <a:prstGeom prst="rect">
            <a:avLst/>
          </a:prstGeom>
          <a:ln w="0">
            <a:noFill/>
          </a:ln>
        </p:spPr>
      </p:sp>
      <p:sp>
        <p:nvSpPr>
          <p:cNvPr id="75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BC3F2-53D1-4008-A6A6-D31807A7A7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D50BA-5BA7-4C58-8DC9-692BEB7CE2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1" name="PlaceHolder 1"/>
          <p:cNvSpPr>
            <a:spLocks noGrp="1"/>
          </p:cNvSpPr>
          <p:nvPr>
            <p:ph type="sldImg"/>
          </p:nvPr>
        </p:nvSpPr>
        <p:spPr>
          <a:xfrm>
            <a:off x="985680" y="741240"/>
            <a:ext cx="4886640" cy="3665520"/>
          </a:xfrm>
          <a:prstGeom prst="rect">
            <a:avLst/>
          </a:prstGeom>
          <a:ln w="0">
            <a:noFill/>
          </a:ln>
        </p:spPr>
      </p:sp>
      <p:sp>
        <p:nvSpPr>
          <p:cNvPr id="75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4349E-905A-4CE4-82C0-C7008335AE1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53B51-8004-4616-9A27-70A764F1E17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5" name="PlaceHolder 1"/>
          <p:cNvSpPr>
            <a:spLocks noGrp="1"/>
          </p:cNvSpPr>
          <p:nvPr>
            <p:ph type="sldImg"/>
          </p:nvPr>
        </p:nvSpPr>
        <p:spPr>
          <a:xfrm>
            <a:off x="985680" y="741240"/>
            <a:ext cx="4886640" cy="3665520"/>
          </a:xfrm>
          <a:prstGeom prst="rect">
            <a:avLst/>
          </a:prstGeom>
          <a:ln w="0">
            <a:noFill/>
          </a:ln>
        </p:spPr>
      </p:sp>
      <p:sp>
        <p:nvSpPr>
          <p:cNvPr id="75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C8CEF-3ABC-435E-BAEB-D4DFE5FE62C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5B6CE0-E090-4AFA-A610-096E5834BE9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9" name="PlaceHolder 1"/>
          <p:cNvSpPr>
            <a:spLocks noGrp="1"/>
          </p:cNvSpPr>
          <p:nvPr>
            <p:ph type="sldImg"/>
          </p:nvPr>
        </p:nvSpPr>
        <p:spPr>
          <a:xfrm>
            <a:off x="985680" y="741240"/>
            <a:ext cx="4886640" cy="3665520"/>
          </a:xfrm>
          <a:prstGeom prst="rect">
            <a:avLst/>
          </a:prstGeom>
          <a:ln w="0">
            <a:noFill/>
          </a:ln>
        </p:spPr>
      </p:sp>
      <p:sp>
        <p:nvSpPr>
          <p:cNvPr id="75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444F8-D6F7-492F-9220-23AD42B126A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FC6FF-3DCD-420D-B2FF-68670555504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3" name="PlaceHolder 1"/>
          <p:cNvSpPr>
            <a:spLocks noGrp="1"/>
          </p:cNvSpPr>
          <p:nvPr>
            <p:ph type="sldImg"/>
          </p:nvPr>
        </p:nvSpPr>
        <p:spPr>
          <a:xfrm>
            <a:off x="985680" y="741240"/>
            <a:ext cx="4886640" cy="3665520"/>
          </a:xfrm>
          <a:prstGeom prst="rect">
            <a:avLst/>
          </a:prstGeom>
          <a:ln w="0">
            <a:noFill/>
          </a:ln>
        </p:spPr>
      </p:sp>
      <p:sp>
        <p:nvSpPr>
          <p:cNvPr id="75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5DE7B-66F9-4025-AC5E-E5EE53A6B6E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DF98C-DD5C-4B78-9839-C84BE6B55B9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7" name="PlaceHolder 1"/>
          <p:cNvSpPr>
            <a:spLocks noGrp="1"/>
          </p:cNvSpPr>
          <p:nvPr>
            <p:ph type="sldImg"/>
          </p:nvPr>
        </p:nvSpPr>
        <p:spPr>
          <a:xfrm>
            <a:off x="985680" y="741240"/>
            <a:ext cx="4886640" cy="3665520"/>
          </a:xfrm>
          <a:prstGeom prst="rect">
            <a:avLst/>
          </a:prstGeom>
          <a:ln w="0">
            <a:noFill/>
          </a:ln>
        </p:spPr>
      </p:sp>
      <p:sp>
        <p:nvSpPr>
          <p:cNvPr id="75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A057F-B4AE-4595-B550-8A500C5C67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9F28D-4914-46DD-B745-D9C0A414EE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1" name="PlaceHolder 1"/>
          <p:cNvSpPr>
            <a:spLocks noGrp="1"/>
          </p:cNvSpPr>
          <p:nvPr>
            <p:ph type="sldImg"/>
          </p:nvPr>
        </p:nvSpPr>
        <p:spPr>
          <a:xfrm>
            <a:off x="985680" y="741240"/>
            <a:ext cx="4886640" cy="3665520"/>
          </a:xfrm>
          <a:prstGeom prst="rect">
            <a:avLst/>
          </a:prstGeom>
          <a:ln w="0">
            <a:noFill/>
          </a:ln>
        </p:spPr>
      </p:sp>
      <p:sp>
        <p:nvSpPr>
          <p:cNvPr id="76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71A94-6864-4DE5-AF4A-52CFADB3580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04292-3249-4D4A-8E7D-6C403259351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5" name="PlaceHolder 1"/>
          <p:cNvSpPr>
            <a:spLocks noGrp="1"/>
          </p:cNvSpPr>
          <p:nvPr>
            <p:ph type="sldImg"/>
          </p:nvPr>
        </p:nvSpPr>
        <p:spPr>
          <a:xfrm>
            <a:off x="985680" y="741240"/>
            <a:ext cx="4886640" cy="3665520"/>
          </a:xfrm>
          <a:prstGeom prst="rect">
            <a:avLst/>
          </a:prstGeom>
          <a:ln w="0">
            <a:noFill/>
          </a:ln>
        </p:spPr>
      </p:sp>
      <p:sp>
        <p:nvSpPr>
          <p:cNvPr id="7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A56280-7F6D-4D55-B782-7D29D4D03B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168EB-7C5F-4A29-87CC-103E37E20F1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9" name="PlaceHolder 1"/>
          <p:cNvSpPr>
            <a:spLocks noGrp="1"/>
          </p:cNvSpPr>
          <p:nvPr>
            <p:ph type="sldImg"/>
          </p:nvPr>
        </p:nvSpPr>
        <p:spPr>
          <a:xfrm>
            <a:off x="985680" y="741240"/>
            <a:ext cx="4886640" cy="3665520"/>
          </a:xfrm>
          <a:prstGeom prst="rect">
            <a:avLst/>
          </a:prstGeom>
          <a:ln w="0">
            <a:noFill/>
          </a:ln>
        </p:spPr>
      </p:sp>
      <p:sp>
        <p:nvSpPr>
          <p:cNvPr id="76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6E7DC4-C83F-4500-9D2E-2EF3498008E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9807B7-CAC4-45A9-9E0A-AC19CA6D68B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5" name="PlaceHolder 1"/>
          <p:cNvSpPr>
            <a:spLocks noGrp="1"/>
          </p:cNvSpPr>
          <p:nvPr>
            <p:ph type="sldImg"/>
          </p:nvPr>
        </p:nvSpPr>
        <p:spPr>
          <a:xfrm>
            <a:off x="985680" y="741240"/>
            <a:ext cx="4886640" cy="3665520"/>
          </a:xfrm>
          <a:prstGeom prst="rect">
            <a:avLst/>
          </a:prstGeom>
          <a:ln w="0">
            <a:noFill/>
          </a:ln>
        </p:spPr>
      </p:sp>
      <p:sp>
        <p:nvSpPr>
          <p:cNvPr id="75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050BD6-0A3D-4171-8837-EB79C21D31D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06F3E-D812-452F-9CAA-E377CA79953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3" name="PlaceHolder 1"/>
          <p:cNvSpPr>
            <a:spLocks noGrp="1"/>
          </p:cNvSpPr>
          <p:nvPr>
            <p:ph type="sldImg"/>
          </p:nvPr>
        </p:nvSpPr>
        <p:spPr>
          <a:xfrm>
            <a:off x="985680" y="741240"/>
            <a:ext cx="4886640" cy="3665520"/>
          </a:xfrm>
          <a:prstGeom prst="rect">
            <a:avLst/>
          </a:prstGeom>
          <a:ln w="0">
            <a:noFill/>
          </a:ln>
        </p:spPr>
      </p:sp>
      <p:sp>
        <p:nvSpPr>
          <p:cNvPr id="76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A0B87E-6DCD-4FE6-8105-F63ADFB64FB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42AB03-EA84-487E-90FA-F5474C41733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7" name="PlaceHolder 1"/>
          <p:cNvSpPr>
            <a:spLocks noGrp="1"/>
          </p:cNvSpPr>
          <p:nvPr>
            <p:ph type="sldImg"/>
          </p:nvPr>
        </p:nvSpPr>
        <p:spPr>
          <a:xfrm>
            <a:off x="985680" y="741240"/>
            <a:ext cx="4886640" cy="3665520"/>
          </a:xfrm>
          <a:prstGeom prst="rect">
            <a:avLst/>
          </a:prstGeom>
          <a:ln w="0">
            <a:noFill/>
          </a:ln>
        </p:spPr>
      </p:sp>
      <p:sp>
        <p:nvSpPr>
          <p:cNvPr id="7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3F8D1-9EF6-4840-8E70-D5DEA8EBFEA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A1390-DF47-4821-A1CE-DD210629925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1" name="PlaceHolder 1"/>
          <p:cNvSpPr>
            <a:spLocks noGrp="1"/>
          </p:cNvSpPr>
          <p:nvPr>
            <p:ph type="sldImg"/>
          </p:nvPr>
        </p:nvSpPr>
        <p:spPr>
          <a:xfrm>
            <a:off x="985680" y="741240"/>
            <a:ext cx="4886640" cy="3665520"/>
          </a:xfrm>
          <a:prstGeom prst="rect">
            <a:avLst/>
          </a:prstGeom>
          <a:ln w="0">
            <a:noFill/>
          </a:ln>
        </p:spPr>
      </p:sp>
      <p:sp>
        <p:nvSpPr>
          <p:cNvPr id="7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F13A56-1852-4CEC-B51D-7ADF73C123D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F299A-6A35-4EBE-9CEF-4938DF14F5B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5" name="PlaceHolder 1"/>
          <p:cNvSpPr>
            <a:spLocks noGrp="1"/>
          </p:cNvSpPr>
          <p:nvPr>
            <p:ph type="sldImg"/>
          </p:nvPr>
        </p:nvSpPr>
        <p:spPr>
          <a:xfrm>
            <a:off x="985680" y="741240"/>
            <a:ext cx="4886640" cy="3665520"/>
          </a:xfrm>
          <a:prstGeom prst="rect">
            <a:avLst/>
          </a:prstGeom>
          <a:ln w="0">
            <a:noFill/>
          </a:ln>
        </p:spPr>
      </p:sp>
      <p:sp>
        <p:nvSpPr>
          <p:cNvPr id="7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D2045-3E03-4E3A-AB81-3E673FCDA4C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DB7D6-B85F-47FF-ADEA-9E1C609CB7A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9" name="PlaceHolder 1"/>
          <p:cNvSpPr>
            <a:spLocks noGrp="1"/>
          </p:cNvSpPr>
          <p:nvPr>
            <p:ph type="sldImg"/>
          </p:nvPr>
        </p:nvSpPr>
        <p:spPr>
          <a:xfrm>
            <a:off x="985680" y="741240"/>
            <a:ext cx="4886640" cy="3665520"/>
          </a:xfrm>
          <a:prstGeom prst="rect">
            <a:avLst/>
          </a:prstGeom>
          <a:ln w="0">
            <a:noFill/>
          </a:ln>
        </p:spPr>
      </p:sp>
      <p:sp>
        <p:nvSpPr>
          <p:cNvPr id="7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79499-7905-4611-A41B-4EB9A3DABB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8D7513-A0A4-40DA-8073-6CCD1396E56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3" name="PlaceHolder 1"/>
          <p:cNvSpPr>
            <a:spLocks noGrp="1"/>
          </p:cNvSpPr>
          <p:nvPr>
            <p:ph type="sldImg"/>
          </p:nvPr>
        </p:nvSpPr>
        <p:spPr>
          <a:xfrm>
            <a:off x="985680" y="741240"/>
            <a:ext cx="4886640" cy="3665520"/>
          </a:xfrm>
          <a:prstGeom prst="rect">
            <a:avLst/>
          </a:prstGeom>
          <a:ln w="0">
            <a:noFill/>
          </a:ln>
        </p:spPr>
      </p:sp>
      <p:sp>
        <p:nvSpPr>
          <p:cNvPr id="7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8F2310-A197-413E-98FC-962E457FB35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DEAD1B-B550-4433-91DD-C59463D175C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7" name="PlaceHolder 1"/>
          <p:cNvSpPr>
            <a:spLocks noGrp="1"/>
          </p:cNvSpPr>
          <p:nvPr>
            <p:ph type="sldImg"/>
          </p:nvPr>
        </p:nvSpPr>
        <p:spPr>
          <a:xfrm>
            <a:off x="985680" y="741240"/>
            <a:ext cx="4886640" cy="3665520"/>
          </a:xfrm>
          <a:prstGeom prst="rect">
            <a:avLst/>
          </a:prstGeom>
          <a:ln w="0">
            <a:noFill/>
          </a:ln>
        </p:spPr>
      </p:sp>
      <p:sp>
        <p:nvSpPr>
          <p:cNvPr id="7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C989FD-A325-40D2-B913-2DE03B0D039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C77C2-B061-42ED-A034-2B21920968F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1" name="PlaceHolder 1"/>
          <p:cNvSpPr>
            <a:spLocks noGrp="1"/>
          </p:cNvSpPr>
          <p:nvPr>
            <p:ph type="sldImg"/>
          </p:nvPr>
        </p:nvSpPr>
        <p:spPr>
          <a:xfrm>
            <a:off x="985680" y="741240"/>
            <a:ext cx="4886640" cy="3665520"/>
          </a:xfrm>
          <a:prstGeom prst="rect">
            <a:avLst/>
          </a:prstGeom>
          <a:ln w="0">
            <a:noFill/>
          </a:ln>
        </p:spPr>
      </p:sp>
      <p:sp>
        <p:nvSpPr>
          <p:cNvPr id="7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91739-34C9-488B-8066-6953612E6E2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9301A2-4272-4F25-81C0-CF119B98543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5" name="PlaceHolder 1"/>
          <p:cNvSpPr>
            <a:spLocks noGrp="1"/>
          </p:cNvSpPr>
          <p:nvPr>
            <p:ph type="sldImg"/>
          </p:nvPr>
        </p:nvSpPr>
        <p:spPr>
          <a:xfrm>
            <a:off x="985680" y="741240"/>
            <a:ext cx="4886640" cy="3665520"/>
          </a:xfrm>
          <a:prstGeom prst="rect">
            <a:avLst/>
          </a:prstGeom>
          <a:ln w="0">
            <a:noFill/>
          </a:ln>
        </p:spPr>
      </p:sp>
      <p:sp>
        <p:nvSpPr>
          <p:cNvPr id="7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D803FA-ED6F-4A69-84CA-FDA89C640F7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C8E78-651C-415F-A42B-350745D007C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9" name="PlaceHolder 1"/>
          <p:cNvSpPr>
            <a:spLocks noGrp="1"/>
          </p:cNvSpPr>
          <p:nvPr>
            <p:ph type="sldImg"/>
          </p:nvPr>
        </p:nvSpPr>
        <p:spPr>
          <a:xfrm>
            <a:off x="985680" y="741240"/>
            <a:ext cx="4886640" cy="3665520"/>
          </a:xfrm>
          <a:prstGeom prst="rect">
            <a:avLst/>
          </a:prstGeom>
          <a:ln w="0">
            <a:noFill/>
          </a:ln>
        </p:spPr>
      </p:sp>
      <p:sp>
        <p:nvSpPr>
          <p:cNvPr id="7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6CE79C-198E-49C9-A6D5-6D746F0DFA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EDA9F-605B-43BA-8F10-91E190259DA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9" name="PlaceHolder 1"/>
          <p:cNvSpPr>
            <a:spLocks noGrp="1"/>
          </p:cNvSpPr>
          <p:nvPr>
            <p:ph type="sldImg"/>
          </p:nvPr>
        </p:nvSpPr>
        <p:spPr>
          <a:xfrm>
            <a:off x="985680" y="741240"/>
            <a:ext cx="4886640" cy="3665520"/>
          </a:xfrm>
          <a:prstGeom prst="rect">
            <a:avLst/>
          </a:prstGeom>
          <a:ln w="0">
            <a:noFill/>
          </a:ln>
        </p:spPr>
      </p:sp>
      <p:sp>
        <p:nvSpPr>
          <p:cNvPr id="75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15145-36BE-48AB-BB19-820D0CBD346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DB604-9B2A-4E98-A8FF-AB32B2B2DA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3" name="PlaceHolder 1"/>
          <p:cNvSpPr>
            <a:spLocks noGrp="1"/>
          </p:cNvSpPr>
          <p:nvPr>
            <p:ph type="sldImg"/>
          </p:nvPr>
        </p:nvSpPr>
        <p:spPr>
          <a:xfrm>
            <a:off x="985680" y="741240"/>
            <a:ext cx="4886640" cy="3665520"/>
          </a:xfrm>
          <a:prstGeom prst="rect">
            <a:avLst/>
          </a:prstGeom>
          <a:ln w="0">
            <a:noFill/>
          </a:ln>
        </p:spPr>
      </p:sp>
      <p:sp>
        <p:nvSpPr>
          <p:cNvPr id="7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571CF5-4124-4827-B453-340139D8F95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2974A-C20B-47CC-9844-DB616EDA02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7" name="PlaceHolder 1"/>
          <p:cNvSpPr>
            <a:spLocks noGrp="1"/>
          </p:cNvSpPr>
          <p:nvPr>
            <p:ph type="sldImg"/>
          </p:nvPr>
        </p:nvSpPr>
        <p:spPr>
          <a:xfrm>
            <a:off x="985680" y="741240"/>
            <a:ext cx="4886640" cy="3665520"/>
          </a:xfrm>
          <a:prstGeom prst="rect">
            <a:avLst/>
          </a:prstGeom>
          <a:ln w="0">
            <a:noFill/>
          </a:ln>
        </p:spPr>
      </p:sp>
      <p:sp>
        <p:nvSpPr>
          <p:cNvPr id="7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9DE04-FC5C-4D99-B30A-559A8581790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89F21-27C0-4ED5-8721-F52458BB2B4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1" name="PlaceHolder 1"/>
          <p:cNvSpPr>
            <a:spLocks noGrp="1"/>
          </p:cNvSpPr>
          <p:nvPr>
            <p:ph type="sldImg"/>
          </p:nvPr>
        </p:nvSpPr>
        <p:spPr>
          <a:xfrm>
            <a:off x="985680" y="741240"/>
            <a:ext cx="4886640" cy="3665520"/>
          </a:xfrm>
          <a:prstGeom prst="rect">
            <a:avLst/>
          </a:prstGeom>
          <a:ln w="0">
            <a:noFill/>
          </a:ln>
        </p:spPr>
      </p:sp>
      <p:sp>
        <p:nvSpPr>
          <p:cNvPr id="7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35724-540E-4A3D-95D5-E7FE7D0AE98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8B55C7-AECE-4432-863A-76167DE14E6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5" name="PlaceHolder 1"/>
          <p:cNvSpPr>
            <a:spLocks noGrp="1"/>
          </p:cNvSpPr>
          <p:nvPr>
            <p:ph type="sldImg"/>
          </p:nvPr>
        </p:nvSpPr>
        <p:spPr>
          <a:xfrm>
            <a:off x="985680" y="741240"/>
            <a:ext cx="4886640" cy="3665520"/>
          </a:xfrm>
          <a:prstGeom prst="rect">
            <a:avLst/>
          </a:prstGeom>
          <a:ln w="0">
            <a:noFill/>
          </a:ln>
        </p:spPr>
      </p:sp>
      <p:sp>
        <p:nvSpPr>
          <p:cNvPr id="7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AAE7D4-AC4F-4A67-A0D5-98575275ADE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63200-F93C-40EA-A0C0-E9C4758C3B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9" name="PlaceHolder 1"/>
          <p:cNvSpPr>
            <a:spLocks noGrp="1"/>
          </p:cNvSpPr>
          <p:nvPr>
            <p:ph type="sldImg"/>
          </p:nvPr>
        </p:nvSpPr>
        <p:spPr>
          <a:xfrm>
            <a:off x="985680" y="741240"/>
            <a:ext cx="4886640" cy="3665520"/>
          </a:xfrm>
          <a:prstGeom prst="rect">
            <a:avLst/>
          </a:prstGeom>
          <a:ln w="0">
            <a:noFill/>
          </a:ln>
        </p:spPr>
      </p:sp>
      <p:sp>
        <p:nvSpPr>
          <p:cNvPr id="7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0D348-5599-4572-A1C7-96DD593F0E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3F200-F9B4-4A00-911B-46019914A2E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3" name="PlaceHolder 1"/>
          <p:cNvSpPr>
            <a:spLocks noGrp="1"/>
          </p:cNvSpPr>
          <p:nvPr>
            <p:ph type="sldImg"/>
          </p:nvPr>
        </p:nvSpPr>
        <p:spPr>
          <a:xfrm>
            <a:off x="985680" y="741240"/>
            <a:ext cx="4886640" cy="3665520"/>
          </a:xfrm>
          <a:prstGeom prst="rect">
            <a:avLst/>
          </a:prstGeom>
          <a:ln w="0">
            <a:noFill/>
          </a:ln>
        </p:spPr>
      </p:sp>
      <p:sp>
        <p:nvSpPr>
          <p:cNvPr id="7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69E6D3-70D5-4AEE-B6ED-995929268F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4D790-DEAA-40BE-84B6-E663D8C20AA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7" name="PlaceHolder 1"/>
          <p:cNvSpPr>
            <a:spLocks noGrp="1"/>
          </p:cNvSpPr>
          <p:nvPr>
            <p:ph type="sldImg"/>
          </p:nvPr>
        </p:nvSpPr>
        <p:spPr>
          <a:xfrm>
            <a:off x="985680" y="741240"/>
            <a:ext cx="4886640" cy="3665520"/>
          </a:xfrm>
          <a:prstGeom prst="rect">
            <a:avLst/>
          </a:prstGeom>
          <a:ln w="0">
            <a:noFill/>
          </a:ln>
        </p:spPr>
      </p:sp>
      <p:sp>
        <p:nvSpPr>
          <p:cNvPr id="7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6BA4C-6D6D-4E82-85CD-A5A5DEA63CB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4DE34-BE3F-429C-A3F9-4ADF05311F4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1" name="PlaceHolder 1"/>
          <p:cNvSpPr>
            <a:spLocks noGrp="1"/>
          </p:cNvSpPr>
          <p:nvPr>
            <p:ph type="sldImg"/>
          </p:nvPr>
        </p:nvSpPr>
        <p:spPr>
          <a:xfrm>
            <a:off x="985680" y="741240"/>
            <a:ext cx="4886640" cy="3665520"/>
          </a:xfrm>
          <a:prstGeom prst="rect">
            <a:avLst/>
          </a:prstGeom>
          <a:ln w="0">
            <a:noFill/>
          </a:ln>
        </p:spPr>
      </p:sp>
      <p:sp>
        <p:nvSpPr>
          <p:cNvPr id="7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00702-E3C6-4DBA-88B9-92885BD660E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29458-2844-457F-ACFA-03E7AFDD3D7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5" name="PlaceHolder 1"/>
          <p:cNvSpPr>
            <a:spLocks noGrp="1"/>
          </p:cNvSpPr>
          <p:nvPr>
            <p:ph type="sldImg"/>
          </p:nvPr>
        </p:nvSpPr>
        <p:spPr>
          <a:xfrm>
            <a:off x="985680" y="741240"/>
            <a:ext cx="4886640" cy="3665520"/>
          </a:xfrm>
          <a:prstGeom prst="rect">
            <a:avLst/>
          </a:prstGeom>
          <a:ln w="0">
            <a:noFill/>
          </a:ln>
        </p:spPr>
      </p:sp>
      <p:sp>
        <p:nvSpPr>
          <p:cNvPr id="7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1F501-9787-4B00-9415-ACE6724FFEC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BB384-C8C4-4C49-A21D-9A141C6089B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9" name="PlaceHolder 1"/>
          <p:cNvSpPr>
            <a:spLocks noGrp="1"/>
          </p:cNvSpPr>
          <p:nvPr>
            <p:ph type="sldImg"/>
          </p:nvPr>
        </p:nvSpPr>
        <p:spPr>
          <a:xfrm>
            <a:off x="985680" y="741240"/>
            <a:ext cx="4886640" cy="3665520"/>
          </a:xfrm>
          <a:prstGeom prst="rect">
            <a:avLst/>
          </a:prstGeom>
          <a:ln w="0">
            <a:noFill/>
          </a:ln>
        </p:spPr>
      </p:sp>
      <p:sp>
        <p:nvSpPr>
          <p:cNvPr id="76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7C48C-BF6B-4FBD-9304-11181B562D4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C7345-6AC6-4E30-AD54-849C06C05E8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3" name="PlaceHolder 1"/>
          <p:cNvSpPr>
            <a:spLocks noGrp="1"/>
          </p:cNvSpPr>
          <p:nvPr>
            <p:ph type="sldImg"/>
          </p:nvPr>
        </p:nvSpPr>
        <p:spPr>
          <a:xfrm>
            <a:off x="985680" y="741240"/>
            <a:ext cx="4886640" cy="3665520"/>
          </a:xfrm>
          <a:prstGeom prst="rect">
            <a:avLst/>
          </a:prstGeom>
          <a:ln w="0">
            <a:noFill/>
          </a:ln>
        </p:spPr>
      </p:sp>
      <p:sp>
        <p:nvSpPr>
          <p:cNvPr id="75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BE00DB-9746-4396-A9A3-54BBAA0A0F3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7D965-CD7A-47DC-9B6B-DBDFFDA280D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3" name="PlaceHolder 1"/>
          <p:cNvSpPr>
            <a:spLocks noGrp="1"/>
          </p:cNvSpPr>
          <p:nvPr>
            <p:ph type="sldImg"/>
          </p:nvPr>
        </p:nvSpPr>
        <p:spPr>
          <a:xfrm>
            <a:off x="985680" y="741240"/>
            <a:ext cx="4886640" cy="3665520"/>
          </a:xfrm>
          <a:prstGeom prst="rect">
            <a:avLst/>
          </a:prstGeom>
          <a:ln w="0">
            <a:noFill/>
          </a:ln>
        </p:spPr>
      </p:sp>
      <p:sp>
        <p:nvSpPr>
          <p:cNvPr id="7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91557-00E5-4CF9-AC05-BC64154018C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0B96E2-016B-4E2F-A08F-DA76C92673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7" name="PlaceHolder 1"/>
          <p:cNvSpPr>
            <a:spLocks noGrp="1"/>
          </p:cNvSpPr>
          <p:nvPr>
            <p:ph type="sldImg"/>
          </p:nvPr>
        </p:nvSpPr>
        <p:spPr>
          <a:xfrm>
            <a:off x="985680" y="741240"/>
            <a:ext cx="4886640" cy="3665520"/>
          </a:xfrm>
          <a:prstGeom prst="rect">
            <a:avLst/>
          </a:prstGeom>
          <a:ln w="0">
            <a:noFill/>
          </a:ln>
        </p:spPr>
      </p:sp>
      <p:sp>
        <p:nvSpPr>
          <p:cNvPr id="7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0202C8-ED8D-4333-A790-B1B599E0E95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5DD28-88F4-43AB-93E6-907506BF6B7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1" name="PlaceHolder 1"/>
          <p:cNvSpPr>
            <a:spLocks noGrp="1"/>
          </p:cNvSpPr>
          <p:nvPr>
            <p:ph type="sldImg"/>
          </p:nvPr>
        </p:nvSpPr>
        <p:spPr>
          <a:xfrm>
            <a:off x="985680" y="741240"/>
            <a:ext cx="4886640" cy="3665520"/>
          </a:xfrm>
          <a:prstGeom prst="rect">
            <a:avLst/>
          </a:prstGeom>
          <a:ln w="0">
            <a:noFill/>
          </a:ln>
        </p:spPr>
      </p:sp>
      <p:sp>
        <p:nvSpPr>
          <p:cNvPr id="77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E9BEB-FEE6-4A93-97E0-CEC951E68BE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50595-885A-4AF6-AE27-55D487AE15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5" name="PlaceHolder 1"/>
          <p:cNvSpPr>
            <a:spLocks noGrp="1"/>
          </p:cNvSpPr>
          <p:nvPr>
            <p:ph type="sldImg"/>
          </p:nvPr>
        </p:nvSpPr>
        <p:spPr>
          <a:xfrm>
            <a:off x="985680" y="741240"/>
            <a:ext cx="4886640" cy="3665520"/>
          </a:xfrm>
          <a:prstGeom prst="rect">
            <a:avLst/>
          </a:prstGeom>
          <a:ln w="0">
            <a:noFill/>
          </a:ln>
        </p:spPr>
      </p:sp>
      <p:sp>
        <p:nvSpPr>
          <p:cNvPr id="7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04281-7117-41FC-BB85-4F1D2AE592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2DBD13-35FB-49FF-B56D-9193E262FC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9" name="PlaceHolder 1"/>
          <p:cNvSpPr>
            <a:spLocks noGrp="1"/>
          </p:cNvSpPr>
          <p:nvPr>
            <p:ph type="sldImg"/>
          </p:nvPr>
        </p:nvSpPr>
        <p:spPr>
          <a:xfrm>
            <a:off x="985680" y="741240"/>
            <a:ext cx="4886640" cy="3665520"/>
          </a:xfrm>
          <a:prstGeom prst="rect">
            <a:avLst/>
          </a:prstGeom>
          <a:ln w="0">
            <a:noFill/>
          </a:ln>
        </p:spPr>
      </p:sp>
      <p:sp>
        <p:nvSpPr>
          <p:cNvPr id="7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34D0B-96B6-4449-83EF-31888CE6BE1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5AAD5-EAF7-41E6-8266-23350199382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3" name="PlaceHolder 1"/>
          <p:cNvSpPr>
            <a:spLocks noGrp="1"/>
          </p:cNvSpPr>
          <p:nvPr>
            <p:ph type="sldImg"/>
          </p:nvPr>
        </p:nvSpPr>
        <p:spPr>
          <a:xfrm>
            <a:off x="985680" y="741240"/>
            <a:ext cx="4886640" cy="3665520"/>
          </a:xfrm>
          <a:prstGeom prst="rect">
            <a:avLst/>
          </a:prstGeom>
          <a:ln w="0">
            <a:noFill/>
          </a:ln>
        </p:spPr>
      </p:sp>
      <p:sp>
        <p:nvSpPr>
          <p:cNvPr id="77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E6EE4-684D-4A01-A5AD-005E7DA0CDB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C5293-2929-451A-8470-638E943566C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7" name="PlaceHolder 1"/>
          <p:cNvSpPr>
            <a:spLocks noGrp="1"/>
          </p:cNvSpPr>
          <p:nvPr>
            <p:ph type="sldImg"/>
          </p:nvPr>
        </p:nvSpPr>
        <p:spPr>
          <a:xfrm>
            <a:off x="985680" y="741240"/>
            <a:ext cx="4886640" cy="3665520"/>
          </a:xfrm>
          <a:prstGeom prst="rect">
            <a:avLst/>
          </a:prstGeom>
          <a:ln w="0">
            <a:noFill/>
          </a:ln>
        </p:spPr>
      </p:sp>
      <p:sp>
        <p:nvSpPr>
          <p:cNvPr id="7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0FE8F-9673-4C2E-B580-EB8E0F79519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1C837-863E-4AC6-8400-A6FE90B53D0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1" name="PlaceHolder 1"/>
          <p:cNvSpPr>
            <a:spLocks noGrp="1"/>
          </p:cNvSpPr>
          <p:nvPr>
            <p:ph type="sldImg"/>
          </p:nvPr>
        </p:nvSpPr>
        <p:spPr>
          <a:xfrm>
            <a:off x="985680" y="741240"/>
            <a:ext cx="4886640" cy="3665520"/>
          </a:xfrm>
          <a:prstGeom prst="rect">
            <a:avLst/>
          </a:prstGeom>
          <a:ln w="0">
            <a:noFill/>
          </a:ln>
        </p:spPr>
      </p:sp>
      <p:sp>
        <p:nvSpPr>
          <p:cNvPr id="7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F44BC-F030-449C-B684-CA9BC919713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63CCC3-7BC3-4438-A4A3-0ADCE4BCF3C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5" name="PlaceHolder 1"/>
          <p:cNvSpPr>
            <a:spLocks noGrp="1"/>
          </p:cNvSpPr>
          <p:nvPr>
            <p:ph type="sldImg"/>
          </p:nvPr>
        </p:nvSpPr>
        <p:spPr>
          <a:xfrm>
            <a:off x="985680" y="741240"/>
            <a:ext cx="4886640" cy="3665520"/>
          </a:xfrm>
          <a:prstGeom prst="rect">
            <a:avLst/>
          </a:prstGeom>
          <a:ln w="0">
            <a:noFill/>
          </a:ln>
        </p:spPr>
      </p:sp>
      <p:sp>
        <p:nvSpPr>
          <p:cNvPr id="77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607D6-FFBB-481E-A6DB-614169B1C17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43E6C-0394-4776-AB3A-A491EE9F55B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9" name="PlaceHolder 1"/>
          <p:cNvSpPr>
            <a:spLocks noGrp="1"/>
          </p:cNvSpPr>
          <p:nvPr>
            <p:ph type="sldImg"/>
          </p:nvPr>
        </p:nvSpPr>
        <p:spPr>
          <a:xfrm>
            <a:off x="985680" y="741240"/>
            <a:ext cx="4886640" cy="3665520"/>
          </a:xfrm>
          <a:prstGeom prst="rect">
            <a:avLst/>
          </a:prstGeom>
          <a:ln w="0">
            <a:noFill/>
          </a:ln>
        </p:spPr>
      </p:sp>
      <p:sp>
        <p:nvSpPr>
          <p:cNvPr id="7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D2CCA7-AA48-4E94-AB13-4A693A7DB35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69E858-805F-44AA-8319-06E178E77D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7" name="PlaceHolder 1"/>
          <p:cNvSpPr>
            <a:spLocks noGrp="1"/>
          </p:cNvSpPr>
          <p:nvPr>
            <p:ph type="sldImg"/>
          </p:nvPr>
        </p:nvSpPr>
        <p:spPr>
          <a:xfrm>
            <a:off x="985680" y="741240"/>
            <a:ext cx="4886640" cy="3665520"/>
          </a:xfrm>
          <a:prstGeom prst="rect">
            <a:avLst/>
          </a:prstGeom>
          <a:ln w="0">
            <a:noFill/>
          </a:ln>
        </p:spPr>
      </p:sp>
      <p:sp>
        <p:nvSpPr>
          <p:cNvPr id="75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3BE51-5785-4E3B-B972-63F36811EBF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4577D3-C478-48FF-86B1-F4FCE9BBBA5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3" name="PlaceHolder 1"/>
          <p:cNvSpPr>
            <a:spLocks noGrp="1"/>
          </p:cNvSpPr>
          <p:nvPr>
            <p:ph type="sldImg"/>
          </p:nvPr>
        </p:nvSpPr>
        <p:spPr>
          <a:xfrm>
            <a:off x="985680" y="741240"/>
            <a:ext cx="4886640" cy="3665520"/>
          </a:xfrm>
          <a:prstGeom prst="rect">
            <a:avLst/>
          </a:prstGeom>
          <a:ln w="0">
            <a:noFill/>
          </a:ln>
        </p:spPr>
      </p:sp>
      <p:sp>
        <p:nvSpPr>
          <p:cNvPr id="7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59B33-85B3-431B-85BC-1FDE87E7A01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105B9-D918-43EC-B9AC-FAFC242258C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7" name="PlaceHolder 1"/>
          <p:cNvSpPr>
            <a:spLocks noGrp="1"/>
          </p:cNvSpPr>
          <p:nvPr>
            <p:ph type="sldImg"/>
          </p:nvPr>
        </p:nvSpPr>
        <p:spPr>
          <a:xfrm>
            <a:off x="985680" y="741240"/>
            <a:ext cx="4886640" cy="3665520"/>
          </a:xfrm>
          <a:prstGeom prst="rect">
            <a:avLst/>
          </a:prstGeom>
          <a:ln w="0">
            <a:noFill/>
          </a:ln>
        </p:spPr>
      </p:sp>
      <p:sp>
        <p:nvSpPr>
          <p:cNvPr id="77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8A6D97-6A1F-4A63-826C-386468AF309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489B6-8676-47A5-A6E5-896620E37CE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41" name="PlaceHolder 1"/>
          <p:cNvSpPr>
            <a:spLocks noGrp="1"/>
          </p:cNvSpPr>
          <p:nvPr>
            <p:ph type="sldImg"/>
          </p:nvPr>
        </p:nvSpPr>
        <p:spPr>
          <a:xfrm>
            <a:off x="985680" y="741240"/>
            <a:ext cx="4886640" cy="3665520"/>
          </a:xfrm>
          <a:prstGeom prst="rect">
            <a:avLst/>
          </a:prstGeom>
          <a:ln w="0">
            <a:noFill/>
          </a:ln>
        </p:spPr>
      </p:sp>
      <p:sp>
        <p:nvSpPr>
          <p:cNvPr id="7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75B4C0-6F12-4D5E-BB33-1099B17817C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99DBE-C88E-47A7-97EA-C41D3DD996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45" name="PlaceHolder 1"/>
          <p:cNvSpPr>
            <a:spLocks noGrp="1"/>
          </p:cNvSpPr>
          <p:nvPr>
            <p:ph type="sldImg"/>
          </p:nvPr>
        </p:nvSpPr>
        <p:spPr>
          <a:xfrm>
            <a:off x="985680" y="741240"/>
            <a:ext cx="4886640" cy="3665520"/>
          </a:xfrm>
          <a:prstGeom prst="rect">
            <a:avLst/>
          </a:prstGeom>
          <a:ln w="0">
            <a:noFill/>
          </a:ln>
        </p:spPr>
      </p:sp>
      <p:sp>
        <p:nvSpPr>
          <p:cNvPr id="7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3D90E-69A6-4747-820B-BB15D1171A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A61CC1-4583-4050-9AF9-261EC4AC1A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49" name="PlaceHolder 1"/>
          <p:cNvSpPr>
            <a:spLocks noGrp="1"/>
          </p:cNvSpPr>
          <p:nvPr>
            <p:ph type="sldImg"/>
          </p:nvPr>
        </p:nvSpPr>
        <p:spPr>
          <a:xfrm>
            <a:off x="985680" y="741240"/>
            <a:ext cx="4886640" cy="3665520"/>
          </a:xfrm>
          <a:prstGeom prst="rect">
            <a:avLst/>
          </a:prstGeom>
          <a:ln w="0">
            <a:noFill/>
          </a:ln>
        </p:spPr>
      </p:sp>
      <p:sp>
        <p:nvSpPr>
          <p:cNvPr id="7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3AF0E-A8DA-4656-8979-1C4DB96F5A3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FE7E24-F2DB-4CD4-AA67-8C653D7CA38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53" name="PlaceHolder 1"/>
          <p:cNvSpPr>
            <a:spLocks noGrp="1"/>
          </p:cNvSpPr>
          <p:nvPr>
            <p:ph type="sldImg"/>
          </p:nvPr>
        </p:nvSpPr>
        <p:spPr>
          <a:xfrm>
            <a:off x="985680" y="741240"/>
            <a:ext cx="4886640" cy="3665520"/>
          </a:xfrm>
          <a:prstGeom prst="rect">
            <a:avLst/>
          </a:prstGeom>
          <a:ln w="0">
            <a:noFill/>
          </a:ln>
        </p:spPr>
      </p:sp>
      <p:sp>
        <p:nvSpPr>
          <p:cNvPr id="7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29FD5-D61A-4972-97DC-9173A473CEF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8671B-A09F-404C-A241-964295E5CFB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57" name="PlaceHolder 1"/>
          <p:cNvSpPr>
            <a:spLocks noGrp="1"/>
          </p:cNvSpPr>
          <p:nvPr>
            <p:ph type="sldImg"/>
          </p:nvPr>
        </p:nvSpPr>
        <p:spPr>
          <a:xfrm>
            <a:off x="985680" y="741240"/>
            <a:ext cx="4886640" cy="3665520"/>
          </a:xfrm>
          <a:prstGeom prst="rect">
            <a:avLst/>
          </a:prstGeom>
          <a:ln w="0">
            <a:noFill/>
          </a:ln>
        </p:spPr>
      </p:sp>
      <p:sp>
        <p:nvSpPr>
          <p:cNvPr id="7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E9885-5000-42AF-8BF5-22DF054AB28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BC614-5C04-4B3E-B4CB-278DC431DBF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61" name="PlaceHolder 1"/>
          <p:cNvSpPr>
            <a:spLocks noGrp="1"/>
          </p:cNvSpPr>
          <p:nvPr>
            <p:ph type="sldImg"/>
          </p:nvPr>
        </p:nvSpPr>
        <p:spPr>
          <a:xfrm>
            <a:off x="985680" y="741240"/>
            <a:ext cx="4886640" cy="3665520"/>
          </a:xfrm>
          <a:prstGeom prst="rect">
            <a:avLst/>
          </a:prstGeom>
          <a:ln w="0">
            <a:noFill/>
          </a:ln>
        </p:spPr>
      </p:sp>
      <p:sp>
        <p:nvSpPr>
          <p:cNvPr id="7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710D93-6700-4E9A-B3F6-91EC8DB34CF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C1AE8-5219-45D4-B13B-A8EC8747042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65" name="PlaceHolder 1"/>
          <p:cNvSpPr>
            <a:spLocks noGrp="1"/>
          </p:cNvSpPr>
          <p:nvPr>
            <p:ph type="sldImg"/>
          </p:nvPr>
        </p:nvSpPr>
        <p:spPr>
          <a:xfrm>
            <a:off x="985680" y="741240"/>
            <a:ext cx="4886640" cy="3665520"/>
          </a:xfrm>
          <a:prstGeom prst="rect">
            <a:avLst/>
          </a:prstGeom>
          <a:ln w="0">
            <a:noFill/>
          </a:ln>
        </p:spPr>
      </p:sp>
      <p:sp>
        <p:nvSpPr>
          <p:cNvPr id="7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18B3F-0E83-46D6-B1B5-5021299587D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D5B2EF-3C28-4FA1-857E-0D62D9E372F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69" name="PlaceHolder 1"/>
          <p:cNvSpPr>
            <a:spLocks noGrp="1"/>
          </p:cNvSpPr>
          <p:nvPr>
            <p:ph type="sldImg"/>
          </p:nvPr>
        </p:nvSpPr>
        <p:spPr>
          <a:xfrm>
            <a:off x="985680" y="741240"/>
            <a:ext cx="4886640" cy="3665520"/>
          </a:xfrm>
          <a:prstGeom prst="rect">
            <a:avLst/>
          </a:prstGeom>
          <a:ln w="0">
            <a:noFill/>
          </a:ln>
        </p:spPr>
      </p:sp>
      <p:sp>
        <p:nvSpPr>
          <p:cNvPr id="7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6391F-50EB-433D-93AC-93B47612ECF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EF39D-5B71-4801-98FC-CD64A6AA7EC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1" name="PlaceHolder 1"/>
          <p:cNvSpPr>
            <a:spLocks noGrp="1"/>
          </p:cNvSpPr>
          <p:nvPr>
            <p:ph type="sldImg"/>
          </p:nvPr>
        </p:nvSpPr>
        <p:spPr>
          <a:xfrm>
            <a:off x="985680" y="741240"/>
            <a:ext cx="4886640" cy="3665520"/>
          </a:xfrm>
          <a:prstGeom prst="rect">
            <a:avLst/>
          </a:prstGeom>
          <a:ln w="0">
            <a:noFill/>
          </a:ln>
        </p:spPr>
      </p:sp>
      <p:sp>
        <p:nvSpPr>
          <p:cNvPr id="75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BD29E-76E3-4FA0-A20F-98925EDCC9D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951A9-BFFA-4C30-86FE-5B45AA78328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73" name="PlaceHolder 1"/>
          <p:cNvSpPr>
            <a:spLocks noGrp="1"/>
          </p:cNvSpPr>
          <p:nvPr>
            <p:ph type="sldImg"/>
          </p:nvPr>
        </p:nvSpPr>
        <p:spPr>
          <a:xfrm>
            <a:off x="985680" y="741240"/>
            <a:ext cx="4886640" cy="3665520"/>
          </a:xfrm>
          <a:prstGeom prst="rect">
            <a:avLst/>
          </a:prstGeom>
          <a:ln w="0">
            <a:noFill/>
          </a:ln>
        </p:spPr>
      </p:sp>
      <p:sp>
        <p:nvSpPr>
          <p:cNvPr id="7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B4A56-D3B2-4AF7-93F5-9AE4428626B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5200E-C0B8-4FAF-961A-22CB34D39BF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77" name="PlaceHolder 1"/>
          <p:cNvSpPr>
            <a:spLocks noGrp="1"/>
          </p:cNvSpPr>
          <p:nvPr>
            <p:ph type="sldImg"/>
          </p:nvPr>
        </p:nvSpPr>
        <p:spPr>
          <a:xfrm>
            <a:off x="985680" y="741240"/>
            <a:ext cx="4886640" cy="3665520"/>
          </a:xfrm>
          <a:prstGeom prst="rect">
            <a:avLst/>
          </a:prstGeom>
          <a:ln w="0">
            <a:noFill/>
          </a:ln>
        </p:spPr>
      </p:sp>
      <p:sp>
        <p:nvSpPr>
          <p:cNvPr id="7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43313-25A6-4B85-B7DD-91970EE53B0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40602E-DC68-448A-88B2-CBCC4ED4291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81" name="PlaceHolder 1"/>
          <p:cNvSpPr>
            <a:spLocks noGrp="1"/>
          </p:cNvSpPr>
          <p:nvPr>
            <p:ph type="sldImg"/>
          </p:nvPr>
        </p:nvSpPr>
        <p:spPr>
          <a:xfrm>
            <a:off x="985680" y="741240"/>
            <a:ext cx="4886640" cy="3665520"/>
          </a:xfrm>
          <a:prstGeom prst="rect">
            <a:avLst/>
          </a:prstGeom>
          <a:ln w="0">
            <a:noFill/>
          </a:ln>
        </p:spPr>
      </p:sp>
      <p:sp>
        <p:nvSpPr>
          <p:cNvPr id="7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9951A-BC1D-440A-B2B3-484D2B3377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7B4FB3-E00F-4E7B-8ADD-50F3ED21783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85" name="PlaceHolder 1"/>
          <p:cNvSpPr>
            <a:spLocks noGrp="1"/>
          </p:cNvSpPr>
          <p:nvPr>
            <p:ph type="sldImg"/>
          </p:nvPr>
        </p:nvSpPr>
        <p:spPr>
          <a:xfrm>
            <a:off x="985680" y="741240"/>
            <a:ext cx="4886640" cy="3665520"/>
          </a:xfrm>
          <a:prstGeom prst="rect">
            <a:avLst/>
          </a:prstGeom>
          <a:ln w="0">
            <a:noFill/>
          </a:ln>
        </p:spPr>
      </p:sp>
      <p:sp>
        <p:nvSpPr>
          <p:cNvPr id="77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213C7-56DF-427D-BF1A-C9E7A66F3D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8E7BB-CCF6-42FD-A854-F9299B53CB8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89" name="PlaceHolder 1"/>
          <p:cNvSpPr>
            <a:spLocks noGrp="1"/>
          </p:cNvSpPr>
          <p:nvPr>
            <p:ph type="sldImg"/>
          </p:nvPr>
        </p:nvSpPr>
        <p:spPr>
          <a:xfrm>
            <a:off x="985680" y="741240"/>
            <a:ext cx="4886640" cy="3665520"/>
          </a:xfrm>
          <a:prstGeom prst="rect">
            <a:avLst/>
          </a:prstGeom>
          <a:ln w="0">
            <a:noFill/>
          </a:ln>
        </p:spPr>
      </p:sp>
      <p:sp>
        <p:nvSpPr>
          <p:cNvPr id="7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D8B51F-11DF-4B81-B1C7-E9091F6CE5C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5BCDE-603B-4E41-9FFD-D8240AA7BFA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93" name="PlaceHolder 1"/>
          <p:cNvSpPr>
            <a:spLocks noGrp="1"/>
          </p:cNvSpPr>
          <p:nvPr>
            <p:ph type="sldImg"/>
          </p:nvPr>
        </p:nvSpPr>
        <p:spPr>
          <a:xfrm>
            <a:off x="985680" y="741240"/>
            <a:ext cx="4886640" cy="3665520"/>
          </a:xfrm>
          <a:prstGeom prst="rect">
            <a:avLst/>
          </a:prstGeom>
          <a:ln w="0">
            <a:noFill/>
          </a:ln>
        </p:spPr>
      </p:sp>
      <p:sp>
        <p:nvSpPr>
          <p:cNvPr id="7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28A43-52C6-49D6-A115-2B80C6D2DAA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CD0BBD-49A0-47B6-9FFA-AF027CAE0E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97" name="PlaceHolder 1"/>
          <p:cNvSpPr>
            <a:spLocks noGrp="1"/>
          </p:cNvSpPr>
          <p:nvPr>
            <p:ph type="sldImg"/>
          </p:nvPr>
        </p:nvSpPr>
        <p:spPr>
          <a:xfrm>
            <a:off x="985680" y="741240"/>
            <a:ext cx="4886640" cy="3665520"/>
          </a:xfrm>
          <a:prstGeom prst="rect">
            <a:avLst/>
          </a:prstGeom>
          <a:ln w="0">
            <a:noFill/>
          </a:ln>
        </p:spPr>
      </p:sp>
      <p:sp>
        <p:nvSpPr>
          <p:cNvPr id="77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B9852-49F2-4004-AAEB-1F8794B0AC5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C9A7C-A3C1-4269-8EF2-C0D1970BC46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01" name="PlaceHolder 1"/>
          <p:cNvSpPr>
            <a:spLocks noGrp="1"/>
          </p:cNvSpPr>
          <p:nvPr>
            <p:ph type="sldImg"/>
          </p:nvPr>
        </p:nvSpPr>
        <p:spPr>
          <a:xfrm>
            <a:off x="985680" y="741240"/>
            <a:ext cx="4886640" cy="3665520"/>
          </a:xfrm>
          <a:prstGeom prst="rect">
            <a:avLst/>
          </a:prstGeom>
          <a:ln w="0">
            <a:noFill/>
          </a:ln>
        </p:spPr>
      </p:sp>
      <p:sp>
        <p:nvSpPr>
          <p:cNvPr id="7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56417-23B0-4E57-B691-9F0E90A5D88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A21A0-821A-42E7-9F5F-DDFAF7D16FE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05" name="PlaceHolder 1"/>
          <p:cNvSpPr>
            <a:spLocks noGrp="1"/>
          </p:cNvSpPr>
          <p:nvPr>
            <p:ph type="sldImg"/>
          </p:nvPr>
        </p:nvSpPr>
        <p:spPr>
          <a:xfrm>
            <a:off x="985680" y="741240"/>
            <a:ext cx="4886640" cy="3665520"/>
          </a:xfrm>
          <a:prstGeom prst="rect">
            <a:avLst/>
          </a:prstGeom>
          <a:ln w="0">
            <a:noFill/>
          </a:ln>
        </p:spPr>
      </p:sp>
      <p:sp>
        <p:nvSpPr>
          <p:cNvPr id="7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52180-5D0A-4A5F-8B04-1900B70AE0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CF84A-1E11-4C98-A0B8-797E405A8D2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09" name="PlaceHolder 1"/>
          <p:cNvSpPr>
            <a:spLocks noGrp="1"/>
          </p:cNvSpPr>
          <p:nvPr>
            <p:ph type="sldImg"/>
          </p:nvPr>
        </p:nvSpPr>
        <p:spPr>
          <a:xfrm>
            <a:off x="985680" y="741240"/>
            <a:ext cx="4886640" cy="3665520"/>
          </a:xfrm>
          <a:prstGeom prst="rect">
            <a:avLst/>
          </a:prstGeom>
          <a:ln w="0">
            <a:noFill/>
          </a:ln>
        </p:spPr>
      </p:sp>
      <p:sp>
        <p:nvSpPr>
          <p:cNvPr id="7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8EFB8-2BA5-4EBE-B6CE-83963DBA642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146ED-A62F-4F13-9982-AAE7BE544B6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5" name="PlaceHolder 1"/>
          <p:cNvSpPr>
            <a:spLocks noGrp="1"/>
          </p:cNvSpPr>
          <p:nvPr>
            <p:ph type="sldImg"/>
          </p:nvPr>
        </p:nvSpPr>
        <p:spPr>
          <a:xfrm>
            <a:off x="985680" y="741240"/>
            <a:ext cx="4886640" cy="3665520"/>
          </a:xfrm>
          <a:prstGeom prst="rect">
            <a:avLst/>
          </a:prstGeom>
          <a:ln w="0">
            <a:noFill/>
          </a:ln>
        </p:spPr>
      </p:sp>
      <p:sp>
        <p:nvSpPr>
          <p:cNvPr id="75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22FC73-0776-4749-8F8E-B4121C84FE5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66629-96CA-449F-B050-756934D2DE8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13" name="PlaceHolder 1"/>
          <p:cNvSpPr>
            <a:spLocks noGrp="1"/>
          </p:cNvSpPr>
          <p:nvPr>
            <p:ph type="sldImg"/>
          </p:nvPr>
        </p:nvSpPr>
        <p:spPr>
          <a:xfrm>
            <a:off x="985680" y="741240"/>
            <a:ext cx="4886640" cy="3665520"/>
          </a:xfrm>
          <a:prstGeom prst="rect">
            <a:avLst/>
          </a:prstGeom>
          <a:ln w="0">
            <a:noFill/>
          </a:ln>
        </p:spPr>
      </p:sp>
      <p:sp>
        <p:nvSpPr>
          <p:cNvPr id="7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BDD0A-C6C3-464E-9DC7-09FDD050B6D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81B6E-9B97-4550-A936-DAA51E504EF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17" name="PlaceHolder 1"/>
          <p:cNvSpPr>
            <a:spLocks noGrp="1"/>
          </p:cNvSpPr>
          <p:nvPr>
            <p:ph type="sldImg"/>
          </p:nvPr>
        </p:nvSpPr>
        <p:spPr>
          <a:xfrm>
            <a:off x="985680" y="741240"/>
            <a:ext cx="4886640" cy="3665520"/>
          </a:xfrm>
          <a:prstGeom prst="rect">
            <a:avLst/>
          </a:prstGeom>
          <a:ln w="0">
            <a:noFill/>
          </a:ln>
        </p:spPr>
      </p:sp>
      <p:sp>
        <p:nvSpPr>
          <p:cNvPr id="7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7D2999-823B-4BB0-8E47-984BE34C2A5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7C82F8-EDBB-477E-91B0-CF0F88FB93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21" name="PlaceHolder 1"/>
          <p:cNvSpPr>
            <a:spLocks noGrp="1"/>
          </p:cNvSpPr>
          <p:nvPr>
            <p:ph type="sldImg"/>
          </p:nvPr>
        </p:nvSpPr>
        <p:spPr>
          <a:xfrm>
            <a:off x="985680" y="741240"/>
            <a:ext cx="4886640" cy="3665520"/>
          </a:xfrm>
          <a:prstGeom prst="rect">
            <a:avLst/>
          </a:prstGeom>
          <a:ln w="0">
            <a:noFill/>
          </a:ln>
        </p:spPr>
      </p:sp>
      <p:sp>
        <p:nvSpPr>
          <p:cNvPr id="7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8778D-FF9B-4A07-B9BC-391F5498059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7BD7E-59C7-4555-A188-FA80BE3D769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25" name="PlaceHolder 1"/>
          <p:cNvSpPr>
            <a:spLocks noGrp="1"/>
          </p:cNvSpPr>
          <p:nvPr>
            <p:ph type="sldImg"/>
          </p:nvPr>
        </p:nvSpPr>
        <p:spPr>
          <a:xfrm>
            <a:off x="985680" y="741240"/>
            <a:ext cx="4886640" cy="3665520"/>
          </a:xfrm>
          <a:prstGeom prst="rect">
            <a:avLst/>
          </a:prstGeom>
          <a:ln w="0">
            <a:noFill/>
          </a:ln>
        </p:spPr>
      </p:sp>
      <p:sp>
        <p:nvSpPr>
          <p:cNvPr id="7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D16EF-268A-4483-9FC0-8E208999B3A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F4B2F-48D1-41AC-8C49-4E511496E4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29" name="PlaceHolder 1"/>
          <p:cNvSpPr>
            <a:spLocks noGrp="1"/>
          </p:cNvSpPr>
          <p:nvPr>
            <p:ph type="sldImg"/>
          </p:nvPr>
        </p:nvSpPr>
        <p:spPr>
          <a:xfrm>
            <a:off x="985680" y="741240"/>
            <a:ext cx="4886640" cy="3665520"/>
          </a:xfrm>
          <a:prstGeom prst="rect">
            <a:avLst/>
          </a:prstGeom>
          <a:ln w="0">
            <a:noFill/>
          </a:ln>
        </p:spPr>
      </p:sp>
      <p:sp>
        <p:nvSpPr>
          <p:cNvPr id="7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62C9A-6B98-4651-8089-58ABF1C3769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AF050-CF70-4763-BADA-E3A0EBA7650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33" name="PlaceHolder 1"/>
          <p:cNvSpPr>
            <a:spLocks noGrp="1"/>
          </p:cNvSpPr>
          <p:nvPr>
            <p:ph type="sldImg"/>
          </p:nvPr>
        </p:nvSpPr>
        <p:spPr>
          <a:xfrm>
            <a:off x="985680" y="741240"/>
            <a:ext cx="4886640" cy="3665520"/>
          </a:xfrm>
          <a:prstGeom prst="rect">
            <a:avLst/>
          </a:prstGeom>
          <a:ln w="0">
            <a:noFill/>
          </a:ln>
        </p:spPr>
      </p:sp>
      <p:sp>
        <p:nvSpPr>
          <p:cNvPr id="7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4B6A25-95CA-4E5F-9052-5DA0DE7E905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B541EF-FF7F-4FEF-A973-366B486BCDA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37" name="PlaceHolder 1"/>
          <p:cNvSpPr>
            <a:spLocks noGrp="1"/>
          </p:cNvSpPr>
          <p:nvPr>
            <p:ph type="sldImg"/>
          </p:nvPr>
        </p:nvSpPr>
        <p:spPr>
          <a:xfrm>
            <a:off x="985680" y="741240"/>
            <a:ext cx="4886640" cy="3665520"/>
          </a:xfrm>
          <a:prstGeom prst="rect">
            <a:avLst/>
          </a:prstGeom>
          <a:ln w="0">
            <a:noFill/>
          </a:ln>
        </p:spPr>
      </p:sp>
      <p:sp>
        <p:nvSpPr>
          <p:cNvPr id="7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7FC9B-8311-41CA-8AAE-2FF2CC7F5BF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B969C-D37B-457F-9289-5DA00ED9A09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41" name="PlaceHolder 1"/>
          <p:cNvSpPr>
            <a:spLocks noGrp="1"/>
          </p:cNvSpPr>
          <p:nvPr>
            <p:ph type="sldImg"/>
          </p:nvPr>
        </p:nvSpPr>
        <p:spPr>
          <a:xfrm>
            <a:off x="985680" y="741240"/>
            <a:ext cx="4886640" cy="3665520"/>
          </a:xfrm>
          <a:prstGeom prst="rect">
            <a:avLst/>
          </a:prstGeom>
          <a:ln w="0">
            <a:noFill/>
          </a:ln>
        </p:spPr>
      </p:sp>
      <p:sp>
        <p:nvSpPr>
          <p:cNvPr id="7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42265-BDC6-456F-BCE9-8CA402F2DFA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989E32-0123-4FE2-85BC-EA6C45EA40F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45" name="PlaceHolder 1"/>
          <p:cNvSpPr>
            <a:spLocks noGrp="1"/>
          </p:cNvSpPr>
          <p:nvPr>
            <p:ph type="sldImg"/>
          </p:nvPr>
        </p:nvSpPr>
        <p:spPr>
          <a:xfrm>
            <a:off x="985680" y="741240"/>
            <a:ext cx="4886640" cy="3665520"/>
          </a:xfrm>
          <a:prstGeom prst="rect">
            <a:avLst/>
          </a:prstGeom>
          <a:ln w="0">
            <a:noFill/>
          </a:ln>
        </p:spPr>
      </p:sp>
      <p:sp>
        <p:nvSpPr>
          <p:cNvPr id="7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F2927-7BC3-4B61-989E-D060F6DA255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27C0B-C62F-46B1-9FB6-2D7391E902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49" name="PlaceHolder 1"/>
          <p:cNvSpPr>
            <a:spLocks noGrp="1"/>
          </p:cNvSpPr>
          <p:nvPr>
            <p:ph type="sldImg"/>
          </p:nvPr>
        </p:nvSpPr>
        <p:spPr>
          <a:xfrm>
            <a:off x="985680" y="741240"/>
            <a:ext cx="4886640" cy="3665520"/>
          </a:xfrm>
          <a:prstGeom prst="rect">
            <a:avLst/>
          </a:prstGeom>
          <a:ln w="0">
            <a:noFill/>
          </a:ln>
        </p:spPr>
      </p:sp>
      <p:sp>
        <p:nvSpPr>
          <p:cNvPr id="7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2AD1C8-6F34-49A9-BD6F-525FB05FF7B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FA469F-E9B4-4BB6-8B56-0E4A7E4FC7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9" name="PlaceHolder 1"/>
          <p:cNvSpPr>
            <a:spLocks noGrp="1"/>
          </p:cNvSpPr>
          <p:nvPr>
            <p:ph type="sldImg"/>
          </p:nvPr>
        </p:nvSpPr>
        <p:spPr>
          <a:xfrm>
            <a:off x="985680" y="741240"/>
            <a:ext cx="4886640" cy="3665520"/>
          </a:xfrm>
          <a:prstGeom prst="rect">
            <a:avLst/>
          </a:prstGeom>
          <a:ln w="0">
            <a:noFill/>
          </a:ln>
        </p:spPr>
      </p:sp>
      <p:sp>
        <p:nvSpPr>
          <p:cNvPr id="75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429F7-2440-4F07-8931-E14C6FCD35E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EE3617-349E-4172-91EB-266D471B12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53" name="PlaceHolder 1"/>
          <p:cNvSpPr>
            <a:spLocks noGrp="1"/>
          </p:cNvSpPr>
          <p:nvPr>
            <p:ph type="sldImg"/>
          </p:nvPr>
        </p:nvSpPr>
        <p:spPr>
          <a:xfrm>
            <a:off x="985680" y="741240"/>
            <a:ext cx="4886640" cy="3665520"/>
          </a:xfrm>
          <a:prstGeom prst="rect">
            <a:avLst/>
          </a:prstGeom>
          <a:ln w="0">
            <a:noFill/>
          </a:ln>
        </p:spPr>
      </p:sp>
      <p:sp>
        <p:nvSpPr>
          <p:cNvPr id="7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AC628-D2C6-4804-893D-CDDA548B0C7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2EE2D-BF70-4526-BB25-1B6E710D59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57" name="PlaceHolder 1"/>
          <p:cNvSpPr>
            <a:spLocks noGrp="1"/>
          </p:cNvSpPr>
          <p:nvPr>
            <p:ph type="sldImg"/>
          </p:nvPr>
        </p:nvSpPr>
        <p:spPr>
          <a:xfrm>
            <a:off x="985680" y="741240"/>
            <a:ext cx="4886640" cy="3665520"/>
          </a:xfrm>
          <a:prstGeom prst="rect">
            <a:avLst/>
          </a:prstGeom>
          <a:ln w="0">
            <a:noFill/>
          </a:ln>
        </p:spPr>
      </p:sp>
      <p:sp>
        <p:nvSpPr>
          <p:cNvPr id="7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B3B27-8B5C-4BB5-A725-E22C711FFC3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5E9F5-ADBA-4266-B342-E4B546CD046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61" name="PlaceHolder 1"/>
          <p:cNvSpPr>
            <a:spLocks noGrp="1"/>
          </p:cNvSpPr>
          <p:nvPr>
            <p:ph type="sldImg"/>
          </p:nvPr>
        </p:nvSpPr>
        <p:spPr>
          <a:xfrm>
            <a:off x="985680" y="741240"/>
            <a:ext cx="4886640" cy="3665520"/>
          </a:xfrm>
          <a:prstGeom prst="rect">
            <a:avLst/>
          </a:prstGeom>
          <a:ln w="0">
            <a:noFill/>
          </a:ln>
        </p:spPr>
      </p:sp>
      <p:sp>
        <p:nvSpPr>
          <p:cNvPr id="7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4EE56-5C3B-40CA-AA76-19EE9156C6B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63B1EB-1990-4B25-BDBA-D32E0A8D8E1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65" name="PlaceHolder 1"/>
          <p:cNvSpPr>
            <a:spLocks noGrp="1"/>
          </p:cNvSpPr>
          <p:nvPr>
            <p:ph type="sldImg"/>
          </p:nvPr>
        </p:nvSpPr>
        <p:spPr>
          <a:xfrm>
            <a:off x="985680" y="741240"/>
            <a:ext cx="4886640" cy="3665520"/>
          </a:xfrm>
          <a:prstGeom prst="rect">
            <a:avLst/>
          </a:prstGeom>
          <a:ln w="0">
            <a:noFill/>
          </a:ln>
        </p:spPr>
      </p:sp>
      <p:sp>
        <p:nvSpPr>
          <p:cNvPr id="7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A5D2E-DE86-4C03-9871-B0A88BE6225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00D74-3A7E-4396-B9B9-3DB57B3586F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69" name="PlaceHolder 1"/>
          <p:cNvSpPr>
            <a:spLocks noGrp="1"/>
          </p:cNvSpPr>
          <p:nvPr>
            <p:ph type="sldImg"/>
          </p:nvPr>
        </p:nvSpPr>
        <p:spPr>
          <a:xfrm>
            <a:off x="985680" y="741240"/>
            <a:ext cx="4886640" cy="3665520"/>
          </a:xfrm>
          <a:prstGeom prst="rect">
            <a:avLst/>
          </a:prstGeom>
          <a:ln w="0">
            <a:noFill/>
          </a:ln>
        </p:spPr>
      </p:sp>
      <p:sp>
        <p:nvSpPr>
          <p:cNvPr id="7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D43D5-C709-4F07-B3A8-0625D82AED8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D73CDA-5BBD-4674-949B-9049D409B71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73" name="PlaceHolder 1"/>
          <p:cNvSpPr>
            <a:spLocks noGrp="1"/>
          </p:cNvSpPr>
          <p:nvPr>
            <p:ph type="sldImg"/>
          </p:nvPr>
        </p:nvSpPr>
        <p:spPr>
          <a:xfrm>
            <a:off x="985680" y="741240"/>
            <a:ext cx="4886640" cy="3665520"/>
          </a:xfrm>
          <a:prstGeom prst="rect">
            <a:avLst/>
          </a:prstGeom>
          <a:ln w="0">
            <a:noFill/>
          </a:ln>
        </p:spPr>
      </p:sp>
      <p:sp>
        <p:nvSpPr>
          <p:cNvPr id="7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5F048-DD13-4923-97EA-A3663727F23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513A7-6263-4762-95DC-C5D1E5FB916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77" name="PlaceHolder 1"/>
          <p:cNvSpPr>
            <a:spLocks noGrp="1"/>
          </p:cNvSpPr>
          <p:nvPr>
            <p:ph type="sldImg"/>
          </p:nvPr>
        </p:nvSpPr>
        <p:spPr>
          <a:xfrm>
            <a:off x="985680" y="741240"/>
            <a:ext cx="4886640" cy="3665520"/>
          </a:xfrm>
          <a:prstGeom prst="rect">
            <a:avLst/>
          </a:prstGeom>
          <a:ln w="0">
            <a:noFill/>
          </a:ln>
        </p:spPr>
      </p:sp>
      <p:sp>
        <p:nvSpPr>
          <p:cNvPr id="7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58191F-9E2A-4610-B5F1-243FC5FA21B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D0A92-D971-45C2-8028-0AE77AEC273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81" name="PlaceHolder 1"/>
          <p:cNvSpPr>
            <a:spLocks noGrp="1"/>
          </p:cNvSpPr>
          <p:nvPr>
            <p:ph type="sldImg"/>
          </p:nvPr>
        </p:nvSpPr>
        <p:spPr>
          <a:xfrm>
            <a:off x="985680" y="741240"/>
            <a:ext cx="4886640" cy="3665520"/>
          </a:xfrm>
          <a:prstGeom prst="rect">
            <a:avLst/>
          </a:prstGeom>
          <a:ln w="0">
            <a:noFill/>
          </a:ln>
        </p:spPr>
      </p:sp>
      <p:sp>
        <p:nvSpPr>
          <p:cNvPr id="7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D766E-1BBB-4912-96B7-11D1F973716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239DD-EA76-470B-AEF6-8868DD8F801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85" name="PlaceHolder 1"/>
          <p:cNvSpPr>
            <a:spLocks noGrp="1"/>
          </p:cNvSpPr>
          <p:nvPr>
            <p:ph type="sldImg"/>
          </p:nvPr>
        </p:nvSpPr>
        <p:spPr>
          <a:xfrm>
            <a:off x="985680" y="741240"/>
            <a:ext cx="4886640" cy="3665520"/>
          </a:xfrm>
          <a:prstGeom prst="rect">
            <a:avLst/>
          </a:prstGeom>
          <a:ln w="0">
            <a:noFill/>
          </a:ln>
        </p:spPr>
      </p:sp>
      <p:sp>
        <p:nvSpPr>
          <p:cNvPr id="7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6FFC1-0C04-405D-BB02-A0E143C3D67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3E9FF-5082-4456-BB29-723D24EE4F5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89" name="PlaceHolder 1"/>
          <p:cNvSpPr>
            <a:spLocks noGrp="1"/>
          </p:cNvSpPr>
          <p:nvPr>
            <p:ph type="sldImg"/>
          </p:nvPr>
        </p:nvSpPr>
        <p:spPr>
          <a:xfrm>
            <a:off x="985680" y="741240"/>
            <a:ext cx="4886640" cy="3665520"/>
          </a:xfrm>
          <a:prstGeom prst="rect">
            <a:avLst/>
          </a:prstGeom>
          <a:ln w="0">
            <a:noFill/>
          </a:ln>
        </p:spPr>
      </p:sp>
      <p:sp>
        <p:nvSpPr>
          <p:cNvPr id="7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5E3A3-F08A-428F-B1F8-F74F208D18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D348706-C212-4180-8AED-FCDA9B3931B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37BC4A3-E924-44A4-B775-8EA4671C2C26}"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A5D451A4-AD61-4EAF-9F5B-FDA4E7AC4B6F}"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8CAA8D6E-F0CC-4AE3-836D-0329795DF3C0}"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46EE1CD6-E090-460A-BA98-3E1924EAC6BB}"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E2B5397B-3EB3-471F-9EA7-AC8DDB638787}"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95F25476-2EEA-4141-9062-83395EA111C8}"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04C3446E-8139-4902-B66F-517467DB6CB8}"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FA444FF2-1495-414F-ACCC-3FFFFD11EB9C}"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5562EAE1-FFCC-43B7-8044-F15502FDBDD1}"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BFEBC6ED-3284-47DF-A0A3-16B59FF2C104}"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E2A995AA-3527-4EB7-B0B8-20D2F0BD4EC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118CA59-9AAD-47F3-B93B-194790986756}"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9B63C2D6-2ED0-428A-A5E4-C5052CE7ED27}"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08173501-7FF6-4BA1-ABAC-FB104F940E4A}"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45642B93-A498-46F1-9A81-1440305F70C9}"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E82E40CD-2360-453E-86CD-281AE213264B}"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7F91A8D9-1E9A-4D4A-8BEE-B2231BF5068B}"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94813FBA-0F18-4D18-8216-72665E48D32D}"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4664AFF3-0E78-4C70-9BA0-BAB23A65C2CC}"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48F148FC-DE94-4BE2-B84E-32E9ABCD4AF8}"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30CEDAE1-E3F4-45B7-A142-D763183E7D18}"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CD3D6633-6ACF-423A-85FB-A9951E41A41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66E467D3-BD84-4ECA-B955-FDFEE55518BD}"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269514F9-FC94-4AB0-8246-E4C1C7DB26EB}"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8E1AA232-2EE7-4B6D-BBC8-D37512D0C980}"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A9D1997D-4FDA-42C5-B0E7-3D9BB4D64CFD}"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BA4CDC59-AA01-48CC-A628-640204C896E9}"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99769401-7E69-4478-B2A4-2D073EE1777C}"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F7DA67C6-FA1E-4FC5-BE13-7C24025E37D3}"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913C2463-B6A1-43B5-BFE3-E1FD4B744508}"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2B65CC67-2AF2-4221-8988-02654072A93A}"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918547AF-2E90-4CC8-98AF-DD7BA6BE6F1B}"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6BC3ECD0-1254-42C8-9164-D576AAE1E97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99B4F50-5CF7-4E7D-87D0-DAB87F19DB2A}"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FE7677F6-0305-4F34-A467-C6A2BB6B2396}"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0856866D-7111-411B-A4A9-E2E668C2B586}"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465E960D-FAE3-4868-A5D1-3F2772924586}"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ACAAC113-BC7F-4884-96FA-93BF44CAD058}"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CE48F920-D57E-4B58-B557-7BAB9E6C7E48}"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E544871A-BAC5-4807-ACBF-E9A6653D2DBE}"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54E91642-C9B3-4329-BA16-28590D132E7E}"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5907E60B-EF2A-4CFD-9D75-6642AB9FED9B}"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667AC3D0-9A6F-4ECD-B17C-DDF7DCF582C0}"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0EC228C8-49E2-4AB6-961A-49EFC7595F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F975723-7507-4D32-B73C-25C36E6F4CE1}"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A4B7E98D-05BE-4BF7-9E25-01E662FCC648}"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65ED57EF-7E2F-41FA-A9E1-57CB4692BE28}"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2A443D41-2398-4BA3-918C-EF7605C0BCAA}"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5479A934-9E25-42E6-A709-3762DF1871B5}"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3551BB6B-7E2C-480B-BDC8-2047D6B41BE4}"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C90EB0E4-DE0C-4AA6-B2AC-C550E085128D}"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1B78A9B6-89AA-4B27-BFB4-EB2A3227ACC1}"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C1254B28-2550-4808-B071-51BE4C1C9709}"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FD1235C1-6C17-4170-973D-366203150701}"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3A6E8D3F-9D0E-4CD9-9447-AA7773ED08F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4DF902C-4EF0-4B91-8940-2E9C39F5E7F6}"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314B761C-6FCF-4401-AB29-B473A1CE6462}"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3BF25547-0641-4914-A3DF-331AA0E4D40E}"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681D1258-E70A-434D-8482-170A3A7CE1DA}"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920A6EDB-238C-44E5-B3F2-167935E6B70F}"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5C04BAA6-9CBB-406E-8C0F-12FC176B46C0}"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B8749CF1-C7CD-42A8-AE98-EAB802726C1E}"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0D1901E9-73F2-4AD2-8101-4B82A9988FCA}"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6226330D-3282-42BA-B5A3-16E19B8EB7FF}"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889F997D-FF9E-4862-BDE0-5B17FE9BB9E1}"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66B5CF8F-8387-476A-B103-075238BD1CA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5EE670A-1F1A-4361-88B6-DBDD9D198946}"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04303E07-5E8F-427C-ACCC-F5F035B50BCA}"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274ECA6C-8238-4864-9697-13EA6ED9719A}"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497F7F00-FEB6-40B5-B720-966DE53B21AE}"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FC160ACA-1E2B-4D71-BEAA-18192C03320C}"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C5C1B659-8824-42FC-A6CE-6E577F8B5F5E}"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C468CC09-86F1-472F-B36C-9E6D7CD2E35E}"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AD09562A-FE7A-4F96-A03D-054C447E50B2}"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4DB71418-3500-49F1-BEF0-402D4865C24E}"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F13DF83C-C002-46ED-A82F-1DA0DBF7F841}"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94746461-9690-4EFB-987E-9B3ABF04E8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5B902A64-39E5-46E6-9DF3-22AAD0F6A1CF}"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6B4425C3-1F49-45CA-9A46-62F104618CC2}"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8FE13AD8-3342-46A5-AA58-308E7A9D558B}"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9F43E9C2-DA42-410E-A4C2-4DE8C6A8F429}"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1A33887C-2501-4537-8CF4-69ACEE71ED5D}"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E153DE19-4982-46FD-AB35-E3F94878C949}"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9289907A-9EA7-4796-97F6-4F82E79C5F01}"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7358000D-86D2-44A5-8930-7899B7B89ACF}"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625158E1-3D45-420D-8018-D5D1881BA7FD}"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85DABBB2-F1FF-4F64-B773-38CDB7B96422}"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073550CF-0F66-4BF9-A441-8329EE2A528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514041C6-29C7-444D-9929-B8DC81CE0717}"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5A1772E1-637C-4E2C-B27E-5E6DB20C1496}"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EBA6FF7F-274C-4145-8B32-CA09724A99CE}"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84E0995E-EC63-45B2-93CC-D10BB0572010}"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AE901F1C-18E4-4C71-92F6-1B37FA3B2AB5}"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73926028-1E90-404C-BE1A-8ABF091A75DC}"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65F6CA2F-6599-4775-958A-E72F19DD0923}"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DDBDE31B-331F-4C05-84DA-F79AC0626451}"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782FEC5F-B036-4A87-9060-961C3ADB6006}"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9555A251-743C-436A-A6E0-DA218A3A66A8}"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1D16D06F-2CD7-4725-8CCA-30233DD2686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EC6CA04-56E0-4DDB-9DD0-16E3DEF94A72}"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33F41E81-EE48-444E-ADF0-5B67D1E03740}"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AC9C788D-F229-4D03-910D-76E9681DC4D3}"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1E1B0077-DCD8-4E04-9E07-F85D692C6722}"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15A59EF3-F7E0-4FE7-87F6-95C2B730ACB8}"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25BE7218-8724-4781-9157-A4D21705B358}"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385E2D14-7A4D-42A7-A3EB-26A2A585E838}"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378CD15A-8675-44EA-9B53-2BCEB6CF7509}"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F57AD5F6-ACEE-4FAA-8DB9-4ED03F07F0AF}"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E3BCBEB9-DAEA-4FF6-825B-94B21A0263C0}"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119B4293-4FAD-4FF6-B9A7-5BBCF0FFB8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085BF0D-A1C4-441E-A24F-1B666C11191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1498E3B-9E01-4CEA-BF1F-E3F4A4BAA7E2}"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2F9B5F18-7380-42E8-8446-E3E52FF776F0}"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17B89970-327E-493E-BF5D-05C13C763940}"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265C5969-6160-4A81-805C-1A6BC7339666}"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CC06F7D0-2697-4D39-85BB-3E4DCDA5BDBF}"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6A4FD99E-E51E-4084-82C8-BF9C7DBBC588}"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FA30D9FF-3E8A-4A00-BFAC-2BE4ED6B3412}"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2AA85116-0737-4412-B864-1047D146E90F}"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A0421D69-FD76-417D-A403-AAE026145822}"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A78CA7C3-92D8-4EA8-8377-3B302D0FBFE5}"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83F64EE0-8C79-449E-9121-4BBC37E531B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40EE170-5A98-49B5-983A-CC264B4DD53F}"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DDFC8458-1090-4F47-AF9B-D579A645D1D1}"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3E821498-BF41-48E1-8FD7-AF4E11C12589}"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27B66879-25DC-4A12-BF11-47B5CF956C92}"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E44025D8-73CE-4F95-8842-C08BA02DD451}"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7BCA4BA8-6135-40F0-A669-CD648C74D1A9}"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9BAE7BCB-A3D2-41F6-BCBE-54AE0E7CE122}"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08EDDA44-057B-4A5D-85B9-44AE5430AA03}"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A057D230-40A2-421B-879C-099F8188A4BA}"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5DB35EA7-6C7C-429C-AD97-C5F53C67983F}"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AEC3A6A9-C15A-4455-88CF-1490F7D90E8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29EA28D-A7C9-464B-B0D8-7CFC2609963D}"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35E14945-EB82-449D-B543-F7DB0C596568}"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AAAEA58D-4309-46F4-8101-A7DF00BF5849}"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5C890944-FA39-4F35-A9B2-CCE3D6D6E154}"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3B6E7CB2-7346-4AF2-A981-40EFC7B88155}"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1A0054BB-D195-4487-831C-FD1987A45FF4}"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6F45EF9B-EFCC-4B56-91BD-F17E844DDE93}"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4233ED36-D9FC-4207-A70B-F25EDF9A08EF}"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FBC59F97-D429-4BE3-B0E8-31A0E9134F39}"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5E614058-F9F5-417D-82A5-B6B9E7B71E01}"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CC28EAA9-9D24-43E2-A8BB-37AF5D10461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C36DB5F-23B1-49B6-8736-CF7B12349950}"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0D9069B1-0789-4331-9082-6FF4A8FF53FF}"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B6DC201E-C45A-4342-9A14-F0F02597B8D2}"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BD43798E-7F3C-43D9-89FF-4CCB551CB2A9}"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4F6F618E-14B8-478C-A7DB-041971EACD5D}"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C9E9AADA-AD36-4A78-B62D-8BAAB6F8991C}"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6069DE24-CBF0-4ACB-A6FC-DC8ACD667512}"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B9170503-8E29-4EEE-A42C-1C82459AC1C1}"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505558F0-97F1-405B-8176-6B26BE6E6124}"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1CA673E1-09A7-4028-87A5-16664B45AACC}"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F5223F48-A501-48E5-9DF4-32109A61541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11D288B-7E02-45CE-9F9F-8FAE4A4EFF32}"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9357601A-76B1-45ED-AC6B-34F238B7D585}"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2A2DA827-56BC-4B3F-8E63-3BF9B6D9A1F5}"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483B4893-53C9-474D-9F31-1D76754BED77}"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78DD8B0E-3AA8-4388-9398-4D98E4CB36C7}"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4D58B76A-7633-497B-9861-411D60DD0B18}"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A36AF7FB-73E3-4A28-BB8C-1D084107478F}"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2F3DD2FA-996C-44BE-ACF6-5EDEA667E12A}"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630DA9D1-857F-4117-A727-7FD3E48C20AC}"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AAE6CB53-E91C-463E-856F-202A86B52A6F}"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C9092F69-0340-4C24-AF29-E8916A11AC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EBF844F-2023-466C-A6A8-AD8559DB7D45}"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0B636643-F7D8-4902-BFF6-B26E5A7C4D0B}"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480BA992-B2F1-4B6D-849F-AAC7EA1FC77B}"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968DD335-B3CD-4F8D-909B-273EB13D8926}"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93948FAE-B34F-4BD0-BD05-61B4A544E05B}"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701B07E9-113D-4DEA-AC20-7236C682F206}"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70A8EC26-94E5-4DEE-9459-DAFBC57AA4B7}"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40AF60C2-30AF-44A0-9B0A-0408BC523D38}"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A063436D-B4C6-4E8A-B87B-02665C5E9E4C}"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9889AFE7-F7A2-4934-9BEA-EF35B4E87586}"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84871951-CC99-42B3-BD19-615D7A9146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9FBF285-C05A-436F-A811-487F37E964B1}"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7B2389D4-D8C0-4B70-ADEE-C5CEDD98A5AF}"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FC3C7B61-131B-432F-80B1-786FA6DC2BE0}"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CF2DE30B-EF40-4622-AB49-985778651EA3}"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13E4BEE3-0B81-4810-8832-7A7576514F8C}"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60E52093-94B5-4C84-BC97-743398147E55}"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440D8178-7D59-4B40-AA54-9DDE56ABDA0C}"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5A23A469-B519-4A5E-B39E-B3C20E1F0A3C}"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EACA34A3-DF1C-4F62-9343-CB260F504DBD}"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69D309E9-60C3-4BE7-A282-B743572B92EA}"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86C99554-7B4F-4CE9-9879-C50BB5E90BA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9AE100E-DB3D-47D2-BA64-3712C9E47FE3}"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2747B271-1858-479E-8DAB-83CF258AA35D}"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4FFE6E05-B621-4D0B-A0B6-045BB25411F4}"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FB7C3AB1-3E52-4343-A583-75CB5853F402}"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71E10841-0070-4141-9DBB-E3AC197F2F8B}"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BF03EF00-182B-4975-9202-057FBD92F249}"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AAD58E19-2D43-4223-BCF6-771D39CDA315}"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BED8CA05-4224-452E-9A6B-DD107416C1DF}"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5247DE44-C5B4-443D-AAE7-A0C8D3604230}"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F3E265EC-ACE5-48E0-A1F1-D96A68593E28}"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9D307F03-6AF3-4EAD-8440-45888534372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2ECD9AE-C56E-46DF-99A8-D2BFF5FEB94A}"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33F5B702-077A-4E0C-8E69-81095E390F6C}"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3E6060ED-07E9-4C21-9261-5BFF88B1F74F}"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01764122-0139-40EA-B79B-08048EDB2D9E}"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039DD9AA-18BA-4BB5-9D8A-A958281A6DBA}"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1D308315-9370-458D-945A-7E094029DDD5}"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74E1B5B9-095C-41A5-A4C3-9161A4212F99}"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9A15D3CE-3397-4CAB-86FE-F8ED622B487E}"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7291955C-947F-4796-88D9-7A982A2B2BC9}"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83717E53-3A77-48F5-B42F-4BF19E0487BD}"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B51973C7-1FA7-4BA7-8A02-FF2E6D8DB97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98912531-ADD2-4B3F-B4A2-AB204BFAFD69}"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9B0B2A6C-61FB-4BBA-A0C0-26557CC440E1}"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34624913-9A9C-4A65-B8BC-4ABDCE85557F}"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8CC4F4A4-43B1-4597-A59C-1BF79F5A72B7}"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1FD43DEF-AD98-4F3E-9CF5-8E5F7890348B}"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0C264DBB-9BB0-49DB-A995-134DB7553282}"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F7E7CAB-FE33-46F2-9D41-DBC8C99693BA}"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B0C3A10-1159-485D-B85F-9C26B0877093}"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00B09DC-A8BA-4285-90AD-875124CA3FDB}"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07C537F7-A4A9-4DB4-BEB5-D6A929FB7EF5}"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7E3B87B8-787A-4917-950E-6098AAE819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A287DEC-7042-49D4-8A05-092370EA729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66F46CF-E797-4496-8973-CF987B29BDC2}"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F049DF5E-C02C-4B7D-B32E-9182D1889AA0}"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3B7195AD-ED99-4472-A186-3F5EEF66ABF2}"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D66EED32-7848-428C-956A-24DF457D0EF1}"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7FB4F21C-FB2E-4B2C-81FA-18EC26222BEF}"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B1083FA3-F66F-4920-8016-4F476B0B1D9B}"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E0A2D3A3-F1E7-4C83-AEAB-76E6F56F721E}"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51946237-03CA-4908-AC10-66B44CAE56E9}"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4CD55DF0-DAFC-4874-AD1D-0D876ACD8D1D}"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5AF46A4-66F3-4E02-AB1C-63CA6A66EFB6}"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2DC912C8-8CEA-49E8-8EB4-B3238BF6E55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78C9639-59A9-4C68-8C24-26691C714239}"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F757BA98-8BB6-484D-BBEB-6DF37137A4A9}"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75B4F351-56B6-4131-AB43-2484DFB6C464}"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8BC92F5E-D5B2-434F-9CC9-01A78062DF3D}"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5F7BD00F-0EB3-428D-B8C2-AB766482D58B}"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81993C59-533A-4828-83FF-8939CA997D1C}"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CB236CB2-225C-4C86-93A4-AAAD2DA8412A}"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8FE51120-2460-4125-A5CA-8A9492683F87}"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A8DEDCDC-1DB7-40C4-A741-A5B7568C4D2F}"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A3F97887-D075-4109-B4AE-ECF5C8B87799}"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80988846-2362-41C9-A10A-378F661A8C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FD5FEF8-5729-4F00-B4F8-7064C6B68E3B}"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BEC6FAEC-1673-4D97-B778-CB3641398C6C}"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0431F18E-8AA7-4A38-AF64-4D46CF7360D1}"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26117410-3B2B-4F74-B497-6ED7C29440C2}"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9C635A54-8D7B-42B5-BAD4-2C28C8824FD7}"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A428F928-96BA-4430-8B86-3DB3F3322BB7}"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C9CEEACE-203B-48D2-9FD3-D1202E151A39}"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0EA42737-8DEE-49D1-BF02-310D46434DE5}"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E3ACD776-96AD-4FBD-A73D-A1A40AF6B0BE}"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9F720B7E-BF66-42A0-95FD-272DB0FECF3B}"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FC1F8E11-8443-47AB-9B93-9110E8826A0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C73FEB8-3F9F-48AB-9665-32EC4DEADA1A}"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63ECBF42-8760-4F9C-B05D-024C93A6E246}"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76234BBC-2754-4168-8699-299000027461}"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1E623E1C-0644-4ECD-9B58-690238840FED}"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A4F180B1-9434-44FA-AAD4-B7DB75C93E35}"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AEE7ED94-B7E0-400C-AE03-7173300F298D}"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5927EA85-8EB3-4D82-B83B-EBF94B40884C}"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C32B6B79-5A04-4F04-86AE-295E22B438EC}"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6F5426D6-4596-43E1-A0C4-60D9DA9264BA}"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950C49D1-396A-494F-AA7C-6975A2128C08}"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0CDBD0DD-0FA8-43F1-94B0-2C84606F361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8E22264-C6BE-4292-BD0E-1DB7CE8DAD4F}"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E4059B4B-DF75-409A-8FC1-B58D1EFC6CF6}"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C2B2F847-5514-4088-94F8-B3096B28E2BD}"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DCC1CD05-DD64-4925-84CA-13B06F7178CF}"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CB68C2CC-DC3E-427A-A99A-5628C04377B1}"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5DAC4D0A-7E3D-4F3F-A0EF-7B4EA7B93946}"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CDF2BE5C-31FA-4519-8DDF-45A6B197C95E}"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A50BFE57-1A07-45F7-8046-6CBA322166CA}"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BF6CFB0C-ED48-41E9-AF75-4FE81F1F8CA1}"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A1E52841-5CB7-4977-A351-9A69FD57AE57}"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56162957-CDDD-4F6E-9D7E-35BC6E4364C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C08EE886-954E-4584-9C1B-B99C59A0E389}"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5A9A6E74-C155-47B6-8FF1-7C00FCCBD3BA}"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393C38FF-8A6E-44E7-AE6E-1F7F939A82E1}"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AF5B3D26-2200-4D87-9D60-7C981902C3D6}"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C4CB9CFF-82F0-430E-8300-FF41699812D7}"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2B887CFD-C60F-4ABA-B340-7B3B129ACA1A}"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FCD90664-AE1F-4AB7-AE0B-5D7682DFF673}"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1AC49E97-F648-4C93-942B-BE6BE7130041}"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D1BDC432-B89E-4709-8DB7-A8A4714FF49D}"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3509E660-8712-4C49-ADC5-8A77DCAF1B96}"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CB2E7C76-EEE1-481A-B3ED-7E40D116746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A5F5A5BC-1500-4CB9-AF32-973A1E0CFF54}"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164AE1BB-4F63-49CC-B751-24A4181B8618}"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C74E80FF-3133-4BF8-A9EC-67A7D8446E09}"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8EBE18F9-0DB4-4FF0-A2D5-420D4621C0DB}"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ECDC2B4E-70E0-4AEB-816C-A4418F8AA97A}"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C335F344-9E64-4C87-BDC7-F117833C607F}"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A8816982-BC29-4A5F-9E34-CE7A71BE7F1A}"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007B2F85-D3F4-4D65-9948-11B18F002774}"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73909364-4278-4F77-BD05-3101E2FA1726}"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CDF4EE42-25AE-4F7E-A29C-7F72A2B1A872}"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74687164-BF33-47A4-ADC3-7BA36920010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649AD00-E958-4957-A5DB-AF8CEEB256B8}"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85035A35-9D06-4B82-931C-A6242D86587B}"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71568C97-83FA-432E-B55E-3B66E18DE2EA}"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617D2444-5852-42CE-BB8E-A6C26674E987}"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6E0A28B5-2DC7-4965-B339-59B2E3D95D1A}"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A3F0D966-CA37-4C6F-B657-3C4627137BEB}"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98A709DA-7BA1-4DDD-A0F1-BC8E6F892A8E}"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FC7BB073-0196-4E68-8F15-923AD9848F4E}"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2635B8DA-39E6-4F2B-8814-048A9D03C4AB}"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51F7D16E-D8B0-4F59-93EC-24DB15AAFD1F}"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19B3FEB7-5DDC-4AD4-AB5E-8CB3BA8A03B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6D1FBD1-EB6E-4253-93F0-E7494980BFDB}"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4769D9B3-1680-4A55-B1F0-CD04205FFD21}"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BCF49A3A-831D-4CD5-B2B8-CFCB07FE741B}"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8F3B01C8-8D90-40BD-84C8-B2DED49DBF8D}"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1FF0AAF3-2754-413E-B57A-42C0EEBCC73E}"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E893B473-A175-48F5-B622-64EA8D65C7C0}"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26869A29-AB4C-460B-B3C4-8E601B50F8DB}"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6059A1A4-FBE5-464F-B4FA-22B20671CE68}"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1D08E1A6-B92A-442F-801A-E83A82CBFC95}"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C71EFCCF-A1BE-49F7-AF7E-298EBE5F8B31}"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EED4B152-6E4E-49E6-BE82-F2484057047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6708925-2DF8-49DF-BB9F-75D237241996}"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8AF1B019-BB22-4867-A087-8207ABB92592}"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E8F88738-E288-435A-9421-BC4120558253}"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E3A61F26-7B93-4B6D-859A-69C4308674A4}"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8A673F37-5CD8-4025-BA78-41C6CEE6BE31}"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1EAA12D0-2425-47D7-825E-8155C3A1E0E2}"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F11BF327-DE1C-4BA8-92BA-9D152FBBFF3E}"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FC7B2C62-8E80-4361-83DB-37FE9008C52F}"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8360EA80-BC3E-4A01-B698-F9302DCAB32C}"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711B9876-060E-4296-8C9C-E84041065434}"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47641AEC-D9DA-4E41-A3C9-91641B6135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286591-8E4B-4DBF-A2DE-30ADC4F8C12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BFF7D78-DB0F-4D20-A8FF-97FE001D4EEF}"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E2292B1A-3826-4844-8037-7A93C68AF804}"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807424B1-0EA0-42A2-A918-5C58DB550927}"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B05D6506-33F0-4747-8753-001A2B4D3CDB}"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3813D3C6-9402-4560-8C28-00DC30E1D4FF}"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330B86D5-C04E-49F6-B033-D7C9C6893755}"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84A704F5-E51B-47F5-9DE4-FC3685D2C62A}"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33C488D9-8558-4705-A3CA-34B6CEFCFD30}"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02AF6AF0-A099-49AE-A3EF-EBA74B6044C3}"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9269730F-C84D-47D7-8E32-21339BFDB898}"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88E37F65-B522-4CDE-900A-43B2FE7F8D7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52EA635-B873-43C2-8ACD-117023AF8B7B}"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897ADD71-006D-42F8-8CC7-84797CCC423C}"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6600B022-10A2-4376-81BD-4B2F22BC2655}"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2AB47F51-B26E-4581-8202-CA7253029ABA}"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EFCC7BCE-C70F-4C35-8EE6-0349D870C966}"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EC8712CD-A9B6-4046-85EE-702C2370C575}"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32DAAC5E-0973-4203-AAE5-EAE0F046E4EB}"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B53B940D-66E0-4A86-915D-2463B1794FBC}"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3D7DBD6C-E2B0-4F57-824A-BA15533E2D09}"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0199623D-BB89-4624-B4D4-BC836D2A4003}"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7FC4AE63-0C62-4590-9B2F-2353A85C9AE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FCEDF4C-BF20-4B57-8DA9-E94255A9E783}"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71AA4516-751F-423F-915C-654045D9D19D}"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A7DFE00C-C4E0-4F6C-9FE1-AA206111AF95}"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F73B2A69-34CE-45A4-93EF-1EDC3733D311}"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EBE763B8-9363-4562-8020-C3E11610F279}"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4094B307-5523-4353-888D-360AC684B818}"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7A42D36E-09E8-454C-8548-74825751803C}"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F3AE6E1D-D588-4122-AE0B-46B121238FF8}"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CA909481-70C4-47EA-83D1-742F93DD4C8A}"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A63CB794-E2A1-4064-807F-F0CDA6E84C15}"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942BB9DF-D57B-487B-87FF-1E8495ED3E2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5DF079C-86F3-43A3-BF92-FA19C4BE047F}"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1565CC5E-0E6A-4351-97DA-37CC95383B60}"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6F6424B4-860E-47C2-914F-38CFB11CA0F1}"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B6FA5AD0-912C-43DD-9D01-47CC700F0831}"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FF736EC0-6D99-4E1C-9FD1-4D4C03833337}"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E2E22326-4078-4576-A0BD-89B43DECEC2C}"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344C5CCD-7031-40FD-9FCD-CC1DEC6386B7}"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CA4E75DA-2276-4DF6-BA6F-E60D139FBCD9}"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DEB81B6B-37EC-444E-B9DF-CA78B5A2A058}"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8A4A3107-A841-47C5-AE0E-60190721C8AF}"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92623E6D-EC3A-4529-B6AA-728CFC82026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E52969D-DA6B-4539-9686-C390741436EA}"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FFCD5C49-BB78-4A5A-A676-5CA23103395B}"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5C321BD9-849D-451B-9CEB-A96B89432912}"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8DBC9C03-8AA3-4DEC-ACA8-92DF3D7835AA}"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932499EA-46A0-4D1B-A166-93CBD8A5EBB2}"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ECE684A4-2966-491C-BC21-C3EE557EB863}"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AE4B6336-EB92-4B54-A643-04D980C4D944}"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3663D3EF-0636-4305-BFD3-67B61E7C8E85}"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F2E40966-04FB-413C-9738-B86FC9D27761}"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1F1E3E78-4EB7-4C32-A9F8-69829329EC16}"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BA5EE4D0-346A-4C4C-865D-C22F5C233D5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BD01F02-BC72-45F6-8D69-9191B54D7F01}"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99EA5479-3582-471E-B6C2-F740BFCAB551}"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9FA1E194-D52B-49CF-8A1B-29C2780EEC65}"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68A83056-00EE-439E-AFB6-C286D1D7913B}"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83C661E6-F6F9-4C5B-ABDC-E3A8D82085FB}"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0719D546-85A7-4FAA-81C7-7013017CB667}"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75BE7256-6035-49FD-BE05-E493A157CFC2}"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36724840-0086-4E0F-897E-EB071F918E90}"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3685C12D-9F21-4060-9E82-1EB5CC689428}"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C6D06DE3-0954-4F35-960F-69266A304C1C}"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A81DC3DC-9273-4512-9BC4-91664B5D463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0B7AA99-5399-49B8-9957-4E65BBE45035}"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962864D6-81D4-4E05-9855-CFF623D0A18E}"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4D54FDF9-378E-4C5C-87A3-A1389B0628D7}"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91EEA543-2088-422A-9C5E-1D7DA3AE30B2}"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70DE5A76-3AAA-44B2-8361-A5D87C808F9F}"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CD4A3F39-96A2-41B3-9DA2-0C2417F3CAFF}"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2E966098-2FDD-4E2D-9191-74611A6CCE20}"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8D377F75-D7F3-41C4-8FAC-DAD726EFC4E8}"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DDBDCDB6-A3E1-4EE5-9E6D-01CC3AC76BB2}"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C13AA080-5238-411E-9232-2971A67B7DE0}"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8EB1A302-0D63-4B32-B1D6-0BDDC5B93A7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F063F6F5-04B0-4589-A589-E5033DF0079B}"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280FD965-2563-4765-ACBF-0A6DEA50F2AF}"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1940BBFB-03A6-4D1E-90EC-9F89A5ADEA60}"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8679333C-0154-4BFD-BF15-5A71DD86ED91}"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EA2A1B33-4AC5-4175-A2CD-F29DBD70530B}"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EBF758CA-AE7D-490A-A2A9-29419A7C27C7}"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5477A8EC-B4C8-479A-AABE-ECF97683FC30}"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9F713777-E08A-4CFB-8DCF-92806D1CAB49}"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835470F5-5FCE-451A-AC11-D16D4FF55AEF}"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C366994A-F23A-43F6-8F57-9D9807B2E7E3}"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94A1DCCB-2EC3-4D4F-9EB1-86280296B7A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42E1B637-187A-4C4C-95C1-976BDAA7C3D3}"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49AD39DF-C0C6-4945-92AC-30C1439C6F57}"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F856D746-9A3D-4078-ADE5-74462386A202}"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8FA1C56B-2305-4FFA-8CD6-0858ABDD527C}"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0CE110F8-42C8-4685-92C6-DE4A7CA2B597}"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F2ECAB8A-ADA7-41E0-9D86-1A8B647296B1}"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B712AA1C-63CF-47B5-B667-13604C4DCF48}"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10AF8C51-2A17-4419-9924-8EF08E786937}"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DF461095-6C4A-49F6-92EB-6735C18D523F}"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5126060B-1350-435A-A71B-3BB0F4D9A173}"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1D027596-0B40-4618-A8CC-ED5BBF3448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50426F9-F12A-4199-9446-079F2AC5140C}"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0E219069-1C26-4AD7-B83D-7CCBF58BF534}"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663907A3-E1E2-44C1-83DE-043C7B2C8DA1}"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4BCDCF34-F9A8-484A-A9FC-D26AFF5ADC01}"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EBAC33BC-53C6-4A9D-BCF6-356BA1142220}"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EA7C1634-1644-4A13-B1AE-D79E4565BC28}"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575C5510-E929-43DF-82C4-E7C2E37AE75F}"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710B8ABB-8728-4B59-9CD4-928A676033C4}"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D1361D00-CDF5-4BE4-99FF-8508E80A64C1}"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EAC9E3B3-6F37-45C6-B2FC-D7D206467CF1}"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C25B441C-8155-4839-8C2B-15B22853BE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FDC7341-C11A-4AD4-A054-E3961250B67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3C9524D-6FAD-42C2-BD26-992A250E079F}"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EE706C42-EB29-45C2-9E85-D10587C3E94F}"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E6155318-B62D-4C62-B7D9-909EACF79705}"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9876A01D-5796-4E48-AD16-5EE904DAE8DB}"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ED26366C-5A06-4250-8819-96CC346A00B8}"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B054384F-7EEC-4F14-855F-DA31963D7182}"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DFD5E938-4350-4680-9122-48D640D68805}"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B8E9E1B7-E11B-424C-A36B-74B84C791FF5}"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38714AE3-9AB7-4E10-AC43-F0BD71243CA3}"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38280D66-3649-4E2F-9CBF-AB1ED4DC925B}"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AD306816-C362-4AD8-8810-1B273F5C4FE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FF4BAB0-5588-419D-B897-1AEFEFC664FA}"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EB078B05-6D16-4C5C-8F0B-FC1F7FB9466E}"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63B21568-D1BF-4B4A-B1C9-43BAF68E65F8}"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B162B4A3-1E9F-46CD-B816-EEFF8E21007D}"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D53A1678-1629-4C73-BA83-0BB085CB2181}"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B5872B1F-CAC3-49F7-8876-557BC32DA8CA}"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3D56A749-9E9E-4649-9C6E-3AA4224A7C80}"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5F93DE35-9BA5-41C0-9692-9F664C047CAD}"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B5FD92A6-721B-457B-A496-83A5DE32F839}"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DFE99B35-23B0-4F06-A42C-5A83E4F05142}"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2DD11C5F-7925-43EB-BA8D-BAEEDA9219D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5C6E876-7AF5-45CB-889E-51BE9457AC16}"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5BB4DF78-215E-46D3-BCDB-F2503E24626F}"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57E9D6B6-44AF-47F7-A27A-E6A26FEE8A54}"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3DB6D4CF-B454-4A1E-BCB0-2B2B4D0A3E96}"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9B361B3D-8BE0-4059-B082-002B4899C5A2}"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F3D01390-2C3B-4FB9-8952-AA026342B554}"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412228FB-2029-46EB-BC8D-413B5DC6FC31}"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66665F99-6340-49DB-BFAC-1347027DE775}"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2393A306-549C-40D0-A70A-AE16BB7C4B84}"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3CE4D556-162F-4950-9228-3C15E652F98F}"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D543BA1B-A289-4A15-835A-748547FCAC7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5832DCA9-F853-4AE8-BF6E-4B6F6CA0D921}"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45CC84FA-42E0-4217-8064-F0B1A182A139}"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35C0DF74-B38E-4450-851A-9C424D55C87D}"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7158F859-D8EA-46F7-892F-D95895F70C74}"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DF8C1980-524D-43A1-AB58-F21C82D883C9}"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D54C1E6C-0453-4DD2-ADA2-9F1B732CE28B}"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DD35943B-87C2-46E2-B5F6-6F800EC53723}"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21EB2C12-664B-4733-8260-66DDE8A6ECAE}"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136E3640-C0F5-4C7F-92DB-1F60C888CCF8}"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D17F8D53-C02F-44D2-8B89-E2B2FDAD9FE1}"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161BD7D4-3CF1-4F84-ACEF-DDCCC7D65D1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708CFA5-5FA6-45C2-8304-DD2E6EBD897C}"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CAD5B63A-882A-4888-8452-A198BDEC5D95}"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3115B85B-9BE9-457B-88E5-2E87BE2405E7}"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71582391-CD21-4A02-8619-7C1AEC7056FF}"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77749E41-1296-4467-BE74-D8B45033F114}"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0DCDF9BD-9AF4-4736-BE98-E16854AFEFBC}"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8FFDE97D-835B-438A-88AC-7C31777C0788}"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DBDA763B-CD00-479E-B4C2-4A6E752B7630}"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EFA20D6B-55F5-4C9E-812B-4C35CC703D42}"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F4DCF653-1C0C-4C0D-A4B2-A77FEBC80678}"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90010176-C2B3-48D4-A7F6-8599D5A4B33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252144D-1050-4205-91A1-A37B3C7FAB8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B6F2D2D3-E79F-41EA-B120-B44DB706212A}"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C9479A1C-C99A-4145-A5E4-6C0EAA50D26E}"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E18974B2-2D96-4999-B949-C6B8EE1E1CB2}"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CBD11F40-4CD0-48E0-9AC4-9CACFFD35C5F}"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3BDD06CE-7E1B-4114-B308-47D9EFC9B78D}"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24BEB582-6AC9-40D1-BF61-5971FF11D54B}"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F04E43FD-2FBD-4590-9E49-4BDD4B4778CF}"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E359E860-365E-4B25-9492-E190FB810BD3}"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0E98CB20-F271-4357-B4CF-C39DB00B8309}"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5AA6DD79-2C77-456D-8254-C06170CF9D0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97C00D9-DA28-4D4F-955A-4E3863147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FCB4878B-AA88-4365-9FB6-0DD1ED9BC6D4}"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1BC1010A-ADF9-409F-BCBC-5FB9459DFCDB}"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9FB17940-9D65-4AED-A1C7-A33AF266F2AF}"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9AD521E6-BB80-4BE8-87B8-35FDA777C08D}"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97357605-6304-4697-8ADF-F98D408907E9}"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0A463ABE-34BC-4267-AD34-ED27420583D1}"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7D9FB93B-6B69-48EC-9324-2A3C10E76BB0}"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11794718-9B46-4FCA-B594-58888A557C39}"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672B80AD-8A50-4311-82B5-D65FDD686EB9}"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0E579DDB-DB1C-471C-A799-FD6BE38B000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C9368E1-ED5C-4A0B-9175-797173AC1F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AD322F8E-75F1-42EC-868B-0A8DF4F05290}"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2E31A0B9-6D7F-441F-80BC-96A4D388CF56}"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AE9F813C-16AA-41AE-B940-03C210454FDF}"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CBA7D992-D838-4283-985C-98210AB63095}"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3A6691BB-8908-4F55-84B6-0090DD3FC96D}"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5BEB9295-836D-4F06-B329-F91CAD000932}"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E0F4A540-4AFB-4DBE-B998-D28EA11CD39E}"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B7999A1B-18A3-41BF-9A00-BB36A7ED4778}"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98BC38C2-2764-4E66-A8E3-ADF553C1997F}"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8DF843E6-FBC9-4C8C-A7F3-ACB951BDA6F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96F08DD-0975-493B-90D7-E47DAE6023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43A470A0-C07A-4D73-B3E9-4BF5A2665364}"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531A97B0-73B8-4950-BC39-27F3F929E2EB}"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1E669E32-9F3A-42A5-8F2E-AD578E868F40}"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B8B70B09-6962-4FE9-BD1B-6CEC35BDDB04}"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D635A478-69D6-4498-9553-F34AAEE8651D}"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507BC2CB-54B6-43BD-96F1-92ED146F7E08}"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BBEEF1A6-962C-4C22-9569-1CC525B53420}"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A4ABFDB1-89FA-4E41-9FFC-7B6484BB9426}"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0C10A954-8311-45F3-B657-61049A067F8C}"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E8A2F415-897F-475E-BEF1-676894179A7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2DB91533-3203-4024-9A9D-BB670816A5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37A6EDDA-AC61-4A95-B1BB-85EA6736BF9D}"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8C5E8E83-2AEA-42C0-A05C-51122D09C7B1}"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C0598F15-5AC6-44B8-9207-D2D959E3741C}"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75D9A13F-1F2E-4964-B678-7F8CD3790750}"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A6C42639-0247-4F13-B2A2-C24A9D6A769F}"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9F8C3E57-3C22-48D7-9E62-C4DE4DEB28C1}"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01995F81-594E-4F39-B229-34542EEC4954}"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734265FD-DC31-407D-9368-86CC560946F9}"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261179B4-9761-4AB0-968E-9381FFE8371D}"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F1E01109-E83F-4016-B1A5-80BF6F2115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7CD584C-AC97-4C55-ACD8-0675082831D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60DDEE55-D9B2-4C94-A7AD-3437B5343D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1D43B7C6-D4ED-47D0-83B9-26DD08DB972C}"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A4286395-B421-4586-9A84-C407A964D797}"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EFCC7F70-DD21-4995-8454-27BADF4BD649}"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582B29F2-B416-455F-A46F-98AEBC286350}"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B161A33A-1977-45A8-A90F-E40D0B803EBB}"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53E473F4-4696-4235-A530-330C6E37CB5B}"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25EC18CA-0DF7-4A96-AEA8-D7833CC49B09}"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BB2FB05F-F684-4FD6-BFA7-308DF6202DB2}"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102109C3-0681-4B52-937E-87CE088964C3}"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7EBA30E7-6461-439E-A534-C1DCC3033C7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E2545C6-34E4-4349-91FE-FFA180EFF9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D105618F-0E22-4781-B552-3AE95FDBAD74}"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94388CED-B983-4C24-BF4D-D308CF5035D0}"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7AB8F85C-4790-43BF-81A9-364D0F81F1C2}"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BCA1C680-2C73-4759-96BD-8959F88C1A65}"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262C38BB-5D09-48DC-9EDE-2C86CEEDD29A}"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BA156232-0A34-4B19-88C9-719D744E9AF6}"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B7CEEE8D-2EBA-4EFF-A553-BF0AB702D58C}"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CD410827-1B78-412E-A127-4E08343D9193}"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5F87AB6A-A26D-462C-8E24-1A56C44A9D43}"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8AFC7714-B231-4041-8221-950D2F13FEB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FB04D10-596F-473B-A0AD-F7B92DE62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7CE6573F-57DA-456D-AD7D-0204AC7F4E17}"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863B9BD7-1FEB-447F-A5ED-6A0F73BA34E1}"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52A0BC7A-9959-42D1-9D31-C1A5C10D5CDD}"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C03C2F9B-AFA9-4D80-8D11-DB2B1F954BC3}"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1A928A89-E697-4709-9CD4-FD022C037E2E}"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C8B797F4-9689-430A-AF17-C4D6511A2E82}"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3D8A3873-BF46-4B67-A082-BDD860E3046E}"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9C4FCB82-B18A-47E1-92FB-218ADF2A241B}"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D642D315-DCDB-40AE-8669-D5C9173E36AF}"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DDECDC0B-B50D-4506-BF5D-339762399C6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5A8DABF-1678-43C6-8A51-45B2483C28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6ADE13B9-96D4-4CF0-83A7-9B7E207ECAE4}"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E30E182F-A661-4175-8C2F-099EC643857C}"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5935B6AA-5C02-4371-957C-682D79F3045D}"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E98DE8D0-EF25-4C1A-8803-028628EA627E}"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24EA2B21-6D54-40EE-AC52-390AA2ADB7B3}"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BE098713-DF88-4F28-8F38-5FBFC0B48D8D}"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119F399C-A4CF-4897-A913-036E6752FE3D}"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8DA2E107-9BFD-4101-BC8B-E4CDE84ABE5E}"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BB9143C0-5A11-4F6A-87B3-6AFDEB01E69B}"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E2D90D15-CEB2-4A3B-B750-FE2181C1836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CB8233A-800B-41AB-9CEF-876C1F334C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1E89C78F-B8EE-4260-967F-48D652B6C8DB}"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169EC9D3-CF73-407F-A6EE-8C3511311508}"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5170C378-7F61-4D4F-9F6B-CDEA64B18D48}"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A64E65A0-D959-4840-BC78-D45C3F466163}"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A510FA80-8349-4ED1-A279-6C6FC7895A23}"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DF0190F5-AE84-4C37-9132-1D6F998749B7}"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CC61C0E0-0F6A-40DE-9C57-D3097AA5F719}"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2D6133BA-8A5B-412F-891B-4AF4C72310D0}"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08A66CDC-1F13-4F15-BE3C-50A0F20A1960}"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391D04EF-9C63-47EF-A6C8-7062ECB5663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D1E6408-4871-447A-A6C6-C536BE613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78A402CB-0635-4737-94C6-C0B43D6742F2}"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02497080-F2BA-42C8-A010-CB78E98256B7}"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DCDE4CB1-DF26-419D-A277-0CAC4189F648}"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A7A900CB-F02C-4EE7-887A-E29073947857}"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AC5A0B54-A12C-4BDF-BC64-349E9C712431}"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F7220FE5-825A-4D83-AF14-A42629EC3DD9}"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8CC57EF9-04E2-4F8A-99E2-2A682005AE89}"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F9ED4279-A079-4114-A8EB-4D36B9368CDA}"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4D9C2729-2050-41BA-B7C9-446BD5EC6CE2}"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609B4802-74C1-4891-B900-57E22F3FAC0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F2957C1C-9DBA-40CE-B155-46FBA769EAF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D96AA0F3-E41B-48E6-8B32-E73503257CF2}"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D6AEAC3F-74A9-4717-B7EC-862061471AFA}"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B21A14D9-C11D-4ADA-BA1C-C6C413309862}"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0D38751F-522D-48B1-8183-04115018A625}"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245374CF-B018-4B93-A5A0-6763B8F07F03}"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F103763A-FF06-43A9-BF46-F76F749BD0F9}"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F5CC9B37-0227-4250-B199-B93DC60A8F5D}"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7FE63EB8-C457-4E5F-B166-3572A616B0EB}"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AFE43180-583C-49BD-813D-2D87D3AEBFF4}"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2ECE7E04-B55B-4524-9BFE-BF2E2A2DD57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7C7CC4A-9200-4D49-ACC6-59BF21273B2B}"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95CBA1C1-E8F0-4969-A563-4CC124EADFCF}"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10403835-1E55-46BF-8DB3-018091326EC1}"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03F2AC78-6F63-460A-A908-D35498BDD02E}"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0B9CC143-27CF-45CC-A298-376B30168180}"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EB807167-6F95-45DB-947F-9C8E76065165}"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A0DE0721-A338-451D-875D-D84C2C50D6EF}"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C8D85E0C-C57B-4048-8171-36480F3F6064}"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2A8FE32C-3898-4826-876D-C974EFD0B2A7}"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998175DF-9717-422A-A7D3-FF7C3F36B985}"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CEAD34C9-5F37-4C57-8451-03AEA5F3F5E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B5153BF1-3F0B-4E1D-B76F-479E111295DC}"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E740225D-D687-48A8-952C-8F4AB40A45A2}"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8C85F98B-B891-47A5-ACEE-BA48C94E41FB}"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ADE401E9-274E-47B2-B9C7-F2049348C114}"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F9D52BC0-7E5C-4947-BC12-74937E463322}"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31CCC748-E4E8-40C3-BBA6-15545E346FF9}"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6F4EADF5-F876-4526-A3DE-FB29CEB6B09D}"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57E6D476-966C-4624-8934-7DBFBF2284E2}"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0D2150EB-6E95-4E12-92E8-90E353F4139E}"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511DD3D2-BBD2-4649-99BE-D5423A84B44B}"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4610BD5A-8BEF-4346-BE5C-40DCA7DF0A7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9D754CD6-A3CC-43DD-B162-EDBDA7A492FE}"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4D0208D5-E466-4865-A777-47FBB724ACAF}"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939FA72B-01C0-4EA0-8001-D1F42D92DF31}"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3D6D247A-771B-440A-B0C8-A1591A656A8D}"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86CBE091-DDD4-407B-80D1-E2FB6F3BB748}"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B778A1AF-66CA-4917-8B0A-4E2D5FEC8318}"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B720BECB-F9FE-4202-BCB2-F6622F5EB4E8}"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52C41E29-D34E-441D-B800-BB27328201F8}"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3427C462-36B1-4F6F-A8C2-D1AFAA13D9B1}"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1D7517B8-C9FC-4A0C-A064-F71D1D1D672A}"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1FC89C3C-2D31-4F52-97A8-FC02A8CD99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3431DC9-AC2F-4718-AD5C-FC60A41A60B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92A9006F-2E96-4CDF-9435-E62EE998F3BE}"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C8013CCD-D516-4C78-9B2A-780CDE5FBDD3}"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4B30F3EA-4556-4B72-96ED-372D32E4A481}"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03A4EBC6-0D5E-441E-9D4F-45CE13635D8E}"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8669D0C1-90E9-4D86-BD8A-DA7314DF3B81}"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C4695D65-038C-4077-A264-F7DA4C9B79D7}"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BA186C17-8811-4AF7-B2A0-B9110EAC1886}"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37A56C8D-DBE3-476C-8D41-A4C92F29739D}"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A56E7751-C5E9-41FD-9404-783F2D8CD24F}"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BF469999-A48D-4292-B521-E7E8CFE64268}"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3DB42CC3-1C0B-4D74-A9DF-71A4582CE1D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2BFC9C03-A9C7-4308-A35C-A8FB8D87B441}"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C46F97A7-A2FE-465E-9FB9-6601023FD2EF}"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1F2D9C98-F2E6-437F-BF2E-FAB3345EDF2C}"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7690198E-DF57-4D70-82D8-F2B2CC94AADA}"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48E7421A-EDD1-48E4-A8F5-E830EC353714}"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549925BD-6BA6-4CA9-84DF-46A4BECA9CE1}"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112929DF-C82F-4F51-A83A-9AC19B6260CA}"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A1C35929-B66F-40CF-914C-AAA29C1E48F1}"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FCEA2517-3FE5-49F3-A8EE-9EB27BC962DA}"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34A127AA-9E2F-40CD-9140-F2802EEA20C3}"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2CD33266-A36C-40BD-B5B9-9EBB4B42A03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BEE86568-F161-473B-B6E8-87657EE5B08F}"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099550E5-F4AA-4B0C-90F5-2464CF9065A9}"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BDFF93D5-2801-4013-9632-D4A2EF08594A}"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0454018A-23E5-4EBD-BF26-B85C50A34103}"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2D60E3B8-C4D5-4323-A98D-DA318EAF0BFD}"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1EF3F4A0-007C-4E7A-88DB-8FDB08BB65A9}"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C8980ADD-DC2C-4DF0-B3D2-A356B650CB9D}"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B07B8DEA-E2FF-47F2-871F-86E08E9E3A93}"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E2EBF356-E52F-46AE-BA9E-D60E61915A10}"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8EB77C51-C855-4443-8E88-115C4B1CAC02}"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075A3174-DBE5-401B-A123-7450FD76D73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81747A34-74BF-4037-8204-08B49FEC93CE}"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B3B16529-7661-4E4F-B572-17BC77FA2772}"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05D716B9-7FF1-4020-952D-C4FE48B07276}"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62CAE289-ABF1-44E5-BDC5-FF3316C85DC6}"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06536E5B-CB96-4A8D-B000-62B28FCB4D63}"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1063B03F-B25A-4265-836E-A4A7A17661E1}"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6D686C1C-0FE9-4DA3-91A7-BA5D6863E9D9}"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5F27F97A-0322-4923-AEBA-B3983CFAC702}"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9437CC33-4CC4-4523-B80F-4D34C5DF4891}"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06C8256E-AC62-4983-B8CC-6C1357146D3D}"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EDA56A54-76E0-4773-ABA4-E2FA0996E96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9B7EBCB5-4949-436A-8068-74060297A604}"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ECD04591-18D8-4545-877E-D2EF16D56A27}"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2A37A08F-4C5F-48D5-8BBC-5A241EC0E7EB}"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71C247E2-3AA9-430D-8DA7-C4B68193AB87}"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C609A62A-AFA5-4D21-8EAD-D378F2E541B8}"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5E26A417-9063-4889-827A-00A073CACA55}"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3ACA2580-0A12-487B-A8FC-D1C597EEBDCD}"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32902E6F-2F1F-4719-B0B9-D32706563BB5}"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9D80B29F-7AA7-4B14-85FB-8169B9D9064E}"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E45D3856-0891-416D-AC35-83D75CCDE61E}"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A807BA07-6835-4D1C-9410-39FD0A75443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5B71F8B-7523-4F46-A9D3-01B34E19EEC3}"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7B8302A8-DA78-4D66-ACD0-69AD1FF52F3F}"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A5CC5ACC-A9B9-4D13-853F-D94FEC80E9FA}"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F7F5E06F-840D-4BAA-A6A3-4D89A83D1E51}"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0DE26597-C9A3-447C-A5A7-1E4DF671906E}"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5CEE6041-ABCF-491B-8453-21AC405D7696}"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7906462B-63D2-4C99-B7A2-7D7BD1E92C69}"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73AA67D7-99BA-460D-A4D1-E00851D54F52}"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DE713F5E-6A12-4D4A-BA58-EF6E2E063077}"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56060270-7B82-494D-BC73-0F103DD99204}"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8488B524-5588-46EB-A818-76853F82C01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CC4D87C8-0974-47F1-8797-B6036380728B}"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608E67AF-97B4-4492-96F9-77E539D269AF}"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13AC1DFF-FF0F-43E5-AC38-8D321C5140C7}"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A5AADA20-7561-42B7-BD26-F1FC7C37981A}"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8C4BFB9E-9CEA-4FF4-8286-E5AB934C72EE}"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34A402F1-E6D3-4E7C-B798-DB2A3AA08A5C}"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E31EFF5C-6007-496C-ADD3-703DEA7E9666}"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DBA0CAB3-010C-494E-B23A-E6BA43B337FB}"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3EFAA4A0-7261-4DD3-9AA5-F6D2F0AB49F4}"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7FF13945-0D19-46EC-B158-0AA5615DFAC3}"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69CD413A-5CB1-42FC-845D-4C5A6DED7A2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5EB74916-E0EB-461C-9405-6F6AFF89334B}"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90EF0C11-3D89-4803-B1D6-8333BF17A31F}"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787A7BC7-5223-47A9-83DA-B302F42392B7}"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54852B12-97F8-4E9B-95F2-DA72299145C1}"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286738BF-0EA6-4333-86BC-011D2CAA75E0}"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DBF37868-D505-474C-A6C1-DC2D0E585DC8}"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C8716A8A-6E61-4F97-A985-D75D8D8EE91E}"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6760C684-F898-47FF-96F3-5487F1B9AF60}"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D053CAC9-81FB-4A6F-BAC1-E6B70629AF88}"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CCD5F4EC-B8F3-48B9-9899-EFC248FAA9B4}"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4771F429-854D-4D17-9013-FA382D12C62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1A8070E0-2715-48F2-8B09-487BAE7B6A87}"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DE0415B3-C27E-4E8C-8DA0-CF3EC78D18D1}"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F6A4E4A9-37BA-46A1-BABA-9985A5DAECBC}"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6025C196-C32E-4385-A312-7CD702DDAADA}"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BBBAB08E-8C63-4BCF-8501-98874612883C}"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CDA5B8A8-0715-41D7-9CA8-69224F19A4BD}"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869A65AE-B602-42B4-910C-974627A99113}"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A3B3492E-1C83-49D8-AA83-CF65E4BBDCEF}"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A7F6D3AE-0926-4866-B608-61405530A403}"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8DB22E45-787E-46D6-811F-7AC26BA2762A}"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F23856C3-4D78-4380-912D-020F60F5F5A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907A114-4FD3-42EE-A487-7CCCE4E55DCA}"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B1065C6C-0488-4B40-B0E5-CA25324F668E}"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ED27E633-07DA-438E-8FD3-68AF045DA7F0}"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FE203B0F-44DD-43AA-A7F7-4A42A7501667}"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562861AA-98CE-46B3-9381-3B116C13E3C6}"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CA4E2EFF-9217-45EE-B21E-82F8D50809C6}"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4DB3FFB2-6883-44D3-A512-0A4CCE4EB60B}"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124E3092-BAA6-4FAA-BA9B-99083AB9A3D0}"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AF4627D9-5DC6-4BC6-90B8-503045B940C9}"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10838876-C534-4D22-A975-F55960733C61}"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BF0FEF12-607D-4993-A3CD-531B9AB57E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BB55A45-9B30-475D-B14E-49B456A1ABE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E17F3827-1E65-4F79-8AC2-A046EB921DDB}"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B91F8C42-CDA5-4AB2-8BF9-CF41A1036E33}"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572F206B-8201-4FAC-A98C-1E14D76E81EF}"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E970AD34-74B8-4510-B195-E7E7E8B759E7}"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4D2DD4DC-F9B1-4272-8634-4F8794BE4E6B}"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D9969C55-7949-4A6D-A2CD-D8955371485A}"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8FB2EB4F-FC9C-4C71-B525-6DFC3488EC07}"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544DD2FF-CD2B-4F94-B5D7-AD74C1D1D664}"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0146024B-AD94-4C80-9BE6-1545FB199434}"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9EA08024-5293-4351-9561-D0DF821FE10F}"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01B79E11-35FD-4E87-928F-90CCCDAC9AF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EA09D6E5-5EC0-440A-9B35-6E33915E5D6F}"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06A0A1D5-83DA-4DAF-96EE-6AF729B4558A}"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B1F7AAF9-7128-4C11-B39F-B5E4838360AB}"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3EDBF76E-1777-41C3-A70C-E54BBAEDA2AC}"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4A880410-6043-4CCA-AA49-B7D293870B6B}"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1647BC30-DCD0-4E9D-BE67-F0575F235AFF}"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1FE1D03A-67F0-42DD-8CFE-CCC4B70E50BC}"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A8D86305-E3CA-4B35-B431-1820A502003A}"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0306360E-DA16-4D2C-AF1E-FF994B67D9FA}"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DD3126E9-E2E4-40C1-B781-52F0049FD49E}"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561FCBAE-FC0A-4A4C-B0D5-2840A7F185F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35E2B9E1-D13C-4DC7-93D4-2F8F3445159A}"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C890A140-E149-4C8D-9345-FBC403CAF197}"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10D88A21-1D74-4B19-A8BC-558808076EFE}"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ADB5ED93-FE4A-44BA-87A3-5E5E7B377236}"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DD10B4DF-DB25-4B96-ADA2-B1034FF2079A}"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195F2EAC-7827-4FA1-A352-FF25B5F1315F}"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123BE21D-9968-40D2-AF22-92A02BC5BB6E}"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B50EA8EA-3FCF-488E-BD42-C17596220530}"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428AD55E-5575-45B2-A913-CE6228F28386}"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41DDAD3A-5853-4C93-A843-655C333CE278}"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49E2E217-878F-49D5-9746-A5E968203D9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C81647DD-C6A0-4ED6-815A-1360EAE2F5D5}"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630A9F2C-FB44-4258-B246-EB8D8D2D21B1}"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9A504737-839E-4B0C-94A3-0E6D5EB4C970}"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E693CFDD-004D-4315-9C24-51E741AD8007}"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0A760B82-3E64-4761-BC94-A1CB8B42F24D}"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CEAA76E2-5D54-46A0-9D54-C8D94079D679}"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ED8AF437-4488-4D53-BAA5-233B06995C30}"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0CBF214C-FC64-4F58-B119-27A32B0AFA74}"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B57FD973-1BE1-411D-A097-36B1B90756F0}"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B6C0F4A8-8E19-4D92-9D39-053811A0481B}"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E29EC9CD-66D8-43B9-8527-9D8CE68F85C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36633737-C326-40BF-8C94-32300977734A}"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5EDB137D-5246-464A-8E25-E06A6B567FE3}"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340235AD-DD3B-4C38-96EB-5470C9CC220F}"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56F485FE-4603-4934-8712-BC030DD682AD}"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3AB44501-3907-4C88-9BCF-84A5BDC5CB56}"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F3136C0D-860F-43CC-A430-71DF086D0198}"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EA14606B-3D06-49E5-A0D7-EE7CF6AF79AB}"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38DBC14A-024B-49B7-AD1A-93A1B7DB41EB}"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E7D9BF38-98E8-43D8-AF29-152147DB6BF5}"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77FB6426-3B99-4D12-99DF-DC0836DA0D33}"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61ABB895-9CEC-424B-AA1C-4C8361696A2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3FC3B324-B26C-46D6-AC0B-62180BF3E15A}"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1C1D49A2-A24C-4F31-8F7A-AF10CC1EC1F2}"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DEB491B4-0223-4431-A741-2258444380FA}"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661F989C-23E5-49E2-800B-EAE6EB0FF2A5}"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4A46D239-422F-4250-80B1-FA24633B013A}"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D117578F-BB05-4057-A61E-7D93F66127C9}"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413C6EAB-2F1A-4E52-A092-D116DCB63AF6}"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B158CBA9-E8E8-4DA8-8A9E-A4A94B460614}"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B2699C56-840B-484B-B7E6-6BC5D4371F40}"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F3AEA782-0CDA-4B47-9378-FE50C30ECD7B}"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5C7CF1D1-CAE9-4229-AB79-79C6A4FC7F59}"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C6EAE24E-FBB6-4257-BCCC-14764FC66E8C}"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80E6476F-5092-4603-A6AE-6353729CF5F7}"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97C7A02F-AC91-49BA-828D-74028868CDC9}"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350CD3B8-380D-4ADC-9FFC-2FCA361DC5EF}"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F95B16C0-42DE-4014-B889-6795879DC087}"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2B35F816-452F-4A50-9DF3-5F0EF08CDEAF}"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4C9DFCFD-633A-45C0-8C03-8E406EDF7547}"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D59AED1E-EAD2-4808-B9CF-D95245FA9CD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7EC77C5F-CCBF-40C5-8177-4795B5CD73C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96E7D757-6C88-408D-A39B-7471ACA31DD7}"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0799D37B-FA3D-4E8E-9CE8-B77F9B6DAD64}"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4BF2D0C1-9851-4683-A51A-C144E91D5787}"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C480EFA7-3476-46C6-922B-58D6272A00B6}"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D2545544-3D9F-4036-BEEB-6751CC3D37CE}"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AD0C2AF7-F807-4089-8258-44CB787ACEDD}"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23896955-7318-4EA4-8417-13774811433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5E85914E-4EAB-4EF9-AE12-A0593483C6CF}"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8F9B71C3-312B-46C4-802A-055024B8F8E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8F6A795D-2570-4C8D-8B13-486ABB82C06F}"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8E30295B-8DE0-4D12-8806-3AAD0E98DFFC}"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F7CDF268-2D43-45CE-B135-D60DA8F07CBE}"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40F00EB5-18B3-4B0E-BB55-5E89F9193968}"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0C2E0FB6-C405-44C5-9E30-E8E765D87B3C}"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813FC37E-15D7-4063-A766-85100C3C6A8C}"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05EE6D26-070C-4AA8-9C61-09C73D5F138A}"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0B097037-2E89-4B4F-95AC-C6A046335AEE}"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1DB67757-EAFE-4D6E-905C-1B91891DF7F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4B5BE237-32F3-467C-BB3B-F3EBEFF8EA79}"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AC49E06C-C76C-4FA8-B342-B2FD0580B4E5}"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C2142C41-573E-40A5-8BD3-3C4035DD3110}"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87A2E691-7963-4DC6-B37C-BEF17AFD5D83}"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2FCC435F-B5E6-4755-8959-EE40926CFDCD}"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266A6C40-3DC7-4739-882B-627AD5B76E62}"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52D325C1-8C86-4EDE-8503-35ADD58A1CB0}"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0F427C98-5680-4C3B-8E80-F1CE5AC3832C}"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4D8F8CFB-01B0-43C7-94FF-57C95225D303}"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8A34C346-C53E-4486-957E-60A09D7727EB}"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C841028F-E32F-46B1-84F1-7C200C44FA42}"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D76D5D37-00C9-4F74-8C96-A58CAEAD2EE8}"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0AB6EAF3-F589-4052-96BC-E65CDFEA359E}"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00AA8387-F72F-4F18-BD7E-E06E042116E6}"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93B42DBA-23BB-4D8A-8082-B161F9B3101A}"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28D61D50-440C-4DB6-B761-5EE944760992}"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1268E359-09F2-4FEA-B802-91364579D721}"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2378683-6C72-4DA7-9E03-64EEC06B35D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B01DBB66-95F1-43CF-BE77-66B64C00F6EF}"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FC315792-B55C-4D17-B7CF-FB19AE6CD6AA}"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CA8E7DA3-EB3A-4D31-9E53-12551D75840B}"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39B9F6D6-ACFB-4595-99C1-368D96408CE1}"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E2B50AA6-B4DB-4FA7-A5B7-A97D4DB08E79}"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89BFF449-635B-42F7-997B-AD1FE12A7E4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03A1B866-9159-40A7-9557-E1177EA259FD}"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07E47F79-B6D6-4ABA-BDA4-2397AB1E7C84}"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ED3CE946-AE79-449D-BDD9-68C4C549E74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EB1F1525-C436-454B-A581-0ED126A99829}"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D69CFF3C-BF94-499C-AD9A-13668121836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71E2CE1-243B-48DB-81E1-EA0B1C678240}"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A1F87151-98D5-41F5-935C-0DB4593A13D7}"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4488C7DC-9F23-4302-8B27-2F5EEAB5D8A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F7ED4287-7260-492D-9AD1-B8D6B83B4FA1}"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2EEFFB02-9F17-4633-A4F6-C1FF7DDC82B3}"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F508673B-E619-4215-9FF7-C5B03E6338E7}"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532BA35C-4D82-4060-B37F-3E688FBD1B91}"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77C0AD1D-0C5B-414C-B5B1-D9FC8E87A8D1}"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8541E103-24D9-4652-AB37-B45A8D79E84C}"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24E10C39-DFB6-4F28-B10E-14CA10795290}"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88526775-A4F9-4409-A534-C0676CCE9B5C}"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6BDE5FF6-524F-4400-82AB-8FF738499054}"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FC095FE2-3270-447D-A1E5-925183C275A5}"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CC7E0AFA-3ABF-45A9-B783-A1C3B282BB4C}"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B4968D26-7831-418B-B4BA-BDB21CFE257B}"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E7371849-545E-47AD-A634-AA7506899BEE}"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1F57A29F-6E1F-4D39-BB8A-1357146CAA46}"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F2D585B3-7CE8-4C7D-91D7-6F3C64C74002}"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64F2B417-0B63-4BB9-9B63-E9F3B71AE653}"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E4326FE9-DEF5-454E-9486-15AF9CEAE045}"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B34275DE-1AAA-4151-8539-8442BFB49E70}"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586D80E4-B997-4BE8-AD75-64F32A485A5B}"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2579221F-004B-40C5-BD81-81168CED5966}"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A99CD106-34D7-482A-8868-2C45AF2F8E93}"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C0A74BEB-3216-4242-AFE8-48259F87D2BE}"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58B5D0B3-75C6-4979-A9EF-AB7E9728A4AE}"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FFDC289A-B33A-4D0F-9523-1194BA22CB4E}"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0F2CE9A6-AF0A-4FA2-B1D4-D06144626D09}"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3E51FB80-D274-4DD4-9F0C-628F3E97FB97}"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3970C04A-EB52-447C-86D5-FD9C21ADA2A9}"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8CD4D753-1B06-4C33-849A-8F5DFF8C4F5F}"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923DD3F1-07ED-41BF-ACF6-4461E7094356}"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4CE9659C-56FF-4C27-8666-972AA51210F7}"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0618577C-13D2-493E-ADCB-18EF5CA478F4}"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B2289E50-A9E4-4950-BDF3-23756AC41284}"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C4290462-99A6-4BCE-9D83-651FEB2B054E}"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52BCE3AA-FFDE-4EB9-8D7B-F343C7B9A9D6}"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5A8EF28A-AE49-4436-81C3-C77C65480A0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EB9E29CF-E6A8-4F73-971D-B121D350BE4C}"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6624FE3F-CA4B-469D-AE59-54F0D891C19F}"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3EE4E967-BED1-45DB-AE2A-30FCEFDC59AA}"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A037B40C-306F-4AA5-9D88-219C592A7B9C}"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2DA41660-10A1-4BC6-8DC2-DD8B6CA3158C}"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997CA6C6-E3F6-43AA-B91F-07327A5BDEBE}"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438DF447-C999-4559-8223-483982C729FC}"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915EF0F8-748E-48B6-8F9E-66E2B5CCB944}"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9088F62C-1554-41D4-B913-74991C13A843}"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A36048A7-AC47-45F0-88EE-C50EC08E642A}"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B0D0AC5C-B081-4E04-BADF-68BA4BBC2DE2}"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CBFAD4C7-B31C-4D4A-8B0B-B27C439B864D}"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946F9EFC-1C2D-48B2-BD8A-4DEF3DB94DD7}"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F161F1B2-051D-43FD-A887-B06F42AB770B}"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5B541583-AAE0-4D3A-8E8A-2F497F7939E7}"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232A39F4-0D8A-4AC9-8D4C-EFF5FDF07E6F}"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8D99B6BB-333D-4611-8F5D-A5BB4579A805}"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D8A45004-8911-41D4-A5B9-1CFDBFF3430C}"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10D3ADED-7AA4-4F89-91F2-795B3AF9DC37}"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8A0E8E4D-8D60-45A4-9A31-D5478AC1A744}"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584CEFE5-CC9F-4DEF-AA81-C07D66B9AB0D}"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579F568C-973D-4612-A06D-CDEC9F54F8CD}"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C5C07E3B-2B8D-43C0-8CC9-06DCAC0F5B04}"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E90EDDB4-96C3-4304-A0D1-0008008B3090}"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9E2FFA7C-59D4-4E4E-A83F-8A0E78CB19F8}"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346C85D5-9EF8-48F6-9389-1B659ADE036C}"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8D6EA219-E489-4E12-A462-0CC3073BB709}"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89227B0C-72AF-46D0-AA08-2C005C910C13}"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6DB6CCB9-48AF-4871-B2B6-57008BE3226F}"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80D7656E-C18F-4603-A02D-5A972F835CF2}"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53941DC2-CDB8-4A28-9F78-F4E4E8C2252B}"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C9258CA2-FDC3-4864-A90A-52E98F2619DB}"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53D3928-24FF-4D06-B9AA-529F289632F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3A61DFBC-9D57-47F8-8022-3C6CB098CB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E52FFDC-2190-4696-B168-CD6CB8C570B1}"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454B918E-C69D-4B55-AEAA-9A827B59D8A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C1390FF9-9056-4641-B465-3EFC5AFF5CF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B2D0C3B0-8072-4E1D-8D6C-2F7126F34C5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49020DE-0E1D-416B-AA83-CF9AE6BE344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68CE486A-5EE2-4BE1-9163-D2A3C92F4A5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408B1EED-869C-4D9C-9551-7565C704FE7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BA06D6F7-BFC1-4E91-A23F-6178D93D784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5FB6058A-79C4-460F-B0EB-519861A5F05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5FE22DD6-E206-4429-A2EF-FB65A178B84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93BD8194-9E2C-4BA0-9836-05114B3325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F960636-F757-4329-B93B-3930395474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1C86837-78DB-4E98-A645-B214C34AFFB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9E531741-961C-42F4-A165-BBADB61E7A5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7A0EB1DA-2614-4393-95DD-C4AFB8BB7D9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540F2E30-84C9-4835-88BA-7DCEA5BBF57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BFA3546A-7F32-4CAF-8AEE-0973B58BD98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2A571F2D-280F-459F-984C-1180ABCBE1D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D68A1D0-56EC-462F-B6A4-64B0D41E61F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3945D7D6-A6AC-497E-A6BB-92D2A776EA2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A1F7D701-9A8B-489C-95F6-A6FF60BFF73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1987BB74-B2D8-45B9-BD28-B43596A57F9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AD959BFB-A1F6-409D-A1E7-55563826EF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C81DA01-32A7-4D2D-B73E-488444DA574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3484E54E-F0A9-4E70-866D-493C3497CE8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6BCD957F-201A-4954-AB0E-F4A246989EF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27950B9D-FD13-4FFE-98DC-5E29E9100DB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1681FF02-ACF4-4403-96C4-0FFE73D2D61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D6F7F452-F3C9-4F84-8AD4-377A8F7595C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66823B25-31A4-4C3B-98DC-969A82F0126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6A5F426D-8CD0-418F-9150-0D2D0D90EDB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90C5D87-85E1-4920-A455-5961DEFC235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52DAE8ED-CD38-47E7-8200-D69DA63DBE2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EDBC15D9-842F-4524-B2AE-6ECEB9430F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BDFA1E7-4693-4AA0-9139-DD54380EE80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8E0850BA-DC09-40F0-9EC7-8560C8D969D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A3996AF8-FD28-4ADF-A38B-34451FF193B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A9575DEE-03DE-441E-A461-F1A2807682E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1BC6375E-5CA1-4723-8714-EA780BF0FCE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D87FB6FB-49EB-46D6-9DD0-2C462732F75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7AC3CFB1-BEFB-49B6-80D0-762AD3B6245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AAB1777D-6168-41ED-BDE3-819E734E865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EA4AA006-FF98-4C07-9A8C-059E0E11030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539249B2-1E15-4D25-9CFA-4EFDC43524A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00EE139-DCB6-4734-A726-E6C6384D5B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E2DB14E-558B-49F1-B75D-97FD9C4EE78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11EA20CA-95DD-4E47-93DA-09F56C20C61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3500D87C-620A-4D02-A01E-652DE095548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235CAE29-C704-4540-B3A8-DE5AF9D4304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93FDED3D-37B5-4AC0-8555-306121255C1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B62962DE-12F4-4A97-B5E6-88539B50843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236A4B99-9814-4453-B622-16CB75E7FB7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52DBDCDA-64B8-48CC-99DD-3BEC3EC16FD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B3F4395-64FA-4027-8FBA-2648FD07D9D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CC2165D7-3C90-458A-B36A-4BF3F4C2B48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C5FDAB7A-3F4D-45C1-8C49-8EFBCD456F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92FDC37-6C18-4372-9BE1-1D59A294AC65}"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9D231B12-2A84-4B9C-9E5B-FE80A983C21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E300727-50F6-4F5E-AC84-9874EA52542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9BDABCC9-B431-4833-BEB4-3B77F612E4E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0E893722-48DA-47F6-B65D-D4762A1E1CD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72B9FDB5-2F14-4AD6-B640-DB5EA8D2E74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79E6EC5A-E5E2-4FD3-B792-E6C9549CF7B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7709B2C1-A10C-47AF-B0F3-0410CC7644F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6285A75C-4C4B-42D9-8CD3-DA34B7869B8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A701FEB3-C148-4F92-B99E-42DE8B80A09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6D0BF10A-B6D3-4640-BDA4-D0629618D86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013C1B-B8A8-40A1-B180-E77C3C968D7B}"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70A2CB82-435E-48FF-89DA-A5D60D3E164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B6EF6619-A68A-47C7-A231-A86CA8A50BE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31908D73-D86D-4DA6-B3AB-A7F0D42AE17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71253FC8-B443-442A-88DC-B5510E9CE42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95BAB933-DE49-48A3-A353-AEBC25049F3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B712F369-FC49-4444-9110-94E4E1A001E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7DE4DE1B-B81B-43E8-B831-E2CC7478DE5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1B96B477-4C87-42B9-8F9D-01DD7536313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C3854255-64D6-48D7-BCD5-E2BA068824E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B175350A-9A0E-48AD-A574-2F05E323DE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439A52-AD76-4F78-A61A-2B8037D93F5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DBA6F91C-BB3F-49DD-873F-4C6F7A1E32A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02ACE490-41B0-4924-BCE8-13CCA843A92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D230B4FF-34E2-4D30-929E-4EBA3436B68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9E1D3710-4F32-439E-9AD1-BE6DFCB6AC8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42B4C978-33DC-4A9B-996D-8A2CC9FC8D3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B2680B9-C342-4578-9184-1BD8BFE52E0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3EDF758C-FAB9-4B2D-BEB4-61223668BD1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8125EC6B-E178-49E0-8C82-A39E0C2C899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D55F0CD8-34C9-4919-969E-AD5C613EA10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877991E9-AFE2-45D9-B78E-2C5DC21728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AA3E0F-FA4D-42EA-B96C-795A65FC80C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2B075A3A-B4F3-495D-A6D3-AFE7F53D357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CEF95E48-A68E-4870-B93C-B2BA92D1854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EC705895-6FA2-4C6D-B027-3C944128940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DE2DD4D4-0A3F-461A-BE2B-154B1FA4F13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77B9EEE0-FF91-40E4-8930-2B9AB7DFD30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4B182919-DF94-4B79-99F7-015C8F99AE6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90853DB4-4BDF-4AB7-9F28-C78F5EF6436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AE8584A-8406-4BD3-8EB4-DB2E7C05A698}"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ECEFB49A-A8BE-44CA-A240-998AA25AADA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5B5EF0C2-6382-486D-AA4B-E7CA418E2D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CC4C32A-1E86-40D8-917D-5AD4DE40F7A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0078A5CA-84A3-4EB2-9EDF-9BD94275716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2F02CDCD-E390-470A-BB93-B89C9613730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E75680EC-459C-4F86-85C0-0F1E60FCF2F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4383EC5F-1260-4A28-B471-F9578B49F27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036FD3DA-203B-49E9-B6D7-64575B0B017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745D3061-98ED-4DF2-B8AB-5ADAAE50644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765C9FE0-AF5A-4379-85D4-06743212310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8CA2F916-4B49-43DF-8FD5-CED72F39266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86B66FC4-8926-46C3-BACF-F6260E50C075}"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C9D4E15-78EB-4E7A-9F6B-5172AE97A8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2D1FC7-A96D-4515-AA6B-B45BE576BE0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213AE709-FCB0-4DF9-A3E3-F680FDCC075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003ACAE6-C40F-48F4-9A4F-38BED892049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4F49A09E-1660-4C47-A8C3-BB0DCC532BB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A33A0EBD-3CF3-4218-9CCF-8D558689A47D}"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51E39789-16FA-4832-96A5-908B5EAA07C0}"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B379CFE8-8225-4FFB-85E3-CD173F765AA0}"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C46E6CE5-EDA4-4025-8834-9C09A1268931}"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93A4EEBD-2FA1-4F37-92A9-DBD2C6B735A4}"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70D9B3DB-AB30-417F-A779-DB412A9E1C6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C5410B08-AC04-420A-B0C6-20FA13234A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CEE7989-C080-4A40-AC2E-77C5D0BF21F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3CB22D5-A379-405B-A0D9-BDAD61B25D7F}"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A23834ED-5402-4E71-BD51-DBE98183F3B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9032F35F-0589-49B2-9681-7B7E1CDF5DB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55E1DE24-51E7-4FEF-A620-AAC3465DEC2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F54BA2EE-9D8C-4D06-AEF9-D50A01B72AC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4A5FD8C0-DAC1-4A24-8A8F-BAF6D2460286}"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193F794F-7F31-41E2-BACC-E45683CF67DA}"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0103E4C8-7385-438F-886B-9C2E0840FCBC}"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404C872C-4460-4495-A26C-7589CF7259C5}"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94C0558A-9120-4838-B3FA-0D8791829273}"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5FBF1ACE-B85A-4FBF-997E-403D500AA9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349990B-AAA3-489E-955D-79195B43EB51}"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D695B53C-3EB0-4A44-BDDF-698FE181FF16}"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918BA4E6-F2BC-4774-B4AB-07C2F88430F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007F150C-C2B3-471B-AD5A-B9B3A6E236A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CD404EA-5BA2-45F7-ADA7-20D1AEBACD20}"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8ECE26DC-43A4-4350-A5B2-0A4061CEAB9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3BDAE5A0-7EDA-41C3-9ECD-62854F442C9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73479829-ADB6-4DE6-BA92-473F46A4CA25}"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0ACE94C3-DE01-49DD-8B32-047D8ACC7D0E}"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C23B4EB6-76E4-43B1-8454-D5B48E6A35A9}"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E3DB9D7A-D3E3-4AF6-920E-7FCC29DA74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4A9BDE1-FF8D-49C3-A36F-11CC1457B1E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3716569E-5073-47EE-B129-566A4C8890CC}"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68F9C6A3-5C82-4D1E-A72C-278D7A5B3DEC}"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74F614FB-A977-4C1B-87C8-EFF96108D2CB}"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6AE81E70-441B-4527-8393-3C47F6077533}"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293045C1-3230-45CA-8942-8FBD94E8EAB4}"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9B9872CF-CC5F-4828-AE29-38A2D7ECECE7}"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C60B90D0-41EB-42DA-8562-C353CD226F4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6F616491-E39F-45D4-9CD5-4177595CC09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5AC6ABED-E3DF-46E6-B405-1E4DC531EEB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6480BCA2-2F68-4894-A70B-0A48F13764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B7F6057-0238-4380-ABC8-51E4A7B40F2D}"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3B5B6183-F1B1-43DB-9BF9-1C35208A1D0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3B2D66AB-F047-41DF-89DE-B2B3EB748212}"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CB923D12-D47A-45C0-898F-8B0AC61D45AA}"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A314B821-18F8-4556-A760-7CC36DF16F11}"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F3DF9DEB-2922-48BC-B1B2-C931D0B3895A}"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E8CC0C1C-8E12-47EB-A1C9-2170FA1A039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42716597-B763-45B7-B09E-B965AF54084E}"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889804B-956C-47A6-B7B8-DA54C754578F}"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19F2A2A6-0ED0-4FA7-B3FA-C62E8379A3B2}"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ACCABBA6-CACF-4673-A295-77EA07EDDC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7B20AB9-E01E-4493-89D0-7B545202097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0D9A78FB-C960-4B4F-BF00-35AE15A4F1BE}"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12B7A6C7-AB31-4801-BB13-543A0B15AB7D}"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DC871448-BF89-480B-9CF4-7E6EA70D0E1E}"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2DD0C4B3-E038-4C85-B6FD-CF92AE6AE4C3}"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6E5C5B2-B711-4792-848F-2CE6EDCD7F3E}"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34339934-B11F-41FD-973F-D581DEFEA096}"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85C4D46A-FA8E-486E-A951-BFADEFBBF37F}"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1482EB9C-A2FE-43AB-887D-6A41D968139D}"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D41E46FA-6BDE-45AB-A3D1-EE4382624D2A}"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32D5DF91-FDE8-4530-8072-12F4CDCDBD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ED5019B4-350B-451B-A5D4-62379CE3502D}"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DA156261-85E0-4AFC-9905-81D7C22EF481}"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5B67BC89-C0F1-41AB-9EF9-0DA23C9F9582}"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BD1DC530-AE54-4288-92A6-429A8675805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7802E320-65EE-437F-92E2-9612094D1A8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8A917633-2908-4C6C-89A2-51F05C72784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E01B80F8-9A54-418F-B185-2C850944EA8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2F803D3E-EE2D-4D28-98B1-663EEE7B6BA8}"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12923A77-D7CC-46A8-92CB-E7D3BD1FE74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D941BF59-527C-4BE6-9033-21B0367168E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26EFE65A-EF77-4B24-9FDF-8FFC3E2017E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35AFE22-D4E3-4EE9-AB7E-7EBF512AD06E}"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DFB8EF85-4016-4F66-BD4F-9ADBC79D1C8B}"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215226AA-CC9D-420C-8CDB-C581E6DB203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C47E24B8-3674-4F52-8D24-2538AAA0F09F}"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8110A066-C85B-44A9-AA0B-F6B9E641D73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85B193D8-2C58-4005-B9E4-2DD5D1C3EF3E}"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60DA0555-EAE1-4EDB-96DC-22E906BC989F}"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EDB1632C-7292-4B3F-895B-D0413F0C7DB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6AC7F561-FBF5-48A4-A8B7-DDB320B59666}"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2455F3F4-83F9-4481-B834-3BE5BB6058AF}"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625595E0-965F-4548-966A-706369B61C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F8FEF0-82AB-45A7-9391-38FA9AED0AB8}"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E7708210-A5CD-4EDB-8134-333D56E5BAC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8733956B-7AC3-4DB7-A4DB-622912BDAD18}"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E938B71D-F9E3-4869-8B65-EEBCED980515}"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251645A9-E890-4437-A96E-7620B302D64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B3218D6A-E7AA-4319-B06E-333D41765022}"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758E73A6-795A-4B5B-B80A-B3FFD5E9BB3B}"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C3F38205-4606-4CE5-B270-B966AD6250C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661E84D0-2DB1-4AF7-A85B-A0084595518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D8B9B31D-AADD-448D-95B1-16853B7EA74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C90122AA-2B5F-4C90-88C3-0D61309E019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147D6A9-0289-4085-AA04-5616554FB26A}"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7635621F-CD28-4091-8FB3-B5AC401D8A2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5EBE4CBA-F030-4B24-BAA6-546EB5B547E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614EDFB0-2D9C-44DE-89E5-FDFD9CD12EA2}"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E8091A1A-CD7A-441D-94E9-45D9853FAD4B}"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CB395375-C7FC-4A0D-ABA7-561563786156}"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2080A05F-03F5-44C9-81B9-D96D9351810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212DF033-89A9-493B-8721-1CE095D195CA}"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A99E80DA-ACA6-42B4-B8F3-104EE6B19A6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4EF1D1B2-003C-4FB7-B950-DD0ED81C7B92}"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69EFF40C-2284-4DAF-AA82-9704ED32200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2194288-AEB3-4930-B0A8-48843DB22E9B}"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26B2A14B-17AF-452F-9AA4-AE2D42AC3AC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07A3E592-CAA5-4A7C-A31C-8E83ED368A1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FA37E51F-D2D7-489D-AB8D-E3DB18DEEB09}"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263FF648-4573-474A-9BE8-85AC4599953A}"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7E436F6B-CDA7-4793-83BB-1D1335D5FF9A}"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C8D424AE-BE5F-4E74-87B2-BBA91D2B6D1F}"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D88B8B89-B107-4B2B-BF5D-ED1C4E723FD2}"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83D9EBAD-954A-49D8-994B-EFCBE23B32F6}"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3F4E4ECE-DABA-4E1F-B21E-389E639B1A94}"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57632D75-778D-4A15-B08A-43D4BDE067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E266B13-2DC0-434F-B828-7B6812F624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D4FB23C-F3F6-466D-A2CE-E2FDBA7FD126}"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888C967F-490A-4784-BAB9-61A3785B313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DF5F3E46-D90D-4E3B-AAFF-F15DC4361C3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77406CFE-5E62-445C-9B3D-2EB4DD2B8A7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1B4893ED-1D98-463D-97CF-AD5A08786008}"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9C02AC00-1D56-4D02-B1C7-1F0802EF3BF1}"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7B6FFCCB-8C18-4BE8-BDD1-C80B54C26A7B}"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193441DE-4B60-458D-9D76-E29819753FCF}"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6965AB47-8CC4-4704-B3FD-9717CF2D280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879CBD47-A145-49D7-8A03-6002EA1AC521}"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EC5F6D13-7491-42B3-BBB5-C8AC79B771A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F3ACFCE7-BE5C-468C-8C25-03CB80C66624}"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B7411407-7975-476B-9131-8CD6CCF7272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F808B261-CBC8-4619-934C-150169C5AC48}"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7859BECB-5A54-4A03-9AD3-11D51B76559A}"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ADBBB3E3-AE10-4FFF-96D8-E4B6A3E16411}"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C7C4240E-227A-4AEC-AA4A-6F4A6D24929C}"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CDD80DFE-63F5-4F01-939B-010EAB108F0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5F36A1F2-F5EB-48F0-B99E-59FFC930251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4C9A1E93-AB13-48ED-AC6C-BFEDFEBEFAB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5ED8CB79-4FF7-4846-A773-681F36DA6D42}"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4C44A38E-1962-4284-AF15-F2E0566381D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BED845B8-3357-461D-9F6A-7BC8FE0019EA}"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FDA09C2F-1D95-4937-B3FD-1655422D800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7380694-60C8-425F-9384-C4E9DC62F8EE}"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2E16ADD8-488A-455E-9E60-D2C012C1C8DD}"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452DC1BA-D859-42F0-BB77-987B5368EE06}"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7F005B40-AE5E-4AE0-87CF-65C74AC9905E}"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B7F59E59-3A83-469F-B829-1D92DB3726B6}"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0FAEDCEA-BD77-4AAB-B482-6B039DBC8AC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C0FE06AF-9F8F-48A8-B98D-AED6AE6E4244}"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59910698-FA1B-440E-8B2B-A225CE1F4D8A}"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5DF1DA19-0815-421B-8A87-4ED14EC52E3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3D77FD0-9AEA-404C-94D8-288B22FE982F}"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4FF42FEC-B3F5-4E5E-8E5A-BD6C4A4971E7}"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9CF82872-7CEC-4554-A8C6-47739AFF9192}"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DF53DB76-FBD9-4D3F-AB84-B27126501E6B}"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3B2293F-1300-4355-BF01-1F4E5C61D789}"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75E3924-6771-48A3-AF9C-6085141A1A66}"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F5107F2-44F7-41F8-B56A-4F8E77F88805}"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B55A5B4C-11C5-40AD-A02B-90F1C04EA93E}"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F4C23440-D8B5-4E70-B269-404AAA60AC73}"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4EEA226D-4BAA-40F3-BC36-8E9561341040}"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1150A93-C12A-47EE-881B-8FBF3AB27A6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E1D42D1-8465-49A6-BDE7-D79AD55318DA}"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9F7D11E-E51E-469F-8DDC-91D1DFBC8FA2}"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E89A0D8-89D5-41B8-9791-7E76065D7665}"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DF44BB4-8CD2-400A-BC20-FBF7336E5182}"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C1709ED-1A2F-4BA1-8769-E05E7D9A66C6}"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783F8770-F32C-44E8-AF6D-67495BB91B1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A3E83CA4-9D56-43A0-A879-346D17D9BB8F}"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BE8658A6-DA07-4AE1-9067-76D51C67345C}"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B611AFC7-FC6E-45C2-947C-3892B648A188}"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D077E8D7-E68C-4CB9-8379-CBF187725CE2}"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AA73285C-197C-4AB7-B0D5-8F1345A26DA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2CF2599-853D-4C47-9A72-FD1B68D25F40}"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1C33E2AB-629B-4ABC-8D80-3617CAB544D6}"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F68EFAF6-4F95-4956-9031-A761EEE12B7C}"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CD40C9B9-79A3-4EB0-BEE5-0C8C74CD66E5}"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97078D93-9430-449D-A1E6-BE0DC202905B}"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08C9EE54-8FDE-4639-8E71-5B019D27D37C}"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9C7EAB25-E17A-4A9F-9822-22EAB41A3A00}"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AD1591AC-9711-4476-B7E1-7F53E0C19908}"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5B39686A-2390-4C2C-8929-F6AC411932F0}"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5F2DF3FD-1A65-4C1D-B9D5-1FD2087D008C}"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F2E85F94-9697-41A0-B18A-64230E9B70D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9D623D9-645A-4F05-830E-ED87E4DEFDBF}"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B1AEF24F-5B4B-49E0-B38C-4BE3A477ECC2}"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14977989-233F-410E-8F1C-0A6611C4D512}"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EF857674-7C73-4EA3-9F27-7D5CD8863A67}"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B8184EAA-5F4D-4810-BF14-07F7CC44E889}"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E110A5AD-C82F-4EDB-9632-378CEFCA5AD9}"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6E60D0FC-BB78-40C3-9D38-C318487121B5}"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42073B2A-0F46-49B5-838E-D151890B9B7D}"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E5A99148-346E-4CEA-BF78-85DCFC628D5B}"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2185E4AE-CA2B-4D05-9CFF-F725A1504975}"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99059248-9D1B-4EE7-B372-A6E50421057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83D8AF48-0B1A-4A0A-A5B5-C07B10E652B4}"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F824A0B9-E5D5-4885-9842-0EF8B0920D7E}"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2EFB3CC0-060C-4463-B3F7-45CD2DF85E8B}"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93A1AE25-D0E3-499C-9B4E-72409D542DD0}"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FAC586EA-D266-439E-9DE1-020DE11DE551}"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2F42F5C6-38DB-4589-9C3E-5DF8843F106E}"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5FD412B-D830-4743-87F2-5443489BD8C6}"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53C0B47-D177-4D21-BBA6-5AD7EAFF055E}"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EE69A1D8-5F3E-426D-B385-9E056DF387D1}"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1C5A0622-53FA-431C-8ABD-907F0D74A361}"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B838D258-89CC-434D-8693-B32E9FDCA00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8150B8F-67D6-45DE-AE6C-2FBAD7920096}"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5BAADB68-1A96-4E23-9AC3-4AD5A080B8EC}"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7490628-9F85-456E-8AA0-ED47445CDC5D}"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6DB5A8CD-842D-4D7E-9FA2-719C4117EF7F}"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7EA55D86-2419-4152-B194-565F110F84E7}"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C34DDFD9-3DF6-490C-9876-BE23B7532490}"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92A0F86D-6D60-418C-9655-0B1416783B06}"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4A4B93F6-C93C-41F1-9B0C-C4E68A33E5E6}"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EC6A4285-3CEA-410B-A669-BE907D7DE9CA}"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D9EA75B5-989D-489F-95F8-9F99F660365C}"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BA3DB9C4-FCD3-410D-B33C-55D9C98778E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66F1C59-0D22-44EB-9749-C3563C17565A}"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12B2008E-A87D-416B-9990-6DC3106462A3}"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35ED4163-C00F-418F-9598-8708EC395F23}"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A68B7BEE-0BA6-4F42-8589-6CBEC6BC4B0A}"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80A208C7-4171-4EF1-86D1-2A71A2489B0C}"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DFC6EC95-C961-4849-BE45-944FF2D8842E}"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DC4969D0-AFDE-4182-B58A-E7D4124AD176}"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0AA4A60A-C1F5-4C0E-BD95-4790CB585DF1}"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11C87FA7-20B0-4BA8-ADA6-F7E932A57782}"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FDDE86A6-B44B-4E11-BF65-3E0C9A165FEA}"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108855AF-8124-42E2-937B-9090BFF901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6EFDBB2-90FC-4E15-B8CA-C2FADFB6CB5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D23AB81-80B6-488C-83CF-DBA80A13A0C4}"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A93247C8-E482-4872-8828-759637A3535E}"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43EC43AB-A76A-49E6-A2F5-871140D243B4}"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44C6041B-4CD4-40D1-BDD9-20715091E684}"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AEED3775-6502-4655-8870-8968686AA883}"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6B9EBC2E-ABAC-4D64-B0F6-B4B5583F115C}"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801511D-7817-4949-847E-B452D17812A2}"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432A85B3-628F-4DA2-B42B-6AD2C3A6C499}"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9BED491F-636B-47C8-844D-49CA8C85E77B}"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C4DEC5DC-580A-4325-8157-6DAC6732FDBF}"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F6214692-86A9-4086-B14F-0AB316C9D1D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D6BFEBE-32EA-4738-9EC5-DC4BEA8EA0BA}"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530D0648-3A25-469A-A6AF-E77F723C2773}"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FA10933D-09A9-4238-8870-A8A3FDB8D2EE}"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19303BF0-1CF1-40DB-A189-57F17CBBA597}"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F0BC3281-E3E4-4347-8963-F5BA7B9F9631}"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D7C83D50-2C16-4BDE-A0C9-358717D6A1C7}"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13EA01FE-9706-4329-95FD-A43D061030B6}"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F86E3BB2-D834-45A8-88FD-469F5955DE08}"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E5E08381-14D4-41C9-8216-7D99F78177A1}"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602670B8-CE0D-43C4-839F-284FC41C572A}"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91CED3E1-7647-448E-96EC-A6E13C5BF06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9D1DA13-48A9-4260-9115-7723C5C417DD}"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0F4EC044-71E7-4CA6-A003-56C16D64076E}"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B4373F22-BF9F-455D-9957-7D0D05141C4A}"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B7D0FCD0-87DF-4EA8-B94F-50DBE6403A7D}"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F47B624E-AE77-4CE2-9014-9EE7129A076D}"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E924FD91-4B65-4856-B8B4-82BE9035573E}"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497AE392-A130-4A85-9D97-3B697FBD8FA4}"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381D9A87-AE75-4F0F-90FE-2EAED1278DCE}"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84CE7E45-54A7-48A6-B8A4-38709D9710BE}"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8AE1E688-D900-4398-84B6-161815FECA15}"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71C1BAE3-D157-4832-ACA8-A3D3804126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AE3626D-24A9-469F-A7C0-3236C72A922A}"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CE5E9701-84B3-4CAC-803B-709B2BD94DC3}"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D0E7D75B-356E-4F6E-8B5B-B7CA934F4209}"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2109C81F-A9D0-4B09-B174-6A3CFA8B4EE5}"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32106760-AA0E-486F-A2D7-78A49BD504F0}"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71DF95A6-48B9-4706-9758-3A8BA729299A}"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E88C0AB6-F1AB-4BBE-890B-ECDD6A410808}"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B29266E5-D092-4736-9D7E-4D2D1206EFDA}"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9DDD2C25-5873-4C07-9BF9-810E40E1EA31}"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C683474A-B144-4506-A3D4-EEE7DA1A2613}"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DE2B61DF-A49C-4DDB-ABFC-BFE3AEB4F37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B0884A8-764F-4475-9B08-AFCE1315DBD8}"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0EA5F901-590A-4DA6-A223-E2B6FB1431DA}"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4D27358A-989D-4B41-8E74-DF8F19368BAC}"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C2F5D5FC-606B-49D6-8041-F8B7A06A3055}"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F8A9C7D0-12EF-4C4E-8FE3-ACCA197CDFFB}"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E2EBAB75-3EA2-4C03-ADEB-3CF250461D1A}"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DDBA0830-1861-4540-B311-C0D3D2E7F305}"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A15DE9CA-91A5-4E86-9D4F-F74C992E24D7}"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B162F35C-38E9-48E5-84B1-B913F0B9FF3C}"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BAD4A4FF-89EE-449B-9C2F-0A75682F2395}"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D3EA5510-F92A-4AB8-A9CC-75E1FD4CC3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BC47FC1-E2C5-488A-B1AE-3FE5C858853F}"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93CEEE5C-8C81-47C5-B9BC-D7EBCBAF1396}"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A5E29227-DF2D-4FED-99C3-24FC5FFE6EA5}"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974C28C5-F3F1-491D-A857-67D7DC79F39F}"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1915746D-1374-4274-A183-42AAB5C6FD1A}"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886F0299-899F-42D6-8A03-B7BA0A71F533}"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3D794BCD-C8A5-4444-87FF-D838AC5CA7C6}"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DC8D8292-3ABC-432F-A201-5FAC26229287}"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84845D51-E85A-4C67-A996-DF39B22BB05F}"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D0748D2D-963D-462A-8640-188C9783EF6D}"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8ABBBBFC-12F6-4042-822A-281963E9194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F3A25B3-768A-444E-A736-D9FAB83AF1DA}"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9C81EBEC-0C73-49F8-93CC-F36A35C00449}"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BF383DE3-3E7D-4FA7-A8A2-05F577CAD324}"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36603419-14D4-4937-9AAA-48E74214E496}"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506DAC64-6F74-4424-AE7B-855B477A01FC}"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340CE22D-0C14-4178-8705-174D957CB35C}"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1CB20271-0DBF-4C12-91C3-534E79ABC897}"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AB6BB1B3-9CFE-410D-AB7E-6C8BBE80E774}"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D832F86E-9BAC-424A-9E1C-E815718B5D36}"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DEB66106-79B4-4AC4-BCF6-979309FC3DF1}"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C0BFD32A-3AB2-46DA-A5BC-F39A4C56B31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14B2BBF-C23D-488E-BC5A-E8C82B796857}"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0B4F7E67-8B06-4DA5-86CE-36C7C1F42926}"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DF58BBFF-153E-4D2A-84CE-C4BB300CA25C}"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5376791-FA84-4F8F-8CAB-1AC27001B563}"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C6EE60FB-E85A-43AB-94C8-6779F040540A}"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081681C9-1B16-4F72-B646-0F3374C700AD}"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9B4FBB25-C64D-4283-86BF-C4636833E0A1}"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72F715C8-308A-4C48-BE2F-DD86AEB30A88}"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5379A508-10B7-481A-9A93-D4903B6AD942}"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555986DA-5803-4F4E-BBC1-82F7F6748D8D}"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2E9B782E-B55F-4D28-8410-3884333703F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AECF76C-CF0B-4812-A968-74B18A094E30}"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9B28B98E-EFF1-45CD-BA2C-FAEDDAF288CC}"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76A30EC6-AEB0-405D-9BFB-54BCF875C1DC}"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A05A5954-23E4-4D89-9E03-41BC35011409}"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559E0A41-305C-49B3-8805-EA26474A0991}"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1C7891F4-73C6-4D68-9B96-0F5CB7CBF5E2}"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8DD229C1-5585-43CF-8FC3-115E0665773C}"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4DB0D9C0-D880-4E40-AFC3-C3E7380D5C6E}"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35E7D3FC-4723-4A75-A7F7-5ED5FA452457}"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1279BD67-D1A0-4ACA-BFEB-2285B22DFB20}"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4A96EEAB-60D9-43AC-B5E0-21F642DAE8C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042015DF-A476-483D-A70E-2FB2D159E6F4}"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1787A0FF-96D7-4323-BBA9-8DAC6E87CD0E}"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DBD71A48-D252-4C61-BB30-D6A51396447E}"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98EDBB73-9C4F-4CC6-9658-79CA49972829}"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D324FD9F-259D-4395-A077-697C7DC6DD80}"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486697B8-68E6-4FF4-AF4F-BDE36C8E26DF}"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B7E8B828-F31C-49AB-862F-177C2164967E}"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46B8B8E2-0933-4C4D-889B-3259401B4C30}"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CF9009DB-3964-40F3-993E-13BC85350F2A}"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7FF3FC41-8506-410D-B992-E72165488AED}"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6C51364A-C22D-415D-9342-631D40C7AD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896FBD0-ACED-42A1-AE8E-BAEA5502F08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B57E9084-55FB-4F18-AC92-EBD3A8E04728}"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AA059AE6-9396-4D92-AC81-BBE26166280B}"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7C453F19-5FA2-400D-A47C-7F0697129E3B}"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99906820-9474-4CEA-91DB-6A8E3A4296AE}"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09388ABB-DC40-4C60-85FD-BD5FFFDCB8F4}"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F48F53F2-7D70-4530-876B-E71D916933D2}"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FA79B44E-6A7F-466D-B287-3C747A942036}"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DD06B3E0-7724-4EA9-90BA-A92E30AE2664}"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89F21F59-B701-4C8A-B6DB-581CC672FC49}"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B7E2B1FA-05EC-45E5-93E5-0B284DDE41B5}"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F898083E-4182-4099-A8DE-63F8DD1849A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7C307FC-74DE-4F81-89D0-33610FA3C282}"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DA7FCF84-EF48-467E-9326-946A8983BA9F}"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AD64DDDF-1F8C-440E-8DBB-6F4B3A039F76}"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A3F9359A-6900-4054-B43E-991D9D2931A4}"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0D04044A-54D8-403E-8DFC-FF99F5A69A5C}"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13BC6DA7-B812-4652-A472-868AB46714B4}"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34BFBAF0-9CB6-461A-ACC8-97F762BC5FF2}"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158646D1-B8CB-458A-BBED-2E1EF5A36EF8}"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9DD17885-2D5A-4CFE-A9F6-38DDEAB22F77}"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6DD7019A-519A-4BDD-9C62-41FDBBD7136C}"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0066C8B0-0886-4279-9BC8-AD654C98AFB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E9AD497-B0B2-4696-97A1-17A9313EC439}"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5DF4F412-2100-4F31-8ADF-4FE274167191}"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E54409B6-E4F8-46D2-B986-4DC07331F6A3}"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F1B0DFA6-41F3-4FB3-8A1C-E58121356F19}"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2697AE80-28FF-4F44-87B9-D18DD7CCC42D}"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47BD0E51-551A-4F36-9D62-F1AF5EA29C2F}"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733F91A5-528B-47B9-95A8-8B6B0B7E399B}"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3169A759-D992-49B5-8317-357105DAA322}"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CDF5AFBA-B64E-4065-BD3F-A41899E84FC6}"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9151DFF6-7D30-40CB-982B-7FEFC23A2688}"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1292E0C4-5C83-42F1-926C-69728D9987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035137C-3769-46FB-A3B8-7AB8CBEFA7B4}"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6E0DC705-1385-45F1-B497-E8D6D9E56FAF}"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76865051-D3D4-4AB3-BEF2-5A1E805371B8}"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63F02254-65E8-44D7-AC4A-A56F0EBDFBEA}"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0BB59F0B-4522-4C21-AF70-1D7FD31F7BB6}"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55B1C9B3-6B6E-437D-BD13-AE2CD8FC6953}"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BA70EC7F-7FCC-435A-98EF-AE91509A3563}"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D0A62D40-D64C-47C2-8B55-9889864B9DEC}"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2233C201-E651-4E13-8D6C-15E60B3337BC}"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52A4E682-A5DC-47A1-8277-6EC58CFEADEE}"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8680F31E-66C7-48E1-A300-146A0176311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D196BD7-7048-4182-8CD1-DE6398CBFD4E}"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3EEFF0AB-8C06-4881-AF74-862E8A4FEEB7}"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A08AD5AD-CE5D-47D2-B278-495E44860B32}"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8C0FCD7C-6234-49B3-8CDD-0167F80F38F5}"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1BC6EE0C-5803-4408-90B7-2E477F037764}"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F71E25F6-0B63-44BA-86D4-A0A4EB4D080B}"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929322AD-A1F6-408F-80C4-9C277F43E86C}"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7AE83F59-1FED-4F70-9BAD-7BB1562654B8}"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4F5FE6F9-C30A-48AC-9DEC-AA5758FC7728}"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583B817A-16C6-4697-98B0-34B0C58659C8}"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934F6594-2EF0-4442-BFB8-2A6FAF7ED69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93F8BAC8-3043-404F-8B50-22B9A250EB4F}"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96A90C2D-82B3-401E-A606-5C25D5542CC5}"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B52A4BFE-BA0D-4DF9-B3D0-3DC5A366E29F}"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007DD528-AB42-4833-8750-663B4612BF25}"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48ECA755-436E-49CC-9453-1DAA88E4476A}"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5CD732BE-70D7-4C68-A1F4-C3AB39DAEC40}"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9E71315-2ADE-421F-9375-49ABAB9F8E0F}"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CE777DBB-437D-4DE9-9209-061C5BD06183}"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769C3D1E-A2E5-46D8-9C0D-822A657FABF9}"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D49EEC95-96B9-4809-9215-B65EE8260998}"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E7E59EC6-029C-481E-A578-1C11C04B1DC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79016ADF-AEBA-4989-8012-AFA50C07CB38}"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C4BB56E4-DC48-454B-81FE-9227E4E533CE}"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E5892C58-3B63-449E-9005-DCEC82CF7AAA}"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24630E53-B8AE-4919-BCAE-3A6814FD533B}"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8C31F724-D4A3-4A7E-9786-243E1CDE0775}"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8332DAD4-0493-4E51-BF8D-3CA4981F73E3}"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EEB6D4E5-A6E7-4881-ACF2-4DD7ACF41DE1}"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685A3BB9-666D-433D-81C3-62DC18351B51}"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09F21A7A-0275-4293-B736-3533B1308564}"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51E9A955-5B47-4A0C-B2B4-7B1239FBB30D}"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1A509376-5C3A-4742-93B6-1A9D24B715C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3E071CB-63AE-4DC6-A578-720FB2D8DE48}"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00E79D6D-27CD-4837-B085-86215AE5D0E0}"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2D1FC0D2-9104-4B3C-95C6-71D9985FD904}"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31F0A8F7-D7FA-45A0-AEBA-F618B0021970}"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DCAAA398-356C-40F8-A113-CD3D3399F495}"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42932D26-D5A5-4155-B626-694EA7275E71}"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5509A9BA-2551-4C41-B7D7-195592BB8C4D}"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5DEC37D2-5D59-42DF-B5CA-3C7325564691}"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9239E080-3854-4A2D-893C-701328E02081}"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7DF3C280-50A9-46FE-B3C6-8EABB4A102E9}"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731F7FED-8067-4B53-8194-218C128B466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A1C9549-1B98-41FC-8B04-B6D4B3D97E87}"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BFCE8852-044D-42CB-97F5-877588A72E49}"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F22D05A2-19C8-46BA-B6BD-053F1AEAB1D2}"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0E18B85F-F3EF-4A6F-9FAB-C467E15D9BAE}"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98D30060-4981-4A85-A9AA-BE6E6B2067C0}"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4FFA2ACD-0CE5-4C49-8374-C55DFDF748F6}"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6D5AC239-D6FA-4DD5-B6DE-2ABFEA9B1168}"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D2AD3072-6279-4A62-B3B4-828CF1143D07}"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FB1DBCAE-A5C0-47E8-9D09-C90A327C82C4}"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FC8716D2-2775-4BD7-84E5-7871AC52CFCC}"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5B2EF06A-27A7-482D-AC8D-EDC2CF60B9A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07F8F1B-03B4-44C6-ABB4-254E0B2C6DD1}"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171F4B51-5289-417C-B503-1A8E0BC1E951}"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3B2FE8E9-7F96-4364-A93D-DEBC7B6CC9D2}"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F45A9E38-B137-4454-B33F-925D47277B82}"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3F826B88-3816-4907-9ECD-1B87449337B9}"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D86685BD-06C8-4DDB-8D7E-800EE7085953}"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BD09F794-A4A0-4957-A673-66375789511B}"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275E39AC-7B96-4860-8D27-2FDE395BCD4A}"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4738ED8D-DAE1-4FBC-BF36-73E746454C11}"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2F03CEA9-6619-4E86-89F8-709C3877BC0B}"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9800E69E-B666-4398-A803-CAD8D4A134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AA16CB4-677F-4B68-9BDA-AD009810A49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0E08469-60C1-4AB1-9380-ED8C9D415ECD}"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8E99C6B6-BF43-4444-A4A6-F6B12723742F}"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521C4BE1-3FAA-48A3-941F-1D1141E7D36E}"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A31749FE-26F3-4B5C-8978-A08D22C2A116}"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3C456F20-E304-4519-852F-C8C1C6649E6C}"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4836E031-F86E-4EA9-8E8D-2FCA534326C6}"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F18A8894-9367-4DBB-BDB4-A89529A8E337}"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A2F5517F-28E8-43DE-850E-E8D3AF447EF8}"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12514DA1-BE76-4C20-91B8-E087FADFBEA0}"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506D3684-C6B9-4717-83C3-BC2DBD203CF7}"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890BE2A6-62B4-4EC9-BCA4-36DD6F8127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9D053C1C-989D-430B-B081-7C9EE420550F}"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0C9A374C-882B-4935-B755-FFCE881EF403}"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668F89CF-E678-47A0-9F82-7CA405770CD4}"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2A4C6A2E-B962-49E2-B886-F06807A4D96E}"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0A2B196B-A3B0-4B2C-84AA-C87F19E4F3DE}"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804239D4-8D68-4F20-94A0-70E9466621ED}"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B964D6A9-52C7-4501-9382-6012EAC8FAA3}"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62948E16-37EE-4E5A-8CB5-CDA9CE74FD46}"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3C9D88A4-8031-4563-9DF7-D3F709CB75A3}"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DAA83798-BDE0-40DC-8ABE-9A37B35EEC3F}"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3647B070-D598-42D8-9144-DE4695E64F9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2D3B5667-28DA-46F9-BE15-C636AF42F185}"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134AF18D-04F2-4172-A5A3-C65575756297}"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5298F3BB-A0FB-4FFF-B1CE-D348B3185EFC}"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45EB12A4-F9FE-4975-A253-AF5ED2B69E59}"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01C21959-E3F7-4CF4-90CA-DDAF240AD7F4}"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92326837-244C-4370-B77F-9D1EABEBA7CE}"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D05EE781-37C2-4BC4-AEAD-E5A1E3F8194E}"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DD97AF05-95A9-438A-BF71-0CBBC1298CF7}"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3A3D4CD6-79D7-4581-AC04-B96248EBB5DD}"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7D86D1AB-334F-4D5D-B25F-57D9781308D8}"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E0A34A65-C8E2-42F6-AB2C-8549F651FA8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DB0F0F0-D505-4A58-8117-7CDBA305BCCA}"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397E3DEF-7CA1-4CD9-AB13-7CB503E2758A}"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DE217D3D-8EDE-4BA9-94AE-9EDB62383D60}"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674BC136-698F-43F5-B646-4CBDCF3BA98B}"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71D85B18-9D56-4B30-BEAE-BA81314EF000}"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6352C6E8-ADAE-4F20-8870-927D765FF43B}"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CD6C93F4-C1BA-4088-81FC-33EEE559685F}"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C870AB11-DC9C-4A96-BE50-33BEEDAEE091}"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72133061-9A6F-47ED-8AAB-FD0C33F4E121}"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586D45CB-24FA-4B82-8646-CD1BC217FE09}"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01DC1C0-93C1-4E36-92FF-D097D311A2B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5640DE4-700D-4528-A7DA-C1CD3D40D1B6}"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98A9E966-9743-4694-B854-0C3CA909A692}"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122296D1-513D-4EF7-9B28-B85F37D43777}"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49D377E3-2143-469D-9A66-49730166A3F9}"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0DB8F223-3976-49B4-B9CB-895ED8BBC2B4}"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E8742505-1CC5-40D5-8F1D-69CAE70CBD96}"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9D29A48D-05E1-4897-8775-E3855C199E2E}"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DD890E2D-FB65-49A8-A2AB-290C9B2793CE}"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E9A0FA72-B84C-449B-A6D0-D4F2B0A75376}"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3E253520-017A-425C-9E1A-6730EE42FD76}"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7F338DFA-F5E7-48C9-8243-8E34A2C57D8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CDE016D-BF1B-47B7-96B2-B057F92030B5}"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FB8ECC0B-F031-4A73-AADC-E393F055AFCA}"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F8F983BA-2C13-4633-9693-2AD6C149CD5C}"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64AFB574-D0E6-43C3-8387-3BD1F45D0791}"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648B4922-2E4B-4468-91DD-56CEE8B1F782}"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E01B71A9-E2D3-48BE-96CF-6DAA0543C778}"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FBEE38B8-BC6C-4F31-97BB-94B96331A2BB}"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30C201CF-70D9-43BA-8B7B-F55096EBF2A4}"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AED7CF6A-19A2-4A52-A6A0-BC7AC3697924}"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C11BFA4D-2331-4EC3-9999-B59B74CEA85E}"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EF5016F7-DAD8-4434-94EE-18C63BB39B5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89E2007-BFE5-4A7B-BBBA-D90B0318E07D}"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0DB2E595-F49A-4B77-A953-3262E8A172A3}"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55729CA7-8B0F-4B65-9CA7-4F07ED780E79}"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759BBA9A-04E7-4791-8576-7075F93186D5}"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EA635A0E-B67C-483B-835C-C7B42E38EB8A}"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2B938268-41EE-4023-AEC8-F41C5A231DF6}"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DEF00B0D-7029-45B6-AFF9-20CEFDA054BB}"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9942DB92-FC1F-4C2A-A81D-11652F0C25E8}"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D26C0C8B-4B56-4793-AB9F-9DD65EBC84A8}"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F61EB698-1428-49C1-A985-4DFFB8CC15E1}"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5A57A10E-E8F9-44F4-8AC6-3034AB1D509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AA1C78CB-3A79-410F-B480-7DAE335CBCC8}"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4AF7DE12-82E5-4F30-9F13-F12D317A4B07}"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6F2693C8-7435-4561-BDDF-17424C8FA1F1}"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B2B65225-08D5-4637-9B12-EA10196F3235}"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C9A03784-6AF8-44D5-87DA-87102CE45D66}"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B798A25D-0435-43D2-B4AE-8A17630B0053}"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6307F798-077D-4DCF-930E-0DAE97878C42}"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28B2D771-7E96-40AB-BE00-2D7AF322B8D9}"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56561E89-558F-4F35-A4B8-0A4AB766BFCE}"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14FE15DC-7F3E-4FFC-BC1E-03D2400E93D0}"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F1DB8AAD-C5B6-4FBA-9E60-75E5B8CEC7D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EA21927-CC53-4CB7-9F36-730E7A300CC2}"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BBCE3075-F1E8-4339-AB44-6ED691589FA2}"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A976EBAE-85BF-46CD-AC05-2961B19000D2}"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D7A64325-8599-4794-AB2E-3D37D51201E0}"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B6AD1F8F-C490-42E1-B259-9246BDCBBF3B}"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D7C96F73-A254-4A21-BB2E-238AC8609CFC}"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E9276933-1FB2-4985-925A-01EC9EAC89FA}"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0B70CFBC-953A-4BD2-9BE7-DA63F475A96F}"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44145048-3982-4D47-9159-5F8679F6831B}"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0A8726A6-45D3-405D-8359-93B320251573}"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21140814-D9E4-4254-9CDB-82F4340BD39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F1FE22B-C8B6-4DF2-A3FF-F6F447D93BC7}"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F16CDC3A-3259-4DBD-9DD4-32C8C74434F6}"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F3CCF79F-8607-4FE8-8736-5CAEA0093527}"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D0747EBE-12ED-44C3-B6BE-B67D7C547B4E}"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99B5AE34-8997-4BFD-A00B-4D43A8038C7B}"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DAEC99E0-B5EB-4322-9B63-96CAA3EC5AC4}"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548E9A9E-3698-4FDC-AD2F-B13187156A8A}"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6361ABBB-2320-4721-BC69-FD1205E8DF33}"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9437444E-7C51-496E-BCCD-87414DF7D082}"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CADAB961-3547-469F-8DB5-2C55D41B2981}"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F3A9CF1E-9E58-4AD6-AFF0-1E386EC525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71027D8-3CC4-4663-BDAD-8069ED3A0E9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1005756-BA35-448E-9DCA-E63EFD8F03A9}"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1D663C46-B47A-482E-A8C1-935452446B9E}"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5726AE35-11C4-4C7A-B166-03FB03E86EA2}"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122AC345-7557-440D-B245-449CC3C89067}"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5AF3E71A-3DD3-475C-9076-85F3F448A923}"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4F4C94A4-AAF8-402B-B68D-3E747AD97AF3}"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D89E619E-8F10-490E-AA2C-44BE6DCAF134}"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F79E1055-47C0-441E-98D3-EEDC5F52A20E}"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37A107ED-06B1-44D0-9E84-E994CD487940}"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09AF06B8-B207-4316-A5E4-E401E8B20390}"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66C6747D-AFD5-4181-94D0-875982FB5DD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4B49717-E1EF-4006-96F6-3A4287C96331}"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719C688C-BDF2-40A6-B06A-C4DF9F50032F}"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E3FA8964-C987-4A0E-B0F2-0D24E3E29493}"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7992D3FC-7F70-4982-9CE9-C88D7E0A7D4E}"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A9D09C9F-622D-4976-AC7C-7DD7BAB3C7AA}"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70915F66-FC58-4EB3-B461-53B5BFC1C37F}"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A0E92D6D-4842-4E6C-B408-83AF55D9AC60}"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AB6C9F0F-42AE-498E-A083-3D0CD0E8EA83}"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FC83F79D-EE39-41F9-A5DA-47950502EFAA}"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FFBD4E36-66C9-4391-925D-668593D8B2CD}"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D6FB5B8D-FFAA-47F4-84A2-E6FA924A38E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41F1D28-74A9-4400-8EDA-43F08316DDD5}"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B9199280-DDF5-424F-9CB0-3A48EE9DA20C}"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5C8E9398-81DA-4A25-A64E-0EDD02F78B8B}"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84816517-EE6B-46AC-887F-1B02CC9E3295}"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3B6C12BE-0056-4EFF-A872-029778AAE70D}"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8E83B43C-4BA9-4798-9CB2-AEE46821853C}"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6FDED86B-59CD-4B50-8520-D3C4E3224C8A}"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C2AA25AA-16DE-47FD-B0CD-C812A7958B2F}"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34419DD3-28DD-4E8D-9D97-FE2FD4F6F4FE}"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084BB619-3D20-4C5E-81F2-6D820A318A11}"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1426FA2C-CC63-4838-8A20-610C064792A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CCFAB484-608C-48EA-99F1-CCBA10A50AB9}"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8F6A7AFE-329C-4FF2-9976-B96ED2DE96E8}"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D93BE347-1C52-471E-ACF4-AC0339D3C7C3}"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437E4BA9-CE56-4970-9197-A48B1FFF6CD1}"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207C9906-BEF7-408D-9AB3-77DF469C24EE}"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2D7F5239-7C23-4F5C-BF39-2337C623B7CD}"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0762DEE1-9EA1-47BB-A1C6-71E60F49CCC7}"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A5EFD85D-AD95-42F1-87F3-D7C748428E15}"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DE55C373-8595-4B54-9E37-9BA6A00CE3B2}"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D92CB3A7-048C-4F84-9D47-172ED10E878B}"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8713FE86-97A6-4BAE-B42C-A45EC717C39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6F7E64C5-DA4D-4FF5-9CD7-3B98B9CD510D}"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6660CFF2-9BE2-43BC-94D2-1D4846941B54}"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DEF2C3AA-F9C1-4677-981E-0B17A463108A}"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F3A190FA-C7AE-469E-BE75-AE401EC2320F}"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3BCCD81E-1DCC-4C1D-8A8F-00EBA5086C3C}"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6DC91242-7E79-44A4-8A32-6082A0D356D3}"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1F570E2E-8B7F-411B-B75F-33011B0E116B}"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1EC34346-530F-4B62-891D-5504EB6DBDE0}"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91164072-FD26-4DEA-99C7-0A5A3135C0A9}"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E300484F-89F9-494F-BE97-BBFAA52270A8}"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94D673DF-6FB8-4B83-9059-E9510C37BD4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6DBEA1E-1BBA-49AA-81AC-FE044C183682}"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636478E9-6436-443A-895D-61DE92B36962}"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11BEEF8F-3D26-4C2E-975A-399E1D6BFC8D}"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85C0D969-C896-4900-88F3-0C7CD7BB23DB}"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E37BFE87-AFEF-4DED-AAF0-F558F6BE93BD}"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0624950F-48AA-4130-BF8E-73EEFF7FA75E}"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4A0F4E9A-E0BF-4F39-AF2E-9A0834EBF93C}"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627119E9-4905-43F7-80AB-3F2B154D591D}"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71D7C3DD-B127-4041-8442-106AEB048265}"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9E3E0FC7-17F3-40FB-A9CC-293D061BE1EC}"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9F506D01-F665-47D4-8696-532C4BB429D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F5BDAC9-A99F-4E5B-9F69-EE152E551FE2}"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34149BE9-B5BE-4947-9096-DDEAB623C02E}"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18DFE40B-45FE-4CB0-9C6B-C6CB994892F8}"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E079EBFB-7994-4B9D-952C-89A00A022B0D}"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8136D9A8-541F-4FBE-A271-C1CA200C4063}"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A659F767-B699-49ED-827A-12175EB17C9B}"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1A20D6A2-B9C4-4E65-A7C8-0A6C8B1827EB}"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A7254276-AA61-4495-A532-FFB4BA086EDE}"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A4F529AB-E6D4-4CD9-A10B-1ECD517324DF}"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14E3C19E-5E54-4F15-8A39-F19487831EAB}"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0AC0E0EE-430E-4D23-BD11-F5FBC4A0B60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7723D9EA-5882-469A-943E-038C1F6F8BC5}"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B1788FB0-DF7D-416C-AA6C-594BA3E6D19B}"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B9493346-6F7E-4479-A111-E0DA3C75B784}"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637CBC38-5FD6-453D-A46C-01BD8BC8976D}"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8DE33177-1772-45F3-8B1D-7680961FE522}"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26BCD818-3D70-46B5-BE77-EB066D825BFB}"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31844BE6-CC8F-415B-A0CB-ECA6EB61525A}"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4B8C6134-423B-4C53-9F3A-81520CC1DF45}"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6DF17C69-6DBA-40E1-82BD-F90EF8777681}"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178BB154-A99D-4529-918E-85038B48681B}"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188DE597-8BB3-4681-B7F1-B0541B65403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14F4ADB-AB07-4A9A-A6DF-69906B5F4568}"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1C193F85-305E-4BDF-81E8-25E50AB484FB}"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F3338124-0BB9-4F80-B5D4-85341D1D6931}"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B0280712-C326-447C-A690-F3B29B1577FA}"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1F99FA48-784C-432E-863F-1278B70A3791}"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0E133D1D-9CFA-4A87-9C3C-7DDCFB0C22BF}"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C45AD5DA-74B4-4FAF-A8F8-DA15CB7C9E81}"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5B062F9D-1934-4585-B828-73D020FC6431}"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00AE94A9-40F5-41DE-8EA9-4F3A4B84EB72}"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34CD0560-128D-43E0-9B53-78AA2E86339A}"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A55D8AE5-50AA-4B83-9EF7-7C20835DC37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EBC0FA8-E499-4DB4-BA13-7A8AA5AE4B41}"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5FDAC4A7-166C-4968-AC14-E80FC6036528}"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B7D3912C-DC61-4323-8BDA-FF5C1A8684C1}"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CD637021-FAF5-45A0-B4BF-2B2A7C8B999F}"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DBA627A9-F240-46F5-BE11-139C2DAEC6F8}"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D9DCB55D-734B-48D8-AE5C-9364E4912D05}"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176B1FD8-FFD0-4B4F-8DBA-FCB61D977968}"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B94529A7-9C77-46F4-81EB-EEFD45D728EF}"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F4863280-4101-46A3-BE99-52F0D4F8665B}"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CF7656A8-E4C4-463F-9750-B8239C90629E}"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27AE5B12-FC8F-4E4C-AB7E-900A258BFF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6C2DAB9-3793-4833-8037-390037905B0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707E20D4-ADA4-4F22-87C8-3E67A3BA65EB}"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A0E25975-0B46-4E74-A2D6-C535DA5C8854}"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0DAAF8F3-5810-4F7F-9B36-6E2968A41544}"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898DE07A-9A78-47B7-AD0C-F64655F76E7F}"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A4DBE8D6-C67E-4B7E-93B0-DE968E987B4B}"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EF05F7BA-49C9-4CBB-AD88-31BE68A479DF}"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368CB994-2379-488C-BFA7-BE812B9729D5}"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2842B5A0-F0A4-4DC7-AE94-73C8072D7ADB}"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1C6A9D2E-F450-43FF-AA55-CE5342CF4AD0}"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AFB2BBCB-7EDD-40CC-8812-3BEF7DB89AAF}"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98E378D7-5868-4927-B774-1CAB7B75D04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6562663-C9DA-49DD-81AA-2B386DA22EEE}"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E7655C4C-D0BF-4931-9B42-E6EBB0F90F79}"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99DCA7AB-6F20-4B34-8CE3-905B4FBE42EC}"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9B8F1FA1-7CB9-4DC7-B696-4E77140A1168}"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ACF4E7F3-A816-4DA5-B627-4642F54D788A}"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7050A36F-19AB-42DF-9212-F40278CD1A42}"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8DE00AB7-005A-427B-8975-F1B5E671DF9C}"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B88FE94D-5406-42D2-A14B-175B0209302F}"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6EB33EA1-075B-4AB3-8A52-6AECBFC731A2}"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3F9B7186-7FB3-41BD-A15B-33C0D0B4DC45}"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14B85461-E0F4-4F31-BFA1-AB194326EC5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1A318E6-1D36-407F-AF10-49669E75D97E}"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3ED0B993-B2C8-48B3-ABBF-F62894361FA8}"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D5861E62-0C14-4B88-B31F-3CF734DBD398}"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4D42E727-4C9C-49F8-B97E-7A3B2F740BB2}"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7C4095A6-070C-4C63-84DA-B8FADFBA138D}"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84E69D2D-4ABC-4C56-8E7B-21C47B76BAB0}"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723D3613-8798-4914-8856-4095EBB841D2}"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AC8583DD-CB0B-4AC2-96CA-7B6823B4ADD1}"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3DB44096-8723-4209-BEA1-2EF1BEDE6CF9}"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CD84E413-DC37-433D-9674-914638F1A5FD}"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EDE8F876-7B93-4C25-8C59-BC658547BDE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C94FACD-6716-4C70-A4D2-B61544773ADB}"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657344B1-E3F4-487B-86A5-3B566D5A241A}"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449F7D8B-BE4D-4587-8BF7-48E757451A47}"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F3CAFBAB-17F9-4613-9A1A-C292A3F75BE2}"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2A6A6F70-0739-4548-877A-37B376250102}"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E680DD57-9F29-4973-817E-2059592A36EA}"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58E98911-033E-4210-976C-CE12B3A15E26}"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0E57BBFC-94EA-4278-B857-68D66112675B}"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DD612C5B-CF1C-4CD7-AEB6-F24A89FA2803}"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EDED2C30-2424-4DEB-8B9A-085E2088E033}"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8C27F284-A0A0-4C09-AF0C-8E2D6630C8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E1A6A9D-A03D-4D82-AF42-3D99EBBB5D26}"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11D5D431-C7C8-4003-B239-752A18DCBD54}"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FD4E75C8-74EE-4157-8800-2EF19040F9F4}"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1D043CB8-7C1C-4905-AF51-9B8F787538D3}"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7B40AFC0-33F8-4E8E-B33D-80D8811CC2D3}"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A7A8F994-0D45-4C22-9782-E650BC47A895}"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0ED08114-DF2B-4FD9-B06C-F08BAB8B5CD9}"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65E0BA97-B239-4E7E-9BAA-F333D8828431}"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D42308DA-43FF-4F74-9E74-35A3EC92B43F}"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66633D82-ECD9-4A71-8E28-805866B2C11F}"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E362B7B1-04FF-4DD1-BAFF-700A06F1C23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8092B719-D734-4A02-953B-5F59398F9948}"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711E2814-2302-4C19-86A2-70A365AF70E6}"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624C6573-8AFA-4BE9-B144-9AAD0010A349}"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8210F70B-6A10-454E-AA26-EEABECF9480D}"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497BE316-11B6-4548-80DF-CC4FEBF490B6}"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27F256F5-E403-4E7D-8237-F91DAEE27DC8}"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4AC9983C-6B9A-4276-878E-D32462BA4B99}"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2EAA134C-36EC-4E53-BD35-4C9110D9D93F}"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FD54CB87-D764-4404-807F-AAEE5E5E135F}"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4DD36620-6F49-41A8-96CA-3B6E05E7F217}"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001CD12E-969D-4376-A57A-9131D4795C0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E340C0BA-3F07-4635-9BF2-1F2560FFC1AF}"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D36EEB43-FB4C-4F56-9550-8FB2C82C407C}"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F51D9A24-BEB4-4226-8820-343F011EBB2D}"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81C92BC8-B33E-48EC-B8AF-5F60179E11B2}"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943A9533-ACC5-45D0-9D1F-7F0405B4E39A}"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99CFDBCA-3049-4789-A9C6-6FEF055425A5}"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DB58C2D4-17F6-4552-B226-2F06C32EF088}"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EC44571B-CBEB-4B21-AEC2-FC03032F306C}"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EE532F5C-6A36-401D-8FDA-C0BD8EC42725}"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28478542-49F4-46DB-B9FA-0294A5DBCAFC}"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236B664E-E52F-47ED-A0AC-E013809AFF7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E1A094D-7A7B-4D64-8AE7-DD231272BB22}"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7CDC4E24-9E38-49F1-A931-BE9445439F83}"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84C343FC-EA50-4FE0-A56F-1CD20624EC37}"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AE685FEC-A818-491B-88D4-BBDF446B6562}"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C1356A09-8A2A-49E1-A566-981440E59A4D}"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663AD029-E950-4A7B-BBD1-9428EC050829}"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0603E906-808B-4361-8110-5C4736A43E82}"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D91E4529-F50A-47BB-A089-47040B72845D}"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C5C8BD7D-C1C4-4A85-9E20-D46086D01D50}"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07EFB378-E4D2-4A52-9C94-F1B7773E283A}"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226F4E56-E8AD-4F81-8629-CF58D6CFEEE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F47EDC9-FB19-4A5A-BEC0-CE1862CFF575}"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542A767B-683D-46F0-9517-BC70CACA48B4}"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C67E594A-C309-47F0-B2C0-ECA763E69F1E}"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9C6D6401-070D-4DC3-86A2-83620D5724E4}"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8C1C224D-E687-4F70-9B2A-033FF005B93D}"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ACB4954E-5341-43CF-91DC-0E0022495737}"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0E6A3F92-7BB4-480C-AC5A-FEC3DA2908DA}"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8F89386D-1BC9-4503-A477-FC1571A05AAF}"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54D438C1-0640-4549-B762-02D7C0FB12F7}"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A60B4C53-3850-42A8-9FE1-57ED4F3A6C72}"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D7682C66-407B-4391-843C-3AACC8595B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EC6278F-BFEA-4CC2-9DBB-6DAB20C726BC}"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16B616BA-EC7E-46D8-941B-9BA823D2A7F9}"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54BB580E-83F7-4C38-8F88-D8FA7ABFAA5F}"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37988A4F-B1B5-4E4D-BACA-9ED4B942DA61}"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5C1B103A-D9EB-47C3-A87A-0745253470AC}"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36CD0186-C374-4F5F-B035-88D108F1F6F0}"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CD6DDE7E-B0A1-48A6-960E-AC52F61CC7B2}"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50DF3E2C-7AD3-48DC-8B55-FD304640A81B}"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B77A7271-9DF1-409C-BFEF-72B8F0EEB04A}"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2341490E-B84A-4442-B132-261091115F7D}"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9B1BE24E-1354-4968-BD64-D2493645C0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AC1E2-25BA-432E-91BB-5CAE6F5B48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B0FDAA-9F57-41C7-9BC4-D38B3088EF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E2EEB9-9301-4E09-A7D6-015D4D3CCD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5BD7F-73CB-4C34-AD64-EFD0D8ED85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29DC48-BD7F-44D6-B452-29F04601D4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CA635-BB21-46D1-88CD-75AD52CB1B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4C61D-B448-426C-93C4-21DDB3209B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27068-B4C8-458F-A1B7-618ED2FF4E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084B1-A430-408F-AAAA-3D68163312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D761F-C45F-40E8-B3A3-9244753C69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CAF7D-B5FA-40A9-8CB0-B19F354DEE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6F772-1630-4B64-B274-5CB16F373E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73F49-9E75-4A0D-A1CB-CAC6CFAC06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633E93-237D-41E6-9236-5BF10F4FC2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F3E8C-C8B9-4951-8385-43DECCA3AA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BC3F4-16AD-4436-925C-4075DEC8C5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B5903-118E-4257-A04B-8083F00F554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50F27-F7CE-4F9A-BC30-76E1C7020C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50F8E-B523-4724-AD09-FB2037526E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12CA8-1188-49CD-B9A0-274F5E9DD0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5C3DAA-7356-4DA3-867D-5D7A2F502B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FBF2B-3A3F-4FF8-946D-90760DA432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0F688-24F6-4E2E-BE6A-267AA62D5F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4FEAE-DF92-4E1E-ACE3-8694709F10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6EB156-5D0D-4017-81AB-E5D4069761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4DA5A-8E48-4FE3-9C92-A3C29C800B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1EDB44-B310-4B3D-A0B9-70D4E4FE4D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1F04BF-D86A-44B7-BB15-14117D9EBD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2A9AA-5B66-4890-9ACF-26890E64A0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20D0C9-08F8-4ABF-8C85-B5AF13EE5D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43E40-E004-4A7A-B309-159E541C21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09120A-D6E0-40F5-B368-AA1BF02B9C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FE515-DE0D-46CB-9564-CC8BC00BBE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933AA-BD64-472A-A0E5-5264A1396D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1C0FC-BB1F-46CF-B3B0-44D24602AE3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E6F6D-941F-4287-A2F9-D3246C2EFA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8598E-284C-4141-B0C7-3B1C9F8D81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A5AB45-778F-4D5A-B463-9ACF7DFDB7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ADB653-4C85-4985-89EC-94522209CF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9A0E9-895F-4E97-9DD5-ADDC13787F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4C266-2310-45E1-A4AF-1E906BE64E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C45E9-8BBB-4E78-83BD-D132A6287F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343672-BACD-4E0E-90D4-1ACF79B60D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3FF15-2EDC-4209-BA9B-AAA8FAE0C2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9D08E-9231-4D2B-B843-E163E54FDE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0C34D-190E-4C51-8672-787020EBD4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1C2A0-8044-471D-A45E-9EB55DB44C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947E86-A89D-47C5-B944-B77868CE74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BD7C39-8978-4804-AE45-B20439F48C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CF64D0-AC0E-4DF4-A750-B4F19ABC98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1E632-2CA3-4F32-BC5E-72C254C896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3BFF7D-F3C2-48DD-981B-B73BA1ECBF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406EB-D193-4C00-A8D6-07CC89FFCDF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E35988-B3C8-4E16-B129-7CF43E38A4F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9080A6-4BF7-4917-942A-B450392E466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88EF9-E5FD-49ED-B2B2-385B7633559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3F0DB-4D11-4D79-85F6-9657C11584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7DBA8-1E60-46C1-9C32-FC242E7BF2E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5F0D0-F013-4EA2-88B2-E4069106A23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1D41D-401E-4B70-B1FC-03A673853C0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B3F69-48F1-474B-B220-8CE079A1A64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1D0BE-060E-4737-AC02-3C14F78FE84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E501F-1044-4292-8D32-636B97B47A9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93B01F-B7B1-4848-A13C-C82584ADC15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EA09D-94C4-45F2-874F-51BE7D5027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C31AA-7670-4661-B86E-B928A1A3C6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7C551-4FA6-4BC2-875F-0C7458F16D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03216-3AD7-4DB8-B9A9-1C52AD48C5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D3FDF3-B21A-4F97-B239-219AA7E8EF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5AD0F-A8D4-430F-9228-BE596BB5AD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B9F550-BEC5-4949-A605-D2C7DFEB15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302E85-BE5C-42BA-9A98-39CFA36085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7E47E5-7012-4328-878D-F8554E4C74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EB31D-41B1-4297-A8E7-EC7F4D1F3B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59552-E412-4ED7-9FBB-86B944F7D7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036B1-BD39-463D-BCB7-006B2F3367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50044F-B704-4EE1-92EC-0A3540CFAD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1376A-71E9-4FD3-A7EA-F2AAED8063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B4CB4-F5E9-47AB-A909-6D881988D0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003D3-354E-4C4B-801D-D2A499F5AB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02A80B-7A5D-4B7B-96A8-E2774199A3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DBF60-1C71-467F-BB6C-912FE5D686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5C270-28B6-476B-8DB1-B2D58FBF64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9C30F-A92B-431A-A0F5-27BDED355A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899D2-DF38-497E-BF28-40839B936E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88F9F-2F52-40C5-A3D4-16689F77E0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8DAC1-3D67-46C9-BB33-068562AD74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832EB-C01D-4790-9773-01EB50EF2B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68E24-32ED-4126-9CAD-802D8FC16F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1AA9D-DD6A-4EBC-A265-1D582C0A5E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E118B-6D30-495D-BA4F-DA0488E63D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91638-96D9-4C6F-AF68-4816E562D1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95E2F-85C8-404C-8072-B190939679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8D34FE-22AE-4BC7-9F57-AC851F7B8F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C5F12-724F-4738-AD39-46A9FBB2B1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1D2CA-8C5A-42BA-A579-C62C2EB064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16DEA2-4ADA-4B93-B198-E2C167C59A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0D5524-0C57-47C0-A05D-655253A200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6502EA-379F-4D56-9C3C-A29C9A803C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EF304-D67E-419E-9C0E-C475CD62C7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E90D6-40CD-496C-B208-2AAF111EE9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85103-2B24-4F96-AE11-7B08D01533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BE468-0CB0-4FD1-B2FB-E16707806B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EF7B51-C58A-440E-969D-B9997A552F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1C7BDA-00AC-417A-A452-3C7500739D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3EABA-7505-4446-9949-9DC5F506B5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D61EC-D2E5-41C6-8B85-0B02F23D56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8350C-13C0-4FA7-8923-DBDEE98AF5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E604BC-41A7-4919-A492-B3A6321349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DCB92-3E64-48A9-A0E7-59B7DC5E37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A7115-39F7-4149-A78D-F46805DBC7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FA249-2AB7-47C8-AD4E-5CD151D7B0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C6BE8-2781-4222-BCED-0130C6D62A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9B87F-7C8B-496A-887A-93FE05A2F1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1EB2AB-77CC-4A3C-8B0E-FFD47A42E3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2309E-A4A2-43AE-BDB8-4887DB2562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FBEA8-5923-4434-8A0A-E3B64C16EE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1DBBF-342E-4EA3-A09B-87EF239A94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12983-9F8A-4A62-ABB5-96752CC33E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3F97F-43ED-4203-9C65-66B49141EB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83FAD2-9F08-48B1-BA6D-B500A34A07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49EA8B-63E4-4B92-838A-5F788E0A2A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5370A-7424-46D8-A7AA-C89DE89086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E7A7BC-3A8B-4606-A691-8BF517149F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150D7-8233-4C3D-B188-8D1789C385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6539F-D83A-48DE-A8F8-BFC9612063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522E4-E88D-4CA2-B1A2-5053A9BC02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D8E9AD-FA05-49D0-AAC5-472E57ABC7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F38BBC-7BDB-464E-8303-0D6E70DC86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E1C78-D719-4899-A482-3A694B0B2A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A56F9-9F8A-4779-9257-E449856CDE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08786E-1D39-4BAA-825C-83911626AB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155AA2-A096-422F-B01C-DA4F710DC5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5B578-8AC6-403D-AE75-042857E8CD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B04BFD-BB22-4A1F-91F6-AEC038346D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A1A66-E566-4C82-A0A5-B02FEC5F31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559E2-58D4-4FF8-A832-D66C041307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F5025-782D-4EA1-8BE0-FAF03EB981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31C874-6AF6-4C13-B305-DA791E8AED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48032-D112-4D0B-9210-DE7CAD17CE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99BC92-CC36-4419-98A8-6398773E65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E1B17-785F-4D46-AC95-558D334199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B34A44-0F7B-4A9C-8FCA-6497322DE5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9B0B1F-DAD1-4F4D-852E-EB6A16FF4B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34B96-3EAB-473F-9574-0281322B0C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26BC7-B1D7-467C-8245-AFC67A6C82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903D2-DA4B-4379-BAB2-1004BFF495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E342D-DF95-4583-A345-FD077FEDEE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62830-4B84-4E01-95FA-C82023AA3B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1F754-0BB3-4D30-B9DD-425C0F71D0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BED1A-6A59-4BB0-B5D6-F08F9CC53B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EC6ED7-467B-426C-87F3-AC7D20578A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0D633-F5BF-464D-8750-D28052C9D4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E1E5A-42A9-46D7-9EEC-FE40C35CFA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0A310-C472-4642-9324-50ABCDDB63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42FF4D-0F7C-469C-BE9F-06159C5353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250920" y="1197000"/>
            <a:ext cx="8569080" cy="4587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ffffff"/>
              </a:solidFill>
              <a:latin typeface="Times New Roman"/>
            </a:endParaRPr>
          </a:p>
        </p:txBody>
      </p:sp>
      <p:grpSp>
        <p:nvGrpSpPr>
          <p:cNvPr id="7284" name="Group 2"/>
          <p:cNvGrpSpPr/>
          <p:nvPr/>
        </p:nvGrpSpPr>
        <p:grpSpPr>
          <a:xfrm>
            <a:off x="0" y="115920"/>
            <a:ext cx="9140760" cy="6548400"/>
            <a:chOff x="0" y="115920"/>
            <a:chExt cx="9140760" cy="6548400"/>
          </a:xfrm>
        </p:grpSpPr>
        <p:grpSp>
          <p:nvGrpSpPr>
            <p:cNvPr id="7285" name="Group 3"/>
            <p:cNvGrpSpPr/>
            <p:nvPr/>
          </p:nvGrpSpPr>
          <p:grpSpPr>
            <a:xfrm>
              <a:off x="0" y="115920"/>
              <a:ext cx="9140760" cy="6548400"/>
              <a:chOff x="0" y="115920"/>
              <a:chExt cx="9140760" cy="6548400"/>
            </a:xfrm>
          </p:grpSpPr>
          <p:sp>
            <p:nvSpPr>
              <p:cNvPr id="72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1" name="Picture 9"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2" name="Group 1"/>
          <p:cNvGrpSpPr/>
          <p:nvPr/>
        </p:nvGrpSpPr>
        <p:grpSpPr>
          <a:xfrm>
            <a:off x="0" y="115920"/>
            <a:ext cx="9140760" cy="6548400"/>
            <a:chOff x="0" y="115920"/>
            <a:chExt cx="9140760" cy="6548400"/>
          </a:xfrm>
        </p:grpSpPr>
        <p:grpSp>
          <p:nvGrpSpPr>
            <p:cNvPr id="7293" name="Group 2"/>
            <p:cNvGrpSpPr/>
            <p:nvPr/>
          </p:nvGrpSpPr>
          <p:grpSpPr>
            <a:xfrm>
              <a:off x="0" y="115920"/>
              <a:ext cx="9140760" cy="6548400"/>
              <a:chOff x="0" y="115920"/>
              <a:chExt cx="9140760" cy="6548400"/>
            </a:xfrm>
          </p:grpSpPr>
          <p:sp>
            <p:nvSpPr>
              <p:cNvPr id="729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9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9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9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9" name="Picture 8" descr=""/>
          <p:cNvPicPr/>
          <p:nvPr/>
        </p:nvPicPr>
        <p:blipFill>
          <a:blip r:embed="rId3"/>
          <a:stretch/>
        </p:blipFill>
        <p:spPr>
          <a:xfrm>
            <a:off x="250920" y="333360"/>
            <a:ext cx="1417680" cy="879480"/>
          </a:xfrm>
          <a:prstGeom prst="rect">
            <a:avLst/>
          </a:prstGeom>
          <a:ln w="0">
            <a:noFill/>
          </a:ln>
        </p:spPr>
      </p:pic>
      <p:sp>
        <p:nvSpPr>
          <p:cNvPr id="7300" name="Text Box 9"/>
          <p:cNvSpPr/>
          <p:nvPr/>
        </p:nvSpPr>
        <p:spPr>
          <a:xfrm>
            <a:off x="539640" y="1603440"/>
            <a:ext cx="813600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1" name="Group 1"/>
          <p:cNvGrpSpPr/>
          <p:nvPr/>
        </p:nvGrpSpPr>
        <p:grpSpPr>
          <a:xfrm>
            <a:off x="0" y="115920"/>
            <a:ext cx="9140760" cy="6548400"/>
            <a:chOff x="0" y="115920"/>
            <a:chExt cx="9140760" cy="6548400"/>
          </a:xfrm>
        </p:grpSpPr>
        <p:grpSp>
          <p:nvGrpSpPr>
            <p:cNvPr id="7302" name="Group 2"/>
            <p:cNvGrpSpPr/>
            <p:nvPr/>
          </p:nvGrpSpPr>
          <p:grpSpPr>
            <a:xfrm>
              <a:off x="0" y="115920"/>
              <a:ext cx="9140760" cy="6548400"/>
              <a:chOff x="0" y="115920"/>
              <a:chExt cx="9140760" cy="6548400"/>
            </a:xfrm>
          </p:grpSpPr>
          <p:sp>
            <p:nvSpPr>
              <p:cNvPr id="730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0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0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0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08" name="Picture 8" descr=""/>
          <p:cNvPicPr/>
          <p:nvPr/>
        </p:nvPicPr>
        <p:blipFill>
          <a:blip r:embed="rId3"/>
          <a:stretch/>
        </p:blipFill>
        <p:spPr>
          <a:xfrm>
            <a:off x="250920" y="333360"/>
            <a:ext cx="1417680" cy="879480"/>
          </a:xfrm>
          <a:prstGeom prst="rect">
            <a:avLst/>
          </a:prstGeom>
          <a:ln w="0">
            <a:noFill/>
          </a:ln>
        </p:spPr>
      </p:pic>
      <p:sp>
        <p:nvSpPr>
          <p:cNvPr id="7309" name="Text Box 9"/>
          <p:cNvSpPr/>
          <p:nvPr/>
        </p:nvSpPr>
        <p:spPr>
          <a:xfrm>
            <a:off x="539640" y="2249640"/>
            <a:ext cx="8136000" cy="2678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10" name="Group 1"/>
          <p:cNvGrpSpPr/>
          <p:nvPr/>
        </p:nvGrpSpPr>
        <p:grpSpPr>
          <a:xfrm>
            <a:off x="0" y="115920"/>
            <a:ext cx="9140760" cy="6548400"/>
            <a:chOff x="0" y="115920"/>
            <a:chExt cx="9140760" cy="6548400"/>
          </a:xfrm>
        </p:grpSpPr>
        <p:grpSp>
          <p:nvGrpSpPr>
            <p:cNvPr id="7311" name="Group 2"/>
            <p:cNvGrpSpPr/>
            <p:nvPr/>
          </p:nvGrpSpPr>
          <p:grpSpPr>
            <a:xfrm>
              <a:off x="0" y="115920"/>
              <a:ext cx="9140760" cy="6548400"/>
              <a:chOff x="0" y="115920"/>
              <a:chExt cx="9140760" cy="6548400"/>
            </a:xfrm>
          </p:grpSpPr>
          <p:sp>
            <p:nvSpPr>
              <p:cNvPr id="731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1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1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16"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17" name="Picture 8" descr=""/>
          <p:cNvPicPr/>
          <p:nvPr/>
        </p:nvPicPr>
        <p:blipFill>
          <a:blip r:embed="rId3"/>
          <a:stretch/>
        </p:blipFill>
        <p:spPr>
          <a:xfrm>
            <a:off x="250920" y="333360"/>
            <a:ext cx="1417680" cy="879480"/>
          </a:xfrm>
          <a:prstGeom prst="rect">
            <a:avLst/>
          </a:prstGeom>
          <a:ln w="0">
            <a:noFill/>
          </a:ln>
        </p:spPr>
      </p:pic>
      <p:sp>
        <p:nvSpPr>
          <p:cNvPr id="7318" name="Text Box 9"/>
          <p:cNvSpPr/>
          <p:nvPr/>
        </p:nvSpPr>
        <p:spPr>
          <a:xfrm>
            <a:off x="468360" y="1603440"/>
            <a:ext cx="842004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19" name="Group 1"/>
          <p:cNvGrpSpPr/>
          <p:nvPr/>
        </p:nvGrpSpPr>
        <p:grpSpPr>
          <a:xfrm>
            <a:off x="0" y="115920"/>
            <a:ext cx="9140760" cy="6548400"/>
            <a:chOff x="0" y="115920"/>
            <a:chExt cx="9140760" cy="6548400"/>
          </a:xfrm>
        </p:grpSpPr>
        <p:grpSp>
          <p:nvGrpSpPr>
            <p:cNvPr id="7320" name="Group 2"/>
            <p:cNvGrpSpPr/>
            <p:nvPr/>
          </p:nvGrpSpPr>
          <p:grpSpPr>
            <a:xfrm>
              <a:off x="0" y="115920"/>
              <a:ext cx="9140760" cy="6548400"/>
              <a:chOff x="0" y="115920"/>
              <a:chExt cx="9140760" cy="6548400"/>
            </a:xfrm>
          </p:grpSpPr>
          <p:sp>
            <p:nvSpPr>
              <p:cNvPr id="7321"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2"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23"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24"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25"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26" name="Picture 8" descr=""/>
          <p:cNvPicPr/>
          <p:nvPr/>
        </p:nvPicPr>
        <p:blipFill>
          <a:blip r:embed="rId3"/>
          <a:stretch/>
        </p:blipFill>
        <p:spPr>
          <a:xfrm>
            <a:off x="250920" y="333360"/>
            <a:ext cx="1417680" cy="879480"/>
          </a:xfrm>
          <a:prstGeom prst="rect">
            <a:avLst/>
          </a:prstGeom>
          <a:ln w="0">
            <a:noFill/>
          </a:ln>
        </p:spPr>
      </p:pic>
      <p:sp>
        <p:nvSpPr>
          <p:cNvPr id="7327" name="Text Box 9"/>
          <p:cNvSpPr/>
          <p:nvPr/>
        </p:nvSpPr>
        <p:spPr>
          <a:xfrm>
            <a:off x="539640" y="2033640"/>
            <a:ext cx="792000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28" name="Group 1"/>
          <p:cNvGrpSpPr/>
          <p:nvPr/>
        </p:nvGrpSpPr>
        <p:grpSpPr>
          <a:xfrm>
            <a:off x="0" y="115920"/>
            <a:ext cx="9140760" cy="6548400"/>
            <a:chOff x="0" y="115920"/>
            <a:chExt cx="9140760" cy="6548400"/>
          </a:xfrm>
        </p:grpSpPr>
        <p:grpSp>
          <p:nvGrpSpPr>
            <p:cNvPr id="7329" name="Group 2"/>
            <p:cNvGrpSpPr/>
            <p:nvPr/>
          </p:nvGrpSpPr>
          <p:grpSpPr>
            <a:xfrm>
              <a:off x="0" y="115920"/>
              <a:ext cx="9140760" cy="6548400"/>
              <a:chOff x="0" y="115920"/>
              <a:chExt cx="9140760" cy="6548400"/>
            </a:xfrm>
          </p:grpSpPr>
          <p:sp>
            <p:nvSpPr>
              <p:cNvPr id="733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3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3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34"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35" name="Picture 8" descr=""/>
          <p:cNvPicPr/>
          <p:nvPr/>
        </p:nvPicPr>
        <p:blipFill>
          <a:blip r:embed="rId3"/>
          <a:stretch/>
        </p:blipFill>
        <p:spPr>
          <a:xfrm>
            <a:off x="250920" y="333360"/>
            <a:ext cx="1417680" cy="879480"/>
          </a:xfrm>
          <a:prstGeom prst="rect">
            <a:avLst/>
          </a:prstGeom>
          <a:ln w="0">
            <a:noFill/>
          </a:ln>
        </p:spPr>
      </p:pic>
      <p:sp>
        <p:nvSpPr>
          <p:cNvPr id="7336" name="Text Box 9"/>
          <p:cNvSpPr/>
          <p:nvPr/>
        </p:nvSpPr>
        <p:spPr>
          <a:xfrm>
            <a:off x="539640" y="1819440"/>
            <a:ext cx="792000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37" name="Group 1"/>
          <p:cNvGrpSpPr/>
          <p:nvPr/>
        </p:nvGrpSpPr>
        <p:grpSpPr>
          <a:xfrm>
            <a:off x="0" y="115920"/>
            <a:ext cx="9140760" cy="6548400"/>
            <a:chOff x="0" y="115920"/>
            <a:chExt cx="9140760" cy="6548400"/>
          </a:xfrm>
        </p:grpSpPr>
        <p:grpSp>
          <p:nvGrpSpPr>
            <p:cNvPr id="7338" name="Group 2"/>
            <p:cNvGrpSpPr/>
            <p:nvPr/>
          </p:nvGrpSpPr>
          <p:grpSpPr>
            <a:xfrm>
              <a:off x="0" y="115920"/>
              <a:ext cx="9140760" cy="6548400"/>
              <a:chOff x="0" y="115920"/>
              <a:chExt cx="9140760" cy="6548400"/>
            </a:xfrm>
          </p:grpSpPr>
          <p:sp>
            <p:nvSpPr>
              <p:cNvPr id="733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4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43" name="Rectangle 7"/>
          <p:cNvSpPr/>
          <p:nvPr/>
        </p:nvSpPr>
        <p:spPr>
          <a:xfrm>
            <a:off x="105876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44" name="Picture 8" descr=""/>
          <p:cNvPicPr/>
          <p:nvPr/>
        </p:nvPicPr>
        <p:blipFill>
          <a:blip r:embed="rId3"/>
          <a:stretch/>
        </p:blipFill>
        <p:spPr>
          <a:xfrm>
            <a:off x="250920" y="333360"/>
            <a:ext cx="1417680" cy="879480"/>
          </a:xfrm>
          <a:prstGeom prst="rect">
            <a:avLst/>
          </a:prstGeom>
          <a:ln w="0">
            <a:noFill/>
          </a:ln>
        </p:spPr>
      </p:pic>
      <p:sp>
        <p:nvSpPr>
          <p:cNvPr id="7345" name="Text Box 9"/>
          <p:cNvSpPr/>
          <p:nvPr/>
        </p:nvSpPr>
        <p:spPr>
          <a:xfrm>
            <a:off x="539640" y="2095560"/>
            <a:ext cx="7920000" cy="2986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6" name="Group 1"/>
          <p:cNvGrpSpPr/>
          <p:nvPr/>
        </p:nvGrpSpPr>
        <p:grpSpPr>
          <a:xfrm>
            <a:off x="0" y="115920"/>
            <a:ext cx="9140760" cy="6548400"/>
            <a:chOff x="0" y="115920"/>
            <a:chExt cx="9140760" cy="6548400"/>
          </a:xfrm>
        </p:grpSpPr>
        <p:grpSp>
          <p:nvGrpSpPr>
            <p:cNvPr id="7347" name="Group 2"/>
            <p:cNvGrpSpPr/>
            <p:nvPr/>
          </p:nvGrpSpPr>
          <p:grpSpPr>
            <a:xfrm>
              <a:off x="0" y="115920"/>
              <a:ext cx="9140760" cy="6548400"/>
              <a:chOff x="0" y="115920"/>
              <a:chExt cx="9140760" cy="6548400"/>
            </a:xfrm>
          </p:grpSpPr>
          <p:sp>
            <p:nvSpPr>
              <p:cNvPr id="734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5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52"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53" name="Picture 8" descr=""/>
          <p:cNvPicPr/>
          <p:nvPr/>
        </p:nvPicPr>
        <p:blipFill>
          <a:blip r:embed="rId3"/>
          <a:stretch/>
        </p:blipFill>
        <p:spPr>
          <a:xfrm>
            <a:off x="250920" y="333360"/>
            <a:ext cx="1417680" cy="879480"/>
          </a:xfrm>
          <a:prstGeom prst="rect">
            <a:avLst/>
          </a:prstGeom>
          <a:ln w="0">
            <a:noFill/>
          </a:ln>
        </p:spPr>
      </p:pic>
      <p:sp>
        <p:nvSpPr>
          <p:cNvPr id="7354" name="Text Box 9"/>
          <p:cNvSpPr/>
          <p:nvPr/>
        </p:nvSpPr>
        <p:spPr>
          <a:xfrm>
            <a:off x="250920" y="1176480"/>
            <a:ext cx="8208720" cy="47098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55" name="Group 1"/>
          <p:cNvGrpSpPr/>
          <p:nvPr/>
        </p:nvGrpSpPr>
        <p:grpSpPr>
          <a:xfrm>
            <a:off x="0" y="115920"/>
            <a:ext cx="9140760" cy="6548400"/>
            <a:chOff x="0" y="115920"/>
            <a:chExt cx="9140760" cy="6548400"/>
          </a:xfrm>
        </p:grpSpPr>
        <p:grpSp>
          <p:nvGrpSpPr>
            <p:cNvPr id="7356" name="Group 2"/>
            <p:cNvGrpSpPr/>
            <p:nvPr/>
          </p:nvGrpSpPr>
          <p:grpSpPr>
            <a:xfrm>
              <a:off x="0" y="115920"/>
              <a:ext cx="9140760" cy="6548400"/>
              <a:chOff x="0" y="115920"/>
              <a:chExt cx="9140760" cy="6548400"/>
            </a:xfrm>
          </p:grpSpPr>
          <p:sp>
            <p:nvSpPr>
              <p:cNvPr id="7357"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8"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59"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60"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1"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62" name="Picture 8" descr=""/>
          <p:cNvPicPr/>
          <p:nvPr/>
        </p:nvPicPr>
        <p:blipFill>
          <a:blip r:embed="rId3"/>
          <a:stretch/>
        </p:blipFill>
        <p:spPr>
          <a:xfrm>
            <a:off x="250920" y="333360"/>
            <a:ext cx="1417680" cy="879480"/>
          </a:xfrm>
          <a:prstGeom prst="rect">
            <a:avLst/>
          </a:prstGeom>
          <a:ln w="0">
            <a:noFill/>
          </a:ln>
        </p:spPr>
      </p:pic>
      <p:sp>
        <p:nvSpPr>
          <p:cNvPr id="7363" name="Text Box 9"/>
          <p:cNvSpPr/>
          <p:nvPr/>
        </p:nvSpPr>
        <p:spPr>
          <a:xfrm>
            <a:off x="539640" y="1819440"/>
            <a:ext cx="792000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64" name="Group 1"/>
          <p:cNvGrpSpPr/>
          <p:nvPr/>
        </p:nvGrpSpPr>
        <p:grpSpPr>
          <a:xfrm>
            <a:off x="0" y="115920"/>
            <a:ext cx="9140760" cy="6548400"/>
            <a:chOff x="0" y="115920"/>
            <a:chExt cx="9140760" cy="6548400"/>
          </a:xfrm>
        </p:grpSpPr>
        <p:grpSp>
          <p:nvGrpSpPr>
            <p:cNvPr id="7365" name="Group 2"/>
            <p:cNvGrpSpPr/>
            <p:nvPr/>
          </p:nvGrpSpPr>
          <p:grpSpPr>
            <a:xfrm>
              <a:off x="0" y="115920"/>
              <a:ext cx="9140760" cy="6548400"/>
              <a:chOff x="0" y="115920"/>
              <a:chExt cx="9140760" cy="6548400"/>
            </a:xfrm>
          </p:grpSpPr>
          <p:sp>
            <p:nvSpPr>
              <p:cNvPr id="7366"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7"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68"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69"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0"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1" name="Picture 8" descr=""/>
          <p:cNvPicPr/>
          <p:nvPr/>
        </p:nvPicPr>
        <p:blipFill>
          <a:blip r:embed="rId3"/>
          <a:stretch/>
        </p:blipFill>
        <p:spPr>
          <a:xfrm>
            <a:off x="250920" y="333360"/>
            <a:ext cx="1417680" cy="879480"/>
          </a:xfrm>
          <a:prstGeom prst="rect">
            <a:avLst/>
          </a:prstGeom>
          <a:ln w="0">
            <a:noFill/>
          </a:ln>
        </p:spPr>
      </p:pic>
      <p:sp>
        <p:nvSpPr>
          <p:cNvPr id="7372" name="Text Box 9"/>
          <p:cNvSpPr/>
          <p:nvPr/>
        </p:nvSpPr>
        <p:spPr>
          <a:xfrm>
            <a:off x="611280" y="2065320"/>
            <a:ext cx="7848360" cy="30463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800"/>
            </a:b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73" name="Group 1"/>
          <p:cNvGrpSpPr/>
          <p:nvPr/>
        </p:nvGrpSpPr>
        <p:grpSpPr>
          <a:xfrm>
            <a:off x="0" y="115920"/>
            <a:ext cx="9140760" cy="6548400"/>
            <a:chOff x="0" y="115920"/>
            <a:chExt cx="9140760" cy="6548400"/>
          </a:xfrm>
        </p:grpSpPr>
        <p:grpSp>
          <p:nvGrpSpPr>
            <p:cNvPr id="7374" name="Group 2"/>
            <p:cNvGrpSpPr/>
            <p:nvPr/>
          </p:nvGrpSpPr>
          <p:grpSpPr>
            <a:xfrm>
              <a:off x="0" y="115920"/>
              <a:ext cx="9140760" cy="6548400"/>
              <a:chOff x="0" y="115920"/>
              <a:chExt cx="9140760" cy="6548400"/>
            </a:xfrm>
          </p:grpSpPr>
          <p:sp>
            <p:nvSpPr>
              <p:cNvPr id="7375"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6"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77"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78"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9"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80" name="Picture 8" descr=""/>
          <p:cNvPicPr/>
          <p:nvPr/>
        </p:nvPicPr>
        <p:blipFill>
          <a:blip r:embed="rId3"/>
          <a:stretch/>
        </p:blipFill>
        <p:spPr>
          <a:xfrm>
            <a:off x="250920" y="333360"/>
            <a:ext cx="1417680" cy="879480"/>
          </a:xfrm>
          <a:prstGeom prst="rect">
            <a:avLst/>
          </a:prstGeom>
          <a:ln w="0">
            <a:noFill/>
          </a:ln>
        </p:spPr>
      </p:pic>
      <p:sp>
        <p:nvSpPr>
          <p:cNvPr id="7381" name="Text Box 9"/>
          <p:cNvSpPr/>
          <p:nvPr/>
        </p:nvSpPr>
        <p:spPr>
          <a:xfrm>
            <a:off x="539640" y="981000"/>
            <a:ext cx="8064720" cy="39085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ffffff"/>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2" name="Group 1"/>
          <p:cNvGrpSpPr/>
          <p:nvPr/>
        </p:nvGrpSpPr>
        <p:grpSpPr>
          <a:xfrm>
            <a:off x="0" y="115920"/>
            <a:ext cx="9140760" cy="6548400"/>
            <a:chOff x="0" y="115920"/>
            <a:chExt cx="9140760" cy="6548400"/>
          </a:xfrm>
        </p:grpSpPr>
        <p:grpSp>
          <p:nvGrpSpPr>
            <p:cNvPr id="7383" name="Group 2"/>
            <p:cNvGrpSpPr/>
            <p:nvPr/>
          </p:nvGrpSpPr>
          <p:grpSpPr>
            <a:xfrm>
              <a:off x="0" y="115920"/>
              <a:ext cx="9140760" cy="6548400"/>
              <a:chOff x="0" y="115920"/>
              <a:chExt cx="9140760" cy="6548400"/>
            </a:xfrm>
          </p:grpSpPr>
          <p:sp>
            <p:nvSpPr>
              <p:cNvPr id="738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8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8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8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89" name="Picture 8" descr=""/>
          <p:cNvPicPr/>
          <p:nvPr/>
        </p:nvPicPr>
        <p:blipFill>
          <a:blip r:embed="rId3"/>
          <a:stretch/>
        </p:blipFill>
        <p:spPr>
          <a:xfrm>
            <a:off x="250920" y="333360"/>
            <a:ext cx="1417680" cy="879480"/>
          </a:xfrm>
          <a:prstGeom prst="rect">
            <a:avLst/>
          </a:prstGeom>
          <a:ln w="0">
            <a:noFill/>
          </a:ln>
        </p:spPr>
      </p:pic>
      <p:sp>
        <p:nvSpPr>
          <p:cNvPr id="7390" name="Text Box 9"/>
          <p:cNvSpPr/>
          <p:nvPr/>
        </p:nvSpPr>
        <p:spPr>
          <a:xfrm>
            <a:off x="684360" y="2033640"/>
            <a:ext cx="777528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91" name="Group 1"/>
          <p:cNvGrpSpPr/>
          <p:nvPr/>
        </p:nvGrpSpPr>
        <p:grpSpPr>
          <a:xfrm>
            <a:off x="0" y="115920"/>
            <a:ext cx="9140760" cy="6548400"/>
            <a:chOff x="0" y="115920"/>
            <a:chExt cx="9140760" cy="6548400"/>
          </a:xfrm>
        </p:grpSpPr>
        <p:grpSp>
          <p:nvGrpSpPr>
            <p:cNvPr id="7392" name="Group 2"/>
            <p:cNvGrpSpPr/>
            <p:nvPr/>
          </p:nvGrpSpPr>
          <p:grpSpPr>
            <a:xfrm>
              <a:off x="0" y="115920"/>
              <a:ext cx="9140760" cy="6548400"/>
              <a:chOff x="0" y="115920"/>
              <a:chExt cx="9140760" cy="6548400"/>
            </a:xfrm>
          </p:grpSpPr>
          <p:sp>
            <p:nvSpPr>
              <p:cNvPr id="739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9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9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9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98" name="Picture 8" descr=""/>
          <p:cNvPicPr/>
          <p:nvPr/>
        </p:nvPicPr>
        <p:blipFill>
          <a:blip r:embed="rId3"/>
          <a:stretch/>
        </p:blipFill>
        <p:spPr>
          <a:xfrm>
            <a:off x="250920" y="333360"/>
            <a:ext cx="1417680" cy="879480"/>
          </a:xfrm>
          <a:prstGeom prst="rect">
            <a:avLst/>
          </a:prstGeom>
          <a:ln w="0">
            <a:noFill/>
          </a:ln>
        </p:spPr>
      </p:pic>
      <p:sp>
        <p:nvSpPr>
          <p:cNvPr id="7399" name="Text Box 9"/>
          <p:cNvSpPr/>
          <p:nvPr/>
        </p:nvSpPr>
        <p:spPr>
          <a:xfrm>
            <a:off x="684360" y="1603440"/>
            <a:ext cx="777528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ffffff"/>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0" name="Group 1"/>
          <p:cNvGrpSpPr/>
          <p:nvPr/>
        </p:nvGrpSpPr>
        <p:grpSpPr>
          <a:xfrm>
            <a:off x="0" y="115920"/>
            <a:ext cx="9140760" cy="6548400"/>
            <a:chOff x="0" y="115920"/>
            <a:chExt cx="9140760" cy="6548400"/>
          </a:xfrm>
        </p:grpSpPr>
        <p:grpSp>
          <p:nvGrpSpPr>
            <p:cNvPr id="7401" name="Group 2"/>
            <p:cNvGrpSpPr/>
            <p:nvPr/>
          </p:nvGrpSpPr>
          <p:grpSpPr>
            <a:xfrm>
              <a:off x="0" y="115920"/>
              <a:ext cx="9140760" cy="6548400"/>
              <a:chOff x="0" y="115920"/>
              <a:chExt cx="9140760" cy="6548400"/>
            </a:xfrm>
          </p:grpSpPr>
          <p:sp>
            <p:nvSpPr>
              <p:cNvPr id="740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0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0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6"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07" name="Picture 8" descr=""/>
          <p:cNvPicPr/>
          <p:nvPr/>
        </p:nvPicPr>
        <p:blipFill>
          <a:blip r:embed="rId3"/>
          <a:stretch/>
        </p:blipFill>
        <p:spPr>
          <a:xfrm>
            <a:off x="250920" y="333360"/>
            <a:ext cx="1417680" cy="879480"/>
          </a:xfrm>
          <a:prstGeom prst="rect">
            <a:avLst/>
          </a:prstGeom>
          <a:ln w="0">
            <a:noFill/>
          </a:ln>
        </p:spPr>
      </p:pic>
      <p:sp>
        <p:nvSpPr>
          <p:cNvPr id="7408" name="Text Box 9"/>
          <p:cNvSpPr/>
          <p:nvPr/>
        </p:nvSpPr>
        <p:spPr>
          <a:xfrm>
            <a:off x="468360" y="1419120"/>
            <a:ext cx="7991280" cy="4338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9" name="Group 1"/>
          <p:cNvGrpSpPr/>
          <p:nvPr/>
        </p:nvGrpSpPr>
        <p:grpSpPr>
          <a:xfrm>
            <a:off x="0" y="115920"/>
            <a:ext cx="9140760" cy="6548400"/>
            <a:chOff x="0" y="115920"/>
            <a:chExt cx="9140760" cy="6548400"/>
          </a:xfrm>
        </p:grpSpPr>
        <p:grpSp>
          <p:nvGrpSpPr>
            <p:cNvPr id="7410" name="Group 2"/>
            <p:cNvGrpSpPr/>
            <p:nvPr/>
          </p:nvGrpSpPr>
          <p:grpSpPr>
            <a:xfrm>
              <a:off x="0" y="115920"/>
              <a:ext cx="9140760" cy="6548400"/>
              <a:chOff x="0" y="115920"/>
              <a:chExt cx="9140760" cy="6548400"/>
            </a:xfrm>
          </p:grpSpPr>
          <p:sp>
            <p:nvSpPr>
              <p:cNvPr id="7411"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2"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13"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14"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15"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16" name="Picture 8" descr=""/>
          <p:cNvPicPr/>
          <p:nvPr/>
        </p:nvPicPr>
        <p:blipFill>
          <a:blip r:embed="rId3"/>
          <a:stretch/>
        </p:blipFill>
        <p:spPr>
          <a:xfrm>
            <a:off x="250920" y="333360"/>
            <a:ext cx="1417680" cy="879480"/>
          </a:xfrm>
          <a:prstGeom prst="rect">
            <a:avLst/>
          </a:prstGeom>
          <a:ln w="0">
            <a:noFill/>
          </a:ln>
        </p:spPr>
      </p:pic>
      <p:sp>
        <p:nvSpPr>
          <p:cNvPr id="7417" name="Text Box 9"/>
          <p:cNvSpPr/>
          <p:nvPr/>
        </p:nvSpPr>
        <p:spPr>
          <a:xfrm>
            <a:off x="468360" y="1603440"/>
            <a:ext cx="820728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ffffff"/>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18" name="Group 1"/>
          <p:cNvGrpSpPr/>
          <p:nvPr/>
        </p:nvGrpSpPr>
        <p:grpSpPr>
          <a:xfrm>
            <a:off x="0" y="115920"/>
            <a:ext cx="9140760" cy="6548400"/>
            <a:chOff x="0" y="115920"/>
            <a:chExt cx="9140760" cy="6548400"/>
          </a:xfrm>
        </p:grpSpPr>
        <p:grpSp>
          <p:nvGrpSpPr>
            <p:cNvPr id="7419" name="Group 2"/>
            <p:cNvGrpSpPr/>
            <p:nvPr/>
          </p:nvGrpSpPr>
          <p:grpSpPr>
            <a:xfrm>
              <a:off x="0" y="115920"/>
              <a:ext cx="9140760" cy="6548400"/>
              <a:chOff x="0" y="115920"/>
              <a:chExt cx="9140760" cy="6548400"/>
            </a:xfrm>
          </p:grpSpPr>
          <p:sp>
            <p:nvSpPr>
              <p:cNvPr id="742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2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2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24"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25" name="Picture 8" descr=""/>
          <p:cNvPicPr/>
          <p:nvPr/>
        </p:nvPicPr>
        <p:blipFill>
          <a:blip r:embed="rId3"/>
          <a:stretch/>
        </p:blipFill>
        <p:spPr>
          <a:xfrm>
            <a:off x="250920" y="333360"/>
            <a:ext cx="1417680" cy="879480"/>
          </a:xfrm>
          <a:prstGeom prst="rect">
            <a:avLst/>
          </a:prstGeom>
          <a:ln w="0">
            <a:noFill/>
          </a:ln>
        </p:spPr>
      </p:pic>
      <p:sp>
        <p:nvSpPr>
          <p:cNvPr id="7426" name="Text Box 9"/>
          <p:cNvSpPr/>
          <p:nvPr/>
        </p:nvSpPr>
        <p:spPr>
          <a:xfrm>
            <a:off x="250920" y="1603440"/>
            <a:ext cx="863748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ffffff"/>
              </a:solidFill>
              <a:latin typeface="Times New Roman"/>
            </a:endParaRPr>
          </a:p>
        </p:txBody>
      </p:sp>
      <p:grpSp>
        <p:nvGrpSpPr>
          <p:cNvPr id="7428" name="Group 2"/>
          <p:cNvGrpSpPr/>
          <p:nvPr/>
        </p:nvGrpSpPr>
        <p:grpSpPr>
          <a:xfrm>
            <a:off x="0" y="115920"/>
            <a:ext cx="9140760" cy="6548400"/>
            <a:chOff x="0" y="115920"/>
            <a:chExt cx="9140760" cy="6548400"/>
          </a:xfrm>
        </p:grpSpPr>
        <p:grpSp>
          <p:nvGrpSpPr>
            <p:cNvPr id="7429" name="Group 3"/>
            <p:cNvGrpSpPr/>
            <p:nvPr/>
          </p:nvGrpSpPr>
          <p:grpSpPr>
            <a:xfrm>
              <a:off x="0" y="115920"/>
              <a:ext cx="9140760" cy="6548400"/>
              <a:chOff x="0" y="115920"/>
              <a:chExt cx="9140760" cy="6548400"/>
            </a:xfrm>
          </p:grpSpPr>
          <p:sp>
            <p:nvSpPr>
              <p:cNvPr id="74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35" name="Picture 9"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36" name="Group 1"/>
          <p:cNvGrpSpPr/>
          <p:nvPr/>
        </p:nvGrpSpPr>
        <p:grpSpPr>
          <a:xfrm>
            <a:off x="0" y="115920"/>
            <a:ext cx="9140760" cy="6548400"/>
            <a:chOff x="0" y="115920"/>
            <a:chExt cx="9140760" cy="6548400"/>
          </a:xfrm>
        </p:grpSpPr>
        <p:grpSp>
          <p:nvGrpSpPr>
            <p:cNvPr id="7437" name="Group 2"/>
            <p:cNvGrpSpPr/>
            <p:nvPr/>
          </p:nvGrpSpPr>
          <p:grpSpPr>
            <a:xfrm>
              <a:off x="0" y="115920"/>
              <a:ext cx="9140760" cy="6548400"/>
              <a:chOff x="0" y="115920"/>
              <a:chExt cx="9140760" cy="6548400"/>
            </a:xfrm>
          </p:grpSpPr>
          <p:sp>
            <p:nvSpPr>
              <p:cNvPr id="743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4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42"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43" name="Picture 8" descr=""/>
          <p:cNvPicPr/>
          <p:nvPr/>
        </p:nvPicPr>
        <p:blipFill>
          <a:blip r:embed="rId3"/>
          <a:stretch/>
        </p:blipFill>
        <p:spPr>
          <a:xfrm>
            <a:off x="250920" y="333360"/>
            <a:ext cx="1417680" cy="879480"/>
          </a:xfrm>
          <a:prstGeom prst="rect">
            <a:avLst/>
          </a:prstGeom>
          <a:ln w="0">
            <a:noFill/>
          </a:ln>
        </p:spPr>
      </p:pic>
      <p:sp>
        <p:nvSpPr>
          <p:cNvPr id="7444" name="Text Box 9"/>
          <p:cNvSpPr/>
          <p:nvPr/>
        </p:nvSpPr>
        <p:spPr>
          <a:xfrm>
            <a:off x="611280" y="1603440"/>
            <a:ext cx="784836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45" name="Group 1"/>
          <p:cNvGrpSpPr/>
          <p:nvPr/>
        </p:nvGrpSpPr>
        <p:grpSpPr>
          <a:xfrm>
            <a:off x="0" y="115920"/>
            <a:ext cx="9140760" cy="6548400"/>
            <a:chOff x="0" y="115920"/>
            <a:chExt cx="9140760" cy="6548400"/>
          </a:xfrm>
        </p:grpSpPr>
        <p:grpSp>
          <p:nvGrpSpPr>
            <p:cNvPr id="7446" name="Group 2"/>
            <p:cNvGrpSpPr/>
            <p:nvPr/>
          </p:nvGrpSpPr>
          <p:grpSpPr>
            <a:xfrm>
              <a:off x="0" y="115920"/>
              <a:ext cx="9140760" cy="6548400"/>
              <a:chOff x="0" y="115920"/>
              <a:chExt cx="9140760" cy="6548400"/>
            </a:xfrm>
          </p:grpSpPr>
          <p:sp>
            <p:nvSpPr>
              <p:cNvPr id="7447"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8"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49"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50"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1"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52" name="Picture 8" descr=""/>
          <p:cNvPicPr/>
          <p:nvPr/>
        </p:nvPicPr>
        <p:blipFill>
          <a:blip r:embed="rId3"/>
          <a:stretch/>
        </p:blipFill>
        <p:spPr>
          <a:xfrm>
            <a:off x="250920" y="333360"/>
            <a:ext cx="1417680" cy="879480"/>
          </a:xfrm>
          <a:prstGeom prst="rect">
            <a:avLst/>
          </a:prstGeom>
          <a:ln w="0">
            <a:noFill/>
          </a:ln>
        </p:spPr>
      </p:pic>
      <p:sp>
        <p:nvSpPr>
          <p:cNvPr id="7453" name="Text Box 9"/>
          <p:cNvSpPr/>
          <p:nvPr/>
        </p:nvSpPr>
        <p:spPr>
          <a:xfrm>
            <a:off x="181080" y="1603440"/>
            <a:ext cx="827856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54" name="Group 1"/>
          <p:cNvGrpSpPr/>
          <p:nvPr/>
        </p:nvGrpSpPr>
        <p:grpSpPr>
          <a:xfrm>
            <a:off x="0" y="115920"/>
            <a:ext cx="9140760" cy="6548400"/>
            <a:chOff x="0" y="115920"/>
            <a:chExt cx="9140760" cy="6548400"/>
          </a:xfrm>
        </p:grpSpPr>
        <p:grpSp>
          <p:nvGrpSpPr>
            <p:cNvPr id="7455" name="Group 2"/>
            <p:cNvGrpSpPr/>
            <p:nvPr/>
          </p:nvGrpSpPr>
          <p:grpSpPr>
            <a:xfrm>
              <a:off x="0" y="115920"/>
              <a:ext cx="9140760" cy="6548400"/>
              <a:chOff x="0" y="115920"/>
              <a:chExt cx="9140760" cy="6548400"/>
            </a:xfrm>
          </p:grpSpPr>
          <p:sp>
            <p:nvSpPr>
              <p:cNvPr id="7456"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7"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58"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59"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60"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1" name="Picture 8" descr=""/>
          <p:cNvPicPr/>
          <p:nvPr/>
        </p:nvPicPr>
        <p:blipFill>
          <a:blip r:embed="rId3"/>
          <a:stretch/>
        </p:blipFill>
        <p:spPr>
          <a:xfrm>
            <a:off x="250920" y="333360"/>
            <a:ext cx="1417680" cy="879480"/>
          </a:xfrm>
          <a:prstGeom prst="rect">
            <a:avLst/>
          </a:prstGeom>
          <a:ln w="0">
            <a:noFill/>
          </a:ln>
        </p:spPr>
      </p:pic>
      <p:sp>
        <p:nvSpPr>
          <p:cNvPr id="7462" name="Text Box 9"/>
          <p:cNvSpPr/>
          <p:nvPr/>
        </p:nvSpPr>
        <p:spPr>
          <a:xfrm>
            <a:off x="181080" y="2681280"/>
            <a:ext cx="8278560" cy="1814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179280" y="1392120"/>
            <a:ext cx="8785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3" name="Group 1"/>
          <p:cNvGrpSpPr/>
          <p:nvPr/>
        </p:nvGrpSpPr>
        <p:grpSpPr>
          <a:xfrm>
            <a:off x="0" y="115920"/>
            <a:ext cx="9140760" cy="6548400"/>
            <a:chOff x="0" y="115920"/>
            <a:chExt cx="9140760" cy="6548400"/>
          </a:xfrm>
        </p:grpSpPr>
        <p:grpSp>
          <p:nvGrpSpPr>
            <p:cNvPr id="7464" name="Group 2"/>
            <p:cNvGrpSpPr/>
            <p:nvPr/>
          </p:nvGrpSpPr>
          <p:grpSpPr>
            <a:xfrm>
              <a:off x="0" y="115920"/>
              <a:ext cx="9140760" cy="6548400"/>
              <a:chOff x="0" y="115920"/>
              <a:chExt cx="9140760" cy="6548400"/>
            </a:xfrm>
          </p:grpSpPr>
          <p:sp>
            <p:nvSpPr>
              <p:cNvPr id="7465"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6"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67"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68"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69"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70" name="Picture 8" descr=""/>
          <p:cNvPicPr/>
          <p:nvPr/>
        </p:nvPicPr>
        <p:blipFill>
          <a:blip r:embed="rId3"/>
          <a:stretch/>
        </p:blipFill>
        <p:spPr>
          <a:xfrm>
            <a:off x="250920" y="333360"/>
            <a:ext cx="1417680" cy="879480"/>
          </a:xfrm>
          <a:prstGeom prst="rect">
            <a:avLst/>
          </a:prstGeom>
          <a:ln w="0">
            <a:noFill/>
          </a:ln>
        </p:spPr>
      </p:pic>
      <p:sp>
        <p:nvSpPr>
          <p:cNvPr id="7471" name="Text Box 9"/>
          <p:cNvSpPr/>
          <p:nvPr/>
        </p:nvSpPr>
        <p:spPr>
          <a:xfrm>
            <a:off x="539640" y="1819440"/>
            <a:ext cx="806472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ffffff"/>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2" name="Group 1"/>
          <p:cNvGrpSpPr/>
          <p:nvPr/>
        </p:nvGrpSpPr>
        <p:grpSpPr>
          <a:xfrm>
            <a:off x="0" y="115920"/>
            <a:ext cx="9140760" cy="6548400"/>
            <a:chOff x="0" y="115920"/>
            <a:chExt cx="9140760" cy="6548400"/>
          </a:xfrm>
        </p:grpSpPr>
        <p:grpSp>
          <p:nvGrpSpPr>
            <p:cNvPr id="7473" name="Group 2"/>
            <p:cNvGrpSpPr/>
            <p:nvPr/>
          </p:nvGrpSpPr>
          <p:grpSpPr>
            <a:xfrm>
              <a:off x="0" y="115920"/>
              <a:ext cx="9140760" cy="6548400"/>
              <a:chOff x="0" y="115920"/>
              <a:chExt cx="9140760" cy="6548400"/>
            </a:xfrm>
          </p:grpSpPr>
          <p:sp>
            <p:nvSpPr>
              <p:cNvPr id="747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7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7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7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79" name="Picture 8" descr=""/>
          <p:cNvPicPr/>
          <p:nvPr/>
        </p:nvPicPr>
        <p:blipFill>
          <a:blip r:embed="rId3"/>
          <a:stretch/>
        </p:blipFill>
        <p:spPr>
          <a:xfrm>
            <a:off x="250920" y="333360"/>
            <a:ext cx="1417680" cy="879480"/>
          </a:xfrm>
          <a:prstGeom prst="rect">
            <a:avLst/>
          </a:prstGeom>
          <a:ln w="0">
            <a:noFill/>
          </a:ln>
        </p:spPr>
      </p:pic>
      <p:sp>
        <p:nvSpPr>
          <p:cNvPr id="7480" name="Text Box 9"/>
          <p:cNvSpPr/>
          <p:nvPr/>
        </p:nvSpPr>
        <p:spPr>
          <a:xfrm>
            <a:off x="539640" y="2681280"/>
            <a:ext cx="7920000" cy="1814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ffffff"/>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81" name="Group 1"/>
          <p:cNvGrpSpPr/>
          <p:nvPr/>
        </p:nvGrpSpPr>
        <p:grpSpPr>
          <a:xfrm>
            <a:off x="0" y="115920"/>
            <a:ext cx="9140760" cy="6548400"/>
            <a:chOff x="0" y="115920"/>
            <a:chExt cx="9140760" cy="6548400"/>
          </a:xfrm>
        </p:grpSpPr>
        <p:grpSp>
          <p:nvGrpSpPr>
            <p:cNvPr id="7482" name="Group 2"/>
            <p:cNvGrpSpPr/>
            <p:nvPr/>
          </p:nvGrpSpPr>
          <p:grpSpPr>
            <a:xfrm>
              <a:off x="0" y="115920"/>
              <a:ext cx="9140760" cy="6548400"/>
              <a:chOff x="0" y="115920"/>
              <a:chExt cx="9140760" cy="6548400"/>
            </a:xfrm>
          </p:grpSpPr>
          <p:sp>
            <p:nvSpPr>
              <p:cNvPr id="748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8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8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8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88" name="Picture 8" descr=""/>
          <p:cNvPicPr/>
          <p:nvPr/>
        </p:nvPicPr>
        <p:blipFill>
          <a:blip r:embed="rId3"/>
          <a:stretch/>
        </p:blipFill>
        <p:spPr>
          <a:xfrm>
            <a:off x="250920" y="333360"/>
            <a:ext cx="1417680" cy="879480"/>
          </a:xfrm>
          <a:prstGeom prst="rect">
            <a:avLst/>
          </a:prstGeom>
          <a:ln w="0">
            <a:noFill/>
          </a:ln>
        </p:spPr>
      </p:pic>
      <p:sp>
        <p:nvSpPr>
          <p:cNvPr id="7489" name="Text Box 9"/>
          <p:cNvSpPr/>
          <p:nvPr/>
        </p:nvSpPr>
        <p:spPr>
          <a:xfrm>
            <a:off x="179280" y="1819440"/>
            <a:ext cx="828036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ffffff"/>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0"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491" name="Picture 2" descr=""/>
          <p:cNvPicPr/>
          <p:nvPr/>
        </p:nvPicPr>
        <p:blipFill>
          <a:blip r:embed="rId1"/>
          <a:stretch/>
        </p:blipFill>
        <p:spPr>
          <a:xfrm>
            <a:off x="0" y="0"/>
            <a:ext cx="9144000" cy="1368360"/>
          </a:xfrm>
          <a:prstGeom prst="rect">
            <a:avLst/>
          </a:prstGeom>
          <a:ln w="0">
            <a:noFill/>
          </a:ln>
        </p:spPr>
      </p:pic>
      <p:pic>
        <p:nvPicPr>
          <p:cNvPr id="7492" name="Picture 3" descr=""/>
          <p:cNvPicPr/>
          <p:nvPr/>
        </p:nvPicPr>
        <p:blipFill>
          <a:blip r:embed="rId2"/>
          <a:stretch/>
        </p:blipFill>
        <p:spPr>
          <a:xfrm>
            <a:off x="1258920" y="2060640"/>
            <a:ext cx="1297080" cy="1528560"/>
          </a:xfrm>
          <a:prstGeom prst="rect">
            <a:avLst/>
          </a:prstGeom>
          <a:ln w="0">
            <a:noFill/>
          </a:ln>
        </p:spPr>
      </p:pic>
      <p:pic>
        <p:nvPicPr>
          <p:cNvPr id="7493" name="Picture 4" descr=""/>
          <p:cNvPicPr/>
          <p:nvPr/>
        </p:nvPicPr>
        <p:blipFill>
          <a:blip r:embed="rId3"/>
          <a:stretch/>
        </p:blipFill>
        <p:spPr>
          <a:xfrm>
            <a:off x="6948360" y="1989000"/>
            <a:ext cx="1444680" cy="1573200"/>
          </a:xfrm>
          <a:prstGeom prst="rect">
            <a:avLst/>
          </a:prstGeom>
          <a:ln w="0">
            <a:noFill/>
          </a:ln>
        </p:spPr>
      </p:pic>
      <p:sp>
        <p:nvSpPr>
          <p:cNvPr id="7494"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7495"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26920" y="1484280"/>
            <a:ext cx="759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835280" y="2421000"/>
            <a:ext cx="784512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90000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179280" y="1392120"/>
            <a:ext cx="8569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179280" y="981000"/>
            <a:ext cx="8425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250920" y="1212840"/>
            <a:ext cx="8497800" cy="45720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395280" y="1413000"/>
            <a:ext cx="820908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79280" y="155736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395280" y="1392120"/>
            <a:ext cx="8569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179280" y="1125360"/>
            <a:ext cx="84250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ffffff"/>
              </a:solidFill>
              <a:latin typeface="Times New Roman"/>
            </a:endParaRPr>
          </a:p>
        </p:txBody>
      </p:sp>
      <p:grpSp>
        <p:nvGrpSpPr>
          <p:cNvPr id="6807" name="Group 2"/>
          <p:cNvGrpSpPr/>
          <p:nvPr/>
        </p:nvGrpSpPr>
        <p:grpSpPr>
          <a:xfrm>
            <a:off x="0" y="0"/>
            <a:ext cx="9140760" cy="6548400"/>
            <a:chOff x="0" y="0"/>
            <a:chExt cx="9140760" cy="6548400"/>
          </a:xfrm>
        </p:grpSpPr>
        <p:grpSp>
          <p:nvGrpSpPr>
            <p:cNvPr id="6808" name="Group 3"/>
            <p:cNvGrpSpPr/>
            <p:nvPr/>
          </p:nvGrpSpPr>
          <p:grpSpPr>
            <a:xfrm>
              <a:off x="0" y="0"/>
              <a:ext cx="9140760" cy="6548400"/>
              <a:chOff x="0" y="0"/>
              <a:chExt cx="9140760" cy="6548400"/>
            </a:xfrm>
          </p:grpSpPr>
          <p:sp>
            <p:nvSpPr>
              <p:cNvPr id="6809" name="Line 4"/>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179280" y="1125360"/>
            <a:ext cx="84250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ffffff"/>
              </a:solidFill>
              <a:latin typeface="Times New Roman"/>
            </a:endParaRPr>
          </a:p>
        </p:txBody>
      </p:sp>
      <p:grpSp>
        <p:nvGrpSpPr>
          <p:cNvPr id="6816" name="Group 2"/>
          <p:cNvGrpSpPr/>
          <p:nvPr/>
        </p:nvGrpSpPr>
        <p:grpSpPr>
          <a:xfrm>
            <a:off x="0" y="0"/>
            <a:ext cx="9140760" cy="6548400"/>
            <a:chOff x="0" y="0"/>
            <a:chExt cx="9140760" cy="6548400"/>
          </a:xfrm>
        </p:grpSpPr>
        <p:grpSp>
          <p:nvGrpSpPr>
            <p:cNvPr id="6817" name="Group 3"/>
            <p:cNvGrpSpPr/>
            <p:nvPr/>
          </p:nvGrpSpPr>
          <p:grpSpPr>
            <a:xfrm>
              <a:off x="0" y="0"/>
              <a:ext cx="9140760" cy="6548400"/>
              <a:chOff x="0" y="0"/>
              <a:chExt cx="9140760" cy="6548400"/>
            </a:xfrm>
          </p:grpSpPr>
          <p:sp>
            <p:nvSpPr>
              <p:cNvPr id="6818" name="Line 4"/>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ffffff"/>
              </a:solidFill>
              <a:latin typeface="Times New Roman"/>
            </a:endParaRPr>
          </a:p>
        </p:txBody>
      </p:sp>
      <p:grpSp>
        <p:nvGrpSpPr>
          <p:cNvPr id="6825" name="Group 2"/>
          <p:cNvGrpSpPr/>
          <p:nvPr/>
        </p:nvGrpSpPr>
        <p:grpSpPr>
          <a:xfrm>
            <a:off x="0" y="0"/>
            <a:ext cx="9140760" cy="6548400"/>
            <a:chOff x="0" y="0"/>
            <a:chExt cx="9140760" cy="6548400"/>
          </a:xfrm>
        </p:grpSpPr>
        <p:grpSp>
          <p:nvGrpSpPr>
            <p:cNvPr id="6826" name="Group 3"/>
            <p:cNvGrpSpPr/>
            <p:nvPr/>
          </p:nvGrpSpPr>
          <p:grpSpPr>
            <a:xfrm>
              <a:off x="0" y="0"/>
              <a:ext cx="9140760" cy="6548400"/>
              <a:chOff x="0" y="0"/>
              <a:chExt cx="9140760" cy="6548400"/>
            </a:xfrm>
          </p:grpSpPr>
          <p:sp>
            <p:nvSpPr>
              <p:cNvPr id="6827" name="Line 4"/>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539640" y="981000"/>
            <a:ext cx="79200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ffffff"/>
              </a:solidFill>
              <a:latin typeface="Times New Roman"/>
            </a:endParaRPr>
          </a:p>
        </p:txBody>
      </p:sp>
      <p:grpSp>
        <p:nvGrpSpPr>
          <p:cNvPr id="6843" name="Group 2"/>
          <p:cNvGrpSpPr/>
          <p:nvPr/>
        </p:nvGrpSpPr>
        <p:grpSpPr>
          <a:xfrm>
            <a:off x="0" y="115920"/>
            <a:ext cx="9140760" cy="6548400"/>
            <a:chOff x="0" y="115920"/>
            <a:chExt cx="9140760" cy="6548400"/>
          </a:xfrm>
        </p:grpSpPr>
        <p:grpSp>
          <p:nvGrpSpPr>
            <p:cNvPr id="6844" name="Group 3"/>
            <p:cNvGrpSpPr/>
            <p:nvPr/>
          </p:nvGrpSpPr>
          <p:grpSpPr>
            <a:xfrm>
              <a:off x="0" y="115920"/>
              <a:ext cx="9140760" cy="6548400"/>
              <a:chOff x="0" y="115920"/>
              <a:chExt cx="9140760" cy="6548400"/>
            </a:xfrm>
          </p:grpSpPr>
          <p:sp>
            <p:nvSpPr>
              <p:cNvPr id="68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0"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1"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ffffff"/>
              </a:solidFill>
              <a:latin typeface="Times New Roman"/>
            </a:endParaRPr>
          </a:p>
        </p:txBody>
      </p:sp>
      <p:grpSp>
        <p:nvGrpSpPr>
          <p:cNvPr id="6852" name="Group 2"/>
          <p:cNvGrpSpPr/>
          <p:nvPr/>
        </p:nvGrpSpPr>
        <p:grpSpPr>
          <a:xfrm>
            <a:off x="0" y="115920"/>
            <a:ext cx="9140760" cy="6548400"/>
            <a:chOff x="0" y="115920"/>
            <a:chExt cx="9140760" cy="6548400"/>
          </a:xfrm>
        </p:grpSpPr>
        <p:grpSp>
          <p:nvGrpSpPr>
            <p:cNvPr id="6853" name="Group 3"/>
            <p:cNvGrpSpPr/>
            <p:nvPr/>
          </p:nvGrpSpPr>
          <p:grpSpPr>
            <a:xfrm>
              <a:off x="0" y="115920"/>
              <a:ext cx="9140760" cy="6548400"/>
              <a:chOff x="0" y="115920"/>
              <a:chExt cx="9140760" cy="6548400"/>
            </a:xfrm>
          </p:grpSpPr>
          <p:sp>
            <p:nvSpPr>
              <p:cNvPr id="68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9"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ffffff"/>
              </a:solidFill>
              <a:latin typeface="Times New Roman"/>
            </a:endParaRPr>
          </a:p>
        </p:txBody>
      </p:sp>
      <p:grpSp>
        <p:nvGrpSpPr>
          <p:cNvPr id="6861" name="Group 2"/>
          <p:cNvGrpSpPr/>
          <p:nvPr/>
        </p:nvGrpSpPr>
        <p:grpSpPr>
          <a:xfrm>
            <a:off x="0" y="115920"/>
            <a:ext cx="9140760" cy="6548400"/>
            <a:chOff x="0" y="115920"/>
            <a:chExt cx="9140760" cy="6548400"/>
          </a:xfrm>
        </p:grpSpPr>
        <p:grpSp>
          <p:nvGrpSpPr>
            <p:cNvPr id="6862" name="Group 3"/>
            <p:cNvGrpSpPr/>
            <p:nvPr/>
          </p:nvGrpSpPr>
          <p:grpSpPr>
            <a:xfrm>
              <a:off x="0" y="115920"/>
              <a:ext cx="9140760" cy="6548400"/>
              <a:chOff x="0" y="115920"/>
              <a:chExt cx="9140760" cy="6548400"/>
            </a:xfrm>
          </p:grpSpPr>
          <p:sp>
            <p:nvSpPr>
              <p:cNvPr id="68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8"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ffffff"/>
              </a:solidFill>
              <a:latin typeface="Times New Roman"/>
            </a:endParaRPr>
          </a:p>
        </p:txBody>
      </p:sp>
      <p:grpSp>
        <p:nvGrpSpPr>
          <p:cNvPr id="6870" name="Group 2"/>
          <p:cNvGrpSpPr/>
          <p:nvPr/>
        </p:nvGrpSpPr>
        <p:grpSpPr>
          <a:xfrm>
            <a:off x="0" y="115920"/>
            <a:ext cx="9140760" cy="6548400"/>
            <a:chOff x="0" y="115920"/>
            <a:chExt cx="9140760" cy="6548400"/>
          </a:xfrm>
        </p:grpSpPr>
        <p:grpSp>
          <p:nvGrpSpPr>
            <p:cNvPr id="6871" name="Group 3"/>
            <p:cNvGrpSpPr/>
            <p:nvPr/>
          </p:nvGrpSpPr>
          <p:grpSpPr>
            <a:xfrm>
              <a:off x="0" y="115920"/>
              <a:ext cx="9140760" cy="6548400"/>
              <a:chOff x="0" y="115920"/>
              <a:chExt cx="9140760" cy="6548400"/>
            </a:xfrm>
          </p:grpSpPr>
          <p:sp>
            <p:nvSpPr>
              <p:cNvPr id="68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7"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8" name="Text Box 1"/>
          <p:cNvSpPr/>
          <p:nvPr/>
        </p:nvSpPr>
        <p:spPr>
          <a:xfrm>
            <a:off x="395280" y="1392120"/>
            <a:ext cx="8118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ffffff"/>
              </a:solidFill>
              <a:latin typeface="Times New Roman"/>
            </a:endParaRPr>
          </a:p>
        </p:txBody>
      </p:sp>
      <p:grpSp>
        <p:nvGrpSpPr>
          <p:cNvPr id="6879" name="Group 2"/>
          <p:cNvGrpSpPr/>
          <p:nvPr/>
        </p:nvGrpSpPr>
        <p:grpSpPr>
          <a:xfrm>
            <a:off x="0" y="115920"/>
            <a:ext cx="9140760" cy="6548400"/>
            <a:chOff x="0" y="115920"/>
            <a:chExt cx="9140760" cy="6548400"/>
          </a:xfrm>
        </p:grpSpPr>
        <p:grpSp>
          <p:nvGrpSpPr>
            <p:cNvPr id="6880" name="Group 3"/>
            <p:cNvGrpSpPr/>
            <p:nvPr/>
          </p:nvGrpSpPr>
          <p:grpSpPr>
            <a:xfrm>
              <a:off x="0" y="115920"/>
              <a:ext cx="9140760" cy="6548400"/>
              <a:chOff x="0" y="115920"/>
              <a:chExt cx="9140760" cy="6548400"/>
            </a:xfrm>
          </p:grpSpPr>
          <p:sp>
            <p:nvSpPr>
              <p:cNvPr id="68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6"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ffffff"/>
              </a:solidFill>
              <a:latin typeface="Times New Roman"/>
            </a:endParaRPr>
          </a:p>
        </p:txBody>
      </p:sp>
      <p:grpSp>
        <p:nvGrpSpPr>
          <p:cNvPr id="6888" name="Group 2"/>
          <p:cNvGrpSpPr/>
          <p:nvPr/>
        </p:nvGrpSpPr>
        <p:grpSpPr>
          <a:xfrm>
            <a:off x="0" y="115920"/>
            <a:ext cx="9140760" cy="6548400"/>
            <a:chOff x="0" y="115920"/>
            <a:chExt cx="9140760" cy="6548400"/>
          </a:xfrm>
        </p:grpSpPr>
        <p:grpSp>
          <p:nvGrpSpPr>
            <p:cNvPr id="6889" name="Group 3"/>
            <p:cNvGrpSpPr/>
            <p:nvPr/>
          </p:nvGrpSpPr>
          <p:grpSpPr>
            <a:xfrm>
              <a:off x="0" y="115920"/>
              <a:ext cx="9140760" cy="6548400"/>
              <a:chOff x="0" y="115920"/>
              <a:chExt cx="9140760" cy="6548400"/>
            </a:xfrm>
          </p:grpSpPr>
          <p:sp>
            <p:nvSpPr>
              <p:cNvPr id="68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5"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ffffff"/>
              </a:solidFill>
              <a:latin typeface="Times New Roman"/>
            </a:endParaRPr>
          </a:p>
        </p:txBody>
      </p:sp>
      <p:grpSp>
        <p:nvGrpSpPr>
          <p:cNvPr id="6897" name="Group 2"/>
          <p:cNvGrpSpPr/>
          <p:nvPr/>
        </p:nvGrpSpPr>
        <p:grpSpPr>
          <a:xfrm>
            <a:off x="0" y="115920"/>
            <a:ext cx="9140760" cy="6548400"/>
            <a:chOff x="0" y="115920"/>
            <a:chExt cx="9140760" cy="6548400"/>
          </a:xfrm>
        </p:grpSpPr>
        <p:grpSp>
          <p:nvGrpSpPr>
            <p:cNvPr id="6898" name="Group 3"/>
            <p:cNvGrpSpPr/>
            <p:nvPr/>
          </p:nvGrpSpPr>
          <p:grpSpPr>
            <a:xfrm>
              <a:off x="0" y="115920"/>
              <a:ext cx="9140760" cy="6548400"/>
              <a:chOff x="0" y="115920"/>
              <a:chExt cx="9140760" cy="6548400"/>
            </a:xfrm>
          </p:grpSpPr>
          <p:sp>
            <p:nvSpPr>
              <p:cNvPr id="68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4"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ffffff"/>
              </a:solidFill>
              <a:latin typeface="Times New Roman"/>
            </a:endParaRPr>
          </a:p>
        </p:txBody>
      </p:sp>
      <p:grpSp>
        <p:nvGrpSpPr>
          <p:cNvPr id="6906" name="Group 2"/>
          <p:cNvGrpSpPr/>
          <p:nvPr/>
        </p:nvGrpSpPr>
        <p:grpSpPr>
          <a:xfrm>
            <a:off x="0" y="115920"/>
            <a:ext cx="9140760" cy="6548400"/>
            <a:chOff x="0" y="115920"/>
            <a:chExt cx="9140760" cy="6548400"/>
          </a:xfrm>
        </p:grpSpPr>
        <p:grpSp>
          <p:nvGrpSpPr>
            <p:cNvPr id="6907" name="Group 3"/>
            <p:cNvGrpSpPr/>
            <p:nvPr/>
          </p:nvGrpSpPr>
          <p:grpSpPr>
            <a:xfrm>
              <a:off x="0" y="115920"/>
              <a:ext cx="9140760" cy="6548400"/>
              <a:chOff x="0" y="115920"/>
              <a:chExt cx="9140760" cy="6548400"/>
            </a:xfrm>
          </p:grpSpPr>
          <p:sp>
            <p:nvSpPr>
              <p:cNvPr id="69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2"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3"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ffffff"/>
              </a:solidFill>
              <a:latin typeface="Times New Roman"/>
            </a:endParaRPr>
          </a:p>
        </p:txBody>
      </p:sp>
      <p:grpSp>
        <p:nvGrpSpPr>
          <p:cNvPr id="6915" name="Group 2"/>
          <p:cNvGrpSpPr/>
          <p:nvPr/>
        </p:nvGrpSpPr>
        <p:grpSpPr>
          <a:xfrm>
            <a:off x="0" y="115920"/>
            <a:ext cx="9140760" cy="6548400"/>
            <a:chOff x="0" y="115920"/>
            <a:chExt cx="9140760" cy="6548400"/>
          </a:xfrm>
        </p:grpSpPr>
        <p:grpSp>
          <p:nvGrpSpPr>
            <p:cNvPr id="6916" name="Group 3"/>
            <p:cNvGrpSpPr/>
            <p:nvPr/>
          </p:nvGrpSpPr>
          <p:grpSpPr>
            <a:xfrm>
              <a:off x="0" y="115920"/>
              <a:ext cx="9140760" cy="6548400"/>
              <a:chOff x="0" y="115920"/>
              <a:chExt cx="9140760" cy="6548400"/>
            </a:xfrm>
          </p:grpSpPr>
          <p:sp>
            <p:nvSpPr>
              <p:cNvPr id="69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2"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ffffff"/>
              </a:solidFill>
              <a:latin typeface="Times New Roman"/>
            </a:endParaRPr>
          </a:p>
        </p:txBody>
      </p:sp>
      <p:grpSp>
        <p:nvGrpSpPr>
          <p:cNvPr id="6924" name="Group 2"/>
          <p:cNvGrpSpPr/>
          <p:nvPr/>
        </p:nvGrpSpPr>
        <p:grpSpPr>
          <a:xfrm>
            <a:off x="0" y="115920"/>
            <a:ext cx="9140760" cy="6548400"/>
            <a:chOff x="0" y="115920"/>
            <a:chExt cx="9140760" cy="6548400"/>
          </a:xfrm>
        </p:grpSpPr>
        <p:grpSp>
          <p:nvGrpSpPr>
            <p:cNvPr id="6925" name="Group 3"/>
            <p:cNvGrpSpPr/>
            <p:nvPr/>
          </p:nvGrpSpPr>
          <p:grpSpPr>
            <a:xfrm>
              <a:off x="0" y="115920"/>
              <a:ext cx="9140760" cy="6548400"/>
              <a:chOff x="0" y="115920"/>
              <a:chExt cx="9140760" cy="6548400"/>
            </a:xfrm>
          </p:grpSpPr>
          <p:sp>
            <p:nvSpPr>
              <p:cNvPr id="69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1"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ffffff"/>
              </a:solidFill>
              <a:latin typeface="Times New Roman"/>
            </a:endParaRPr>
          </a:p>
        </p:txBody>
      </p:sp>
      <p:grpSp>
        <p:nvGrpSpPr>
          <p:cNvPr id="6933" name="Group 2"/>
          <p:cNvGrpSpPr/>
          <p:nvPr/>
        </p:nvGrpSpPr>
        <p:grpSpPr>
          <a:xfrm>
            <a:off x="0" y="115920"/>
            <a:ext cx="9140760" cy="6548400"/>
            <a:chOff x="0" y="115920"/>
            <a:chExt cx="9140760" cy="6548400"/>
          </a:xfrm>
        </p:grpSpPr>
        <p:grpSp>
          <p:nvGrpSpPr>
            <p:cNvPr id="6934" name="Group 3"/>
            <p:cNvGrpSpPr/>
            <p:nvPr/>
          </p:nvGrpSpPr>
          <p:grpSpPr>
            <a:xfrm>
              <a:off x="0" y="115920"/>
              <a:ext cx="9140760" cy="6548400"/>
              <a:chOff x="0" y="115920"/>
              <a:chExt cx="9140760" cy="6548400"/>
            </a:xfrm>
          </p:grpSpPr>
          <p:sp>
            <p:nvSpPr>
              <p:cNvPr id="69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0"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1"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ffffff"/>
              </a:solidFill>
              <a:latin typeface="Times New Roman"/>
            </a:endParaRPr>
          </a:p>
        </p:txBody>
      </p:sp>
      <p:grpSp>
        <p:nvGrpSpPr>
          <p:cNvPr id="6942" name="Group 2"/>
          <p:cNvGrpSpPr/>
          <p:nvPr/>
        </p:nvGrpSpPr>
        <p:grpSpPr>
          <a:xfrm>
            <a:off x="0" y="115920"/>
            <a:ext cx="9140760" cy="6548400"/>
            <a:chOff x="0" y="115920"/>
            <a:chExt cx="9140760" cy="6548400"/>
          </a:xfrm>
        </p:grpSpPr>
        <p:grpSp>
          <p:nvGrpSpPr>
            <p:cNvPr id="6943" name="Group 3"/>
            <p:cNvGrpSpPr/>
            <p:nvPr/>
          </p:nvGrpSpPr>
          <p:grpSpPr>
            <a:xfrm>
              <a:off x="0" y="115920"/>
              <a:ext cx="9140760" cy="6548400"/>
              <a:chOff x="0" y="115920"/>
              <a:chExt cx="9140760" cy="6548400"/>
            </a:xfrm>
          </p:grpSpPr>
          <p:sp>
            <p:nvSpPr>
              <p:cNvPr id="69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9"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0" name="Text Box 1"/>
          <p:cNvSpPr/>
          <p:nvPr/>
        </p:nvSpPr>
        <p:spPr>
          <a:xfrm>
            <a:off x="250920" y="1052640"/>
            <a:ext cx="86374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ffffff"/>
              </a:solidFill>
              <a:latin typeface="Times New Roman"/>
            </a:endParaRPr>
          </a:p>
        </p:txBody>
      </p:sp>
      <p:grpSp>
        <p:nvGrpSpPr>
          <p:cNvPr id="6951" name="Group 2"/>
          <p:cNvGrpSpPr/>
          <p:nvPr/>
        </p:nvGrpSpPr>
        <p:grpSpPr>
          <a:xfrm>
            <a:off x="0" y="115920"/>
            <a:ext cx="9140760" cy="6548400"/>
            <a:chOff x="0" y="115920"/>
            <a:chExt cx="9140760" cy="6548400"/>
          </a:xfrm>
        </p:grpSpPr>
        <p:grpSp>
          <p:nvGrpSpPr>
            <p:cNvPr id="6952" name="Group 3"/>
            <p:cNvGrpSpPr/>
            <p:nvPr/>
          </p:nvGrpSpPr>
          <p:grpSpPr>
            <a:xfrm>
              <a:off x="0" y="115920"/>
              <a:ext cx="9140760" cy="6548400"/>
              <a:chOff x="0" y="115920"/>
              <a:chExt cx="9140760" cy="6548400"/>
            </a:xfrm>
          </p:grpSpPr>
          <p:sp>
            <p:nvSpPr>
              <p:cNvPr id="69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8"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ffffff"/>
              </a:solidFill>
              <a:latin typeface="Times New Roman"/>
            </a:endParaRPr>
          </a:p>
        </p:txBody>
      </p:sp>
      <p:grpSp>
        <p:nvGrpSpPr>
          <p:cNvPr id="6960" name="Group 2"/>
          <p:cNvGrpSpPr/>
          <p:nvPr/>
        </p:nvGrpSpPr>
        <p:grpSpPr>
          <a:xfrm>
            <a:off x="0" y="115920"/>
            <a:ext cx="9140760" cy="6548400"/>
            <a:chOff x="0" y="115920"/>
            <a:chExt cx="9140760" cy="6548400"/>
          </a:xfrm>
        </p:grpSpPr>
        <p:grpSp>
          <p:nvGrpSpPr>
            <p:cNvPr id="6961" name="Group 3"/>
            <p:cNvGrpSpPr/>
            <p:nvPr/>
          </p:nvGrpSpPr>
          <p:grpSpPr>
            <a:xfrm>
              <a:off x="0" y="115920"/>
              <a:ext cx="9140760" cy="6548400"/>
              <a:chOff x="0" y="115920"/>
              <a:chExt cx="9140760" cy="6548400"/>
            </a:xfrm>
          </p:grpSpPr>
          <p:sp>
            <p:nvSpPr>
              <p:cNvPr id="69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7"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ffffff"/>
              </a:solidFill>
              <a:latin typeface="Times New Roman"/>
            </a:endParaRPr>
          </a:p>
        </p:txBody>
      </p:sp>
      <p:grpSp>
        <p:nvGrpSpPr>
          <p:cNvPr id="6969" name="Group 2"/>
          <p:cNvGrpSpPr/>
          <p:nvPr/>
        </p:nvGrpSpPr>
        <p:grpSpPr>
          <a:xfrm>
            <a:off x="0" y="115920"/>
            <a:ext cx="9140760" cy="6548400"/>
            <a:chOff x="0" y="115920"/>
            <a:chExt cx="9140760" cy="6548400"/>
          </a:xfrm>
        </p:grpSpPr>
        <p:grpSp>
          <p:nvGrpSpPr>
            <p:cNvPr id="6970" name="Group 3"/>
            <p:cNvGrpSpPr/>
            <p:nvPr/>
          </p:nvGrpSpPr>
          <p:grpSpPr>
            <a:xfrm>
              <a:off x="0" y="115920"/>
              <a:ext cx="9140760" cy="6548400"/>
              <a:chOff x="0" y="115920"/>
              <a:chExt cx="9140760" cy="6548400"/>
            </a:xfrm>
          </p:grpSpPr>
          <p:sp>
            <p:nvSpPr>
              <p:cNvPr id="69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6"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7" name="Text Box 1"/>
          <p:cNvSpPr/>
          <p:nvPr/>
        </p:nvSpPr>
        <p:spPr>
          <a:xfrm>
            <a:off x="395280" y="1392120"/>
            <a:ext cx="84931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ffffff"/>
              </a:solidFill>
              <a:latin typeface="Times New Roman"/>
            </a:endParaRPr>
          </a:p>
        </p:txBody>
      </p:sp>
      <p:grpSp>
        <p:nvGrpSpPr>
          <p:cNvPr id="6978" name="Group 2"/>
          <p:cNvGrpSpPr/>
          <p:nvPr/>
        </p:nvGrpSpPr>
        <p:grpSpPr>
          <a:xfrm>
            <a:off x="0" y="115920"/>
            <a:ext cx="9140760" cy="6548400"/>
            <a:chOff x="0" y="115920"/>
            <a:chExt cx="9140760" cy="6548400"/>
          </a:xfrm>
        </p:grpSpPr>
        <p:grpSp>
          <p:nvGrpSpPr>
            <p:cNvPr id="6979" name="Group 3"/>
            <p:cNvGrpSpPr/>
            <p:nvPr/>
          </p:nvGrpSpPr>
          <p:grpSpPr>
            <a:xfrm>
              <a:off x="0" y="115920"/>
              <a:ext cx="9140760" cy="6548400"/>
              <a:chOff x="0" y="115920"/>
              <a:chExt cx="9140760" cy="6548400"/>
            </a:xfrm>
          </p:grpSpPr>
          <p:sp>
            <p:nvSpPr>
              <p:cNvPr id="69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5"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6" name="Text Box 1"/>
          <p:cNvSpPr/>
          <p:nvPr/>
        </p:nvSpPr>
        <p:spPr>
          <a:xfrm>
            <a:off x="395280" y="1392120"/>
            <a:ext cx="84931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ffffff"/>
              </a:solidFill>
              <a:latin typeface="Times New Roman"/>
            </a:endParaRPr>
          </a:p>
        </p:txBody>
      </p:sp>
      <p:grpSp>
        <p:nvGrpSpPr>
          <p:cNvPr id="6987" name="Group 2"/>
          <p:cNvGrpSpPr/>
          <p:nvPr/>
        </p:nvGrpSpPr>
        <p:grpSpPr>
          <a:xfrm>
            <a:off x="0" y="115920"/>
            <a:ext cx="9140760" cy="6548400"/>
            <a:chOff x="0" y="115920"/>
            <a:chExt cx="9140760" cy="6548400"/>
          </a:xfrm>
        </p:grpSpPr>
        <p:grpSp>
          <p:nvGrpSpPr>
            <p:cNvPr id="6988" name="Group 3"/>
            <p:cNvGrpSpPr/>
            <p:nvPr/>
          </p:nvGrpSpPr>
          <p:grpSpPr>
            <a:xfrm>
              <a:off x="0" y="115920"/>
              <a:ext cx="9140760" cy="6548400"/>
              <a:chOff x="0" y="115920"/>
              <a:chExt cx="9140760" cy="6548400"/>
            </a:xfrm>
          </p:grpSpPr>
          <p:sp>
            <p:nvSpPr>
              <p:cNvPr id="69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4"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ffffff"/>
              </a:solidFill>
              <a:latin typeface="Times New Roman"/>
            </a:endParaRPr>
          </a:p>
        </p:txBody>
      </p:sp>
      <p:grpSp>
        <p:nvGrpSpPr>
          <p:cNvPr id="6996" name="Group 2"/>
          <p:cNvGrpSpPr/>
          <p:nvPr/>
        </p:nvGrpSpPr>
        <p:grpSpPr>
          <a:xfrm>
            <a:off x="0" y="115920"/>
            <a:ext cx="9140760" cy="6548400"/>
            <a:chOff x="0" y="115920"/>
            <a:chExt cx="9140760" cy="6548400"/>
          </a:xfrm>
        </p:grpSpPr>
        <p:grpSp>
          <p:nvGrpSpPr>
            <p:cNvPr id="6997" name="Group 3"/>
            <p:cNvGrpSpPr/>
            <p:nvPr/>
          </p:nvGrpSpPr>
          <p:grpSpPr>
            <a:xfrm>
              <a:off x="0" y="115920"/>
              <a:ext cx="9140760" cy="6548400"/>
              <a:chOff x="0" y="115920"/>
              <a:chExt cx="9140760" cy="6548400"/>
            </a:xfrm>
          </p:grpSpPr>
          <p:sp>
            <p:nvSpPr>
              <p:cNvPr id="69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3"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ffffff"/>
              </a:solidFill>
              <a:latin typeface="Times New Roman"/>
            </a:endParaRPr>
          </a:p>
        </p:txBody>
      </p:sp>
      <p:grpSp>
        <p:nvGrpSpPr>
          <p:cNvPr id="7005" name="Group 2"/>
          <p:cNvGrpSpPr/>
          <p:nvPr/>
        </p:nvGrpSpPr>
        <p:grpSpPr>
          <a:xfrm>
            <a:off x="0" y="115920"/>
            <a:ext cx="9140760" cy="6548400"/>
            <a:chOff x="0" y="115920"/>
            <a:chExt cx="9140760" cy="6548400"/>
          </a:xfrm>
        </p:grpSpPr>
        <p:grpSp>
          <p:nvGrpSpPr>
            <p:cNvPr id="7006" name="Group 3"/>
            <p:cNvGrpSpPr/>
            <p:nvPr/>
          </p:nvGrpSpPr>
          <p:grpSpPr>
            <a:xfrm>
              <a:off x="0" y="115920"/>
              <a:ext cx="9140760" cy="6548400"/>
              <a:chOff x="0" y="115920"/>
              <a:chExt cx="9140760" cy="6548400"/>
            </a:xfrm>
          </p:grpSpPr>
          <p:sp>
            <p:nvSpPr>
              <p:cNvPr id="70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2"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324000" y="1125360"/>
            <a:ext cx="85690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ffffff"/>
              </a:solidFill>
              <a:latin typeface="Times New Roman"/>
            </a:endParaRPr>
          </a:p>
        </p:txBody>
      </p:sp>
      <p:grpSp>
        <p:nvGrpSpPr>
          <p:cNvPr id="7014" name="Group 2"/>
          <p:cNvGrpSpPr/>
          <p:nvPr/>
        </p:nvGrpSpPr>
        <p:grpSpPr>
          <a:xfrm>
            <a:off x="0" y="115920"/>
            <a:ext cx="9140760" cy="6548400"/>
            <a:chOff x="0" y="115920"/>
            <a:chExt cx="9140760" cy="6548400"/>
          </a:xfrm>
        </p:grpSpPr>
        <p:grpSp>
          <p:nvGrpSpPr>
            <p:cNvPr id="7015" name="Group 3"/>
            <p:cNvGrpSpPr/>
            <p:nvPr/>
          </p:nvGrpSpPr>
          <p:grpSpPr>
            <a:xfrm>
              <a:off x="0" y="115920"/>
              <a:ext cx="9140760" cy="6548400"/>
              <a:chOff x="0" y="115920"/>
              <a:chExt cx="9140760" cy="6548400"/>
            </a:xfrm>
          </p:grpSpPr>
          <p:sp>
            <p:nvSpPr>
              <p:cNvPr id="70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1"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ffffff"/>
              </a:solidFill>
              <a:latin typeface="Times New Roman"/>
            </a:endParaRPr>
          </a:p>
        </p:txBody>
      </p:sp>
      <p:grpSp>
        <p:nvGrpSpPr>
          <p:cNvPr id="7023" name="Group 2"/>
          <p:cNvGrpSpPr/>
          <p:nvPr/>
        </p:nvGrpSpPr>
        <p:grpSpPr>
          <a:xfrm>
            <a:off x="0" y="115920"/>
            <a:ext cx="9140760" cy="6548400"/>
            <a:chOff x="0" y="115920"/>
            <a:chExt cx="9140760" cy="6548400"/>
          </a:xfrm>
        </p:grpSpPr>
        <p:grpSp>
          <p:nvGrpSpPr>
            <p:cNvPr id="7024" name="Group 3"/>
            <p:cNvGrpSpPr/>
            <p:nvPr/>
          </p:nvGrpSpPr>
          <p:grpSpPr>
            <a:xfrm>
              <a:off x="0" y="115920"/>
              <a:ext cx="9140760" cy="6548400"/>
              <a:chOff x="0" y="115920"/>
              <a:chExt cx="9140760" cy="6548400"/>
            </a:xfrm>
          </p:grpSpPr>
          <p:sp>
            <p:nvSpPr>
              <p:cNvPr id="70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0"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1"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ffffff"/>
              </a:solidFill>
              <a:latin typeface="Times New Roman"/>
            </a:endParaRPr>
          </a:p>
        </p:txBody>
      </p:sp>
      <p:grpSp>
        <p:nvGrpSpPr>
          <p:cNvPr id="7032" name="Group 2"/>
          <p:cNvGrpSpPr/>
          <p:nvPr/>
        </p:nvGrpSpPr>
        <p:grpSpPr>
          <a:xfrm>
            <a:off x="0" y="115920"/>
            <a:ext cx="9140760" cy="6548400"/>
            <a:chOff x="0" y="115920"/>
            <a:chExt cx="9140760" cy="6548400"/>
          </a:xfrm>
        </p:grpSpPr>
        <p:grpSp>
          <p:nvGrpSpPr>
            <p:cNvPr id="7033" name="Group 3"/>
            <p:cNvGrpSpPr/>
            <p:nvPr/>
          </p:nvGrpSpPr>
          <p:grpSpPr>
            <a:xfrm>
              <a:off x="0" y="115920"/>
              <a:ext cx="9140760" cy="6548400"/>
              <a:chOff x="0" y="115920"/>
              <a:chExt cx="9140760" cy="6548400"/>
            </a:xfrm>
          </p:grpSpPr>
          <p:sp>
            <p:nvSpPr>
              <p:cNvPr id="70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9"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ffffff"/>
              </a:solidFill>
              <a:latin typeface="Times New Roman"/>
            </a:endParaRPr>
          </a:p>
        </p:txBody>
      </p:sp>
      <p:grpSp>
        <p:nvGrpSpPr>
          <p:cNvPr id="7041" name="Group 2"/>
          <p:cNvGrpSpPr/>
          <p:nvPr/>
        </p:nvGrpSpPr>
        <p:grpSpPr>
          <a:xfrm>
            <a:off x="0" y="115920"/>
            <a:ext cx="9140760" cy="6548400"/>
            <a:chOff x="0" y="115920"/>
            <a:chExt cx="9140760" cy="6548400"/>
          </a:xfrm>
        </p:grpSpPr>
        <p:grpSp>
          <p:nvGrpSpPr>
            <p:cNvPr id="7042" name="Group 3"/>
            <p:cNvGrpSpPr/>
            <p:nvPr/>
          </p:nvGrpSpPr>
          <p:grpSpPr>
            <a:xfrm>
              <a:off x="0" y="115920"/>
              <a:ext cx="9140760" cy="6548400"/>
              <a:chOff x="0" y="115920"/>
              <a:chExt cx="9140760" cy="6548400"/>
            </a:xfrm>
          </p:grpSpPr>
          <p:sp>
            <p:nvSpPr>
              <p:cNvPr id="70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48"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ffffff"/>
              </a:solidFill>
              <a:latin typeface="Times New Roman"/>
            </a:endParaRPr>
          </a:p>
        </p:txBody>
      </p:sp>
      <p:grpSp>
        <p:nvGrpSpPr>
          <p:cNvPr id="7050" name="Group 2"/>
          <p:cNvGrpSpPr/>
          <p:nvPr/>
        </p:nvGrpSpPr>
        <p:grpSpPr>
          <a:xfrm>
            <a:off x="0" y="115920"/>
            <a:ext cx="9140760" cy="6548400"/>
            <a:chOff x="0" y="115920"/>
            <a:chExt cx="9140760" cy="6548400"/>
          </a:xfrm>
        </p:grpSpPr>
        <p:grpSp>
          <p:nvGrpSpPr>
            <p:cNvPr id="7051" name="Group 3"/>
            <p:cNvGrpSpPr/>
            <p:nvPr/>
          </p:nvGrpSpPr>
          <p:grpSpPr>
            <a:xfrm>
              <a:off x="0" y="115920"/>
              <a:ext cx="9140760" cy="6548400"/>
              <a:chOff x="0" y="115920"/>
              <a:chExt cx="9140760" cy="6548400"/>
            </a:xfrm>
          </p:grpSpPr>
          <p:sp>
            <p:nvSpPr>
              <p:cNvPr id="70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57"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8" name="Text Box 1"/>
          <p:cNvSpPr/>
          <p:nvPr/>
        </p:nvSpPr>
        <p:spPr>
          <a:xfrm>
            <a:off x="250920" y="981000"/>
            <a:ext cx="8637480" cy="46436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ffffff"/>
              </a:solidFill>
              <a:latin typeface="Times New Roman"/>
            </a:endParaRPr>
          </a:p>
        </p:txBody>
      </p:sp>
      <p:grpSp>
        <p:nvGrpSpPr>
          <p:cNvPr id="7059" name="Group 2"/>
          <p:cNvGrpSpPr/>
          <p:nvPr/>
        </p:nvGrpSpPr>
        <p:grpSpPr>
          <a:xfrm>
            <a:off x="0" y="115920"/>
            <a:ext cx="9140760" cy="6548400"/>
            <a:chOff x="0" y="115920"/>
            <a:chExt cx="9140760" cy="6548400"/>
          </a:xfrm>
        </p:grpSpPr>
        <p:grpSp>
          <p:nvGrpSpPr>
            <p:cNvPr id="7060" name="Group 3"/>
            <p:cNvGrpSpPr/>
            <p:nvPr/>
          </p:nvGrpSpPr>
          <p:grpSpPr>
            <a:xfrm>
              <a:off x="0" y="115920"/>
              <a:ext cx="9140760" cy="6548400"/>
              <a:chOff x="0" y="115920"/>
              <a:chExt cx="9140760" cy="6548400"/>
            </a:xfrm>
          </p:grpSpPr>
          <p:sp>
            <p:nvSpPr>
              <p:cNvPr id="70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66"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7" name="Text Box 1"/>
          <p:cNvSpPr/>
          <p:nvPr/>
        </p:nvSpPr>
        <p:spPr>
          <a:xfrm>
            <a:off x="539640" y="1233360"/>
            <a:ext cx="8064720" cy="43912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ffffff"/>
              </a:solidFill>
              <a:latin typeface="Times New Roman"/>
            </a:endParaRPr>
          </a:p>
        </p:txBody>
      </p:sp>
      <p:grpSp>
        <p:nvGrpSpPr>
          <p:cNvPr id="7068" name="Group 2"/>
          <p:cNvGrpSpPr/>
          <p:nvPr/>
        </p:nvGrpSpPr>
        <p:grpSpPr>
          <a:xfrm>
            <a:off x="0" y="115920"/>
            <a:ext cx="9140760" cy="6548400"/>
            <a:chOff x="0" y="115920"/>
            <a:chExt cx="9140760" cy="6548400"/>
          </a:xfrm>
        </p:grpSpPr>
        <p:grpSp>
          <p:nvGrpSpPr>
            <p:cNvPr id="7069" name="Group 3"/>
            <p:cNvGrpSpPr/>
            <p:nvPr/>
          </p:nvGrpSpPr>
          <p:grpSpPr>
            <a:xfrm>
              <a:off x="0" y="115920"/>
              <a:ext cx="9140760" cy="6548400"/>
              <a:chOff x="0" y="115920"/>
              <a:chExt cx="9140760" cy="6548400"/>
            </a:xfrm>
          </p:grpSpPr>
          <p:sp>
            <p:nvSpPr>
              <p:cNvPr id="70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75" name="Picture 9"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ffffff"/>
              </a:solidFill>
              <a:latin typeface="Times New Roman"/>
            </a:endParaRPr>
          </a:p>
        </p:txBody>
      </p:sp>
      <p:grpSp>
        <p:nvGrpSpPr>
          <p:cNvPr id="7077" name="Group 2"/>
          <p:cNvGrpSpPr/>
          <p:nvPr/>
        </p:nvGrpSpPr>
        <p:grpSpPr>
          <a:xfrm>
            <a:off x="0" y="115920"/>
            <a:ext cx="9140760" cy="6548400"/>
            <a:chOff x="0" y="115920"/>
            <a:chExt cx="9140760" cy="6548400"/>
          </a:xfrm>
        </p:grpSpPr>
        <p:grpSp>
          <p:nvGrpSpPr>
            <p:cNvPr id="7078" name="Group 3"/>
            <p:cNvGrpSpPr/>
            <p:nvPr/>
          </p:nvGrpSpPr>
          <p:grpSpPr>
            <a:xfrm>
              <a:off x="0" y="115920"/>
              <a:ext cx="9140760" cy="6548400"/>
              <a:chOff x="0" y="115920"/>
              <a:chExt cx="9140760" cy="6548400"/>
            </a:xfrm>
          </p:grpSpPr>
          <p:sp>
            <p:nvSpPr>
              <p:cNvPr id="70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84" name="Picture 9"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ffffff"/>
              </a:solidFill>
              <a:latin typeface="Times New Roman"/>
            </a:endParaRPr>
          </a:p>
        </p:txBody>
      </p:sp>
      <p:grpSp>
        <p:nvGrpSpPr>
          <p:cNvPr id="7086" name="Group 2"/>
          <p:cNvGrpSpPr/>
          <p:nvPr/>
        </p:nvGrpSpPr>
        <p:grpSpPr>
          <a:xfrm>
            <a:off x="0" y="115920"/>
            <a:ext cx="9140760" cy="6548400"/>
            <a:chOff x="0" y="115920"/>
            <a:chExt cx="9140760" cy="6548400"/>
          </a:xfrm>
        </p:grpSpPr>
        <p:grpSp>
          <p:nvGrpSpPr>
            <p:cNvPr id="7087" name="Group 3"/>
            <p:cNvGrpSpPr/>
            <p:nvPr/>
          </p:nvGrpSpPr>
          <p:grpSpPr>
            <a:xfrm>
              <a:off x="0" y="115920"/>
              <a:ext cx="9140760" cy="6548400"/>
              <a:chOff x="0" y="115920"/>
              <a:chExt cx="9140760" cy="6548400"/>
            </a:xfrm>
          </p:grpSpPr>
          <p:sp>
            <p:nvSpPr>
              <p:cNvPr id="70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93" name="Picture 9"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ffffff"/>
              </a:solidFill>
              <a:latin typeface="Times New Roman"/>
            </a:endParaRPr>
          </a:p>
        </p:txBody>
      </p:sp>
      <p:grpSp>
        <p:nvGrpSpPr>
          <p:cNvPr id="7095" name="Group 2"/>
          <p:cNvGrpSpPr/>
          <p:nvPr/>
        </p:nvGrpSpPr>
        <p:grpSpPr>
          <a:xfrm>
            <a:off x="0" y="115920"/>
            <a:ext cx="9140760" cy="6548400"/>
            <a:chOff x="0" y="115920"/>
            <a:chExt cx="9140760" cy="6548400"/>
          </a:xfrm>
        </p:grpSpPr>
        <p:grpSp>
          <p:nvGrpSpPr>
            <p:cNvPr id="7096" name="Group 3"/>
            <p:cNvGrpSpPr/>
            <p:nvPr/>
          </p:nvGrpSpPr>
          <p:grpSpPr>
            <a:xfrm>
              <a:off x="0" y="115920"/>
              <a:ext cx="9140760" cy="6548400"/>
              <a:chOff x="0" y="115920"/>
              <a:chExt cx="9140760" cy="6548400"/>
            </a:xfrm>
          </p:grpSpPr>
          <p:sp>
            <p:nvSpPr>
              <p:cNvPr id="70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2"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3" name="Text Box 1"/>
          <p:cNvSpPr/>
          <p:nvPr/>
        </p:nvSpPr>
        <p:spPr>
          <a:xfrm>
            <a:off x="395280" y="1392120"/>
            <a:ext cx="84931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ffffff"/>
              </a:solidFill>
              <a:latin typeface="Times New Roman"/>
            </a:endParaRPr>
          </a:p>
        </p:txBody>
      </p:sp>
      <p:grpSp>
        <p:nvGrpSpPr>
          <p:cNvPr id="7104" name="Group 2"/>
          <p:cNvGrpSpPr/>
          <p:nvPr/>
        </p:nvGrpSpPr>
        <p:grpSpPr>
          <a:xfrm>
            <a:off x="0" y="115920"/>
            <a:ext cx="9140760" cy="6548400"/>
            <a:chOff x="0" y="115920"/>
            <a:chExt cx="9140760" cy="6548400"/>
          </a:xfrm>
        </p:grpSpPr>
        <p:grpSp>
          <p:nvGrpSpPr>
            <p:cNvPr id="7105" name="Group 3"/>
            <p:cNvGrpSpPr/>
            <p:nvPr/>
          </p:nvGrpSpPr>
          <p:grpSpPr>
            <a:xfrm>
              <a:off x="0" y="115920"/>
              <a:ext cx="9140760" cy="6548400"/>
              <a:chOff x="0" y="115920"/>
              <a:chExt cx="9140760" cy="6548400"/>
            </a:xfrm>
          </p:grpSpPr>
          <p:sp>
            <p:nvSpPr>
              <p:cNvPr id="71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1" name="Picture 9"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2" name="Text Box 1"/>
          <p:cNvSpPr/>
          <p:nvPr/>
        </p:nvSpPr>
        <p:spPr>
          <a:xfrm>
            <a:off x="395280" y="1392120"/>
            <a:ext cx="84931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ffffff"/>
              </a:solidFill>
              <a:latin typeface="Times New Roman"/>
            </a:endParaRPr>
          </a:p>
        </p:txBody>
      </p:sp>
      <p:grpSp>
        <p:nvGrpSpPr>
          <p:cNvPr id="7113" name="Group 2"/>
          <p:cNvGrpSpPr/>
          <p:nvPr/>
        </p:nvGrpSpPr>
        <p:grpSpPr>
          <a:xfrm>
            <a:off x="0" y="115920"/>
            <a:ext cx="9140760" cy="6548400"/>
            <a:chOff x="0" y="115920"/>
            <a:chExt cx="9140760" cy="6548400"/>
          </a:xfrm>
        </p:grpSpPr>
        <p:grpSp>
          <p:nvGrpSpPr>
            <p:cNvPr id="7114" name="Group 3"/>
            <p:cNvGrpSpPr/>
            <p:nvPr/>
          </p:nvGrpSpPr>
          <p:grpSpPr>
            <a:xfrm>
              <a:off x="0" y="115920"/>
              <a:ext cx="9140760" cy="6548400"/>
              <a:chOff x="0" y="115920"/>
              <a:chExt cx="9140760" cy="6548400"/>
            </a:xfrm>
          </p:grpSpPr>
          <p:sp>
            <p:nvSpPr>
              <p:cNvPr id="71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20" name="Picture 9"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1"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ffffff"/>
              </a:solidFill>
              <a:latin typeface="Times New Roman"/>
            </a:endParaRPr>
          </a:p>
        </p:txBody>
      </p:sp>
      <p:grpSp>
        <p:nvGrpSpPr>
          <p:cNvPr id="7122" name="Group 2"/>
          <p:cNvGrpSpPr/>
          <p:nvPr/>
        </p:nvGrpSpPr>
        <p:grpSpPr>
          <a:xfrm>
            <a:off x="0" y="115920"/>
            <a:ext cx="9140760" cy="6548400"/>
            <a:chOff x="0" y="115920"/>
            <a:chExt cx="9140760" cy="6548400"/>
          </a:xfrm>
        </p:grpSpPr>
        <p:grpSp>
          <p:nvGrpSpPr>
            <p:cNvPr id="7123" name="Group 3"/>
            <p:cNvGrpSpPr/>
            <p:nvPr/>
          </p:nvGrpSpPr>
          <p:grpSpPr>
            <a:xfrm>
              <a:off x="0" y="115920"/>
              <a:ext cx="9140760" cy="6548400"/>
              <a:chOff x="0" y="115920"/>
              <a:chExt cx="9140760" cy="6548400"/>
            </a:xfrm>
          </p:grpSpPr>
          <p:sp>
            <p:nvSpPr>
              <p:cNvPr id="71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29" name="Picture 9"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ffffff"/>
              </a:solidFill>
              <a:latin typeface="Times New Roman"/>
            </a:endParaRPr>
          </a:p>
        </p:txBody>
      </p:sp>
      <p:grpSp>
        <p:nvGrpSpPr>
          <p:cNvPr id="7131" name="Group 2"/>
          <p:cNvGrpSpPr/>
          <p:nvPr/>
        </p:nvGrpSpPr>
        <p:grpSpPr>
          <a:xfrm>
            <a:off x="0" y="115920"/>
            <a:ext cx="9140760" cy="6548400"/>
            <a:chOff x="0" y="115920"/>
            <a:chExt cx="9140760" cy="6548400"/>
          </a:xfrm>
        </p:grpSpPr>
        <p:grpSp>
          <p:nvGrpSpPr>
            <p:cNvPr id="7132" name="Group 3"/>
            <p:cNvGrpSpPr/>
            <p:nvPr/>
          </p:nvGrpSpPr>
          <p:grpSpPr>
            <a:xfrm>
              <a:off x="0" y="115920"/>
              <a:ext cx="9140760" cy="6548400"/>
              <a:chOff x="0" y="115920"/>
              <a:chExt cx="9140760" cy="6548400"/>
            </a:xfrm>
          </p:grpSpPr>
          <p:sp>
            <p:nvSpPr>
              <p:cNvPr id="71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38" name="Picture 9"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ffffff"/>
              </a:solidFill>
              <a:latin typeface="Times New Roman"/>
            </a:endParaRPr>
          </a:p>
        </p:txBody>
      </p:sp>
      <p:grpSp>
        <p:nvGrpSpPr>
          <p:cNvPr id="7140" name="Group 2"/>
          <p:cNvGrpSpPr/>
          <p:nvPr/>
        </p:nvGrpSpPr>
        <p:grpSpPr>
          <a:xfrm>
            <a:off x="0" y="115920"/>
            <a:ext cx="9140760" cy="6548400"/>
            <a:chOff x="0" y="115920"/>
            <a:chExt cx="9140760" cy="6548400"/>
          </a:xfrm>
        </p:grpSpPr>
        <p:grpSp>
          <p:nvGrpSpPr>
            <p:cNvPr id="7141" name="Group 3"/>
            <p:cNvGrpSpPr/>
            <p:nvPr/>
          </p:nvGrpSpPr>
          <p:grpSpPr>
            <a:xfrm>
              <a:off x="0" y="115920"/>
              <a:ext cx="9140760" cy="6548400"/>
              <a:chOff x="0" y="115920"/>
              <a:chExt cx="9140760" cy="6548400"/>
            </a:xfrm>
          </p:grpSpPr>
          <p:sp>
            <p:nvSpPr>
              <p:cNvPr id="71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47" name="Picture 9"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ffffff"/>
              </a:solidFill>
              <a:latin typeface="Times New Roman"/>
            </a:endParaRPr>
          </a:p>
        </p:txBody>
      </p:sp>
      <p:grpSp>
        <p:nvGrpSpPr>
          <p:cNvPr id="7149" name="Group 2"/>
          <p:cNvGrpSpPr/>
          <p:nvPr/>
        </p:nvGrpSpPr>
        <p:grpSpPr>
          <a:xfrm>
            <a:off x="0" y="115920"/>
            <a:ext cx="9140760" cy="6548400"/>
            <a:chOff x="0" y="115920"/>
            <a:chExt cx="9140760" cy="6548400"/>
          </a:xfrm>
        </p:grpSpPr>
        <p:grpSp>
          <p:nvGrpSpPr>
            <p:cNvPr id="7150" name="Group 3"/>
            <p:cNvGrpSpPr/>
            <p:nvPr/>
          </p:nvGrpSpPr>
          <p:grpSpPr>
            <a:xfrm>
              <a:off x="0" y="115920"/>
              <a:ext cx="9140760" cy="6548400"/>
              <a:chOff x="0" y="115920"/>
              <a:chExt cx="9140760" cy="6548400"/>
            </a:xfrm>
          </p:grpSpPr>
          <p:sp>
            <p:nvSpPr>
              <p:cNvPr id="71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56" name="Picture 9"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ffffff"/>
              </a:solidFill>
              <a:latin typeface="Times New Roman"/>
            </a:endParaRPr>
          </a:p>
        </p:txBody>
      </p:sp>
      <p:grpSp>
        <p:nvGrpSpPr>
          <p:cNvPr id="7158" name="Group 2"/>
          <p:cNvGrpSpPr/>
          <p:nvPr/>
        </p:nvGrpSpPr>
        <p:grpSpPr>
          <a:xfrm>
            <a:off x="0" y="115920"/>
            <a:ext cx="9140760" cy="6548400"/>
            <a:chOff x="0" y="115920"/>
            <a:chExt cx="9140760" cy="6548400"/>
          </a:xfrm>
        </p:grpSpPr>
        <p:grpSp>
          <p:nvGrpSpPr>
            <p:cNvPr id="7159" name="Group 3"/>
            <p:cNvGrpSpPr/>
            <p:nvPr/>
          </p:nvGrpSpPr>
          <p:grpSpPr>
            <a:xfrm>
              <a:off x="0" y="115920"/>
              <a:ext cx="9140760" cy="6548400"/>
              <a:chOff x="0" y="115920"/>
              <a:chExt cx="9140760" cy="6548400"/>
            </a:xfrm>
          </p:grpSpPr>
          <p:sp>
            <p:nvSpPr>
              <p:cNvPr id="71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65" name="Picture 9"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ffffff"/>
              </a:solidFill>
              <a:latin typeface="Times New Roman"/>
            </a:endParaRPr>
          </a:p>
        </p:txBody>
      </p:sp>
      <p:grpSp>
        <p:nvGrpSpPr>
          <p:cNvPr id="7167" name="Group 2"/>
          <p:cNvGrpSpPr/>
          <p:nvPr/>
        </p:nvGrpSpPr>
        <p:grpSpPr>
          <a:xfrm>
            <a:off x="0" y="115920"/>
            <a:ext cx="9140760" cy="6548400"/>
            <a:chOff x="0" y="115920"/>
            <a:chExt cx="9140760" cy="6548400"/>
          </a:xfrm>
        </p:grpSpPr>
        <p:grpSp>
          <p:nvGrpSpPr>
            <p:cNvPr id="7168" name="Group 3"/>
            <p:cNvGrpSpPr/>
            <p:nvPr/>
          </p:nvGrpSpPr>
          <p:grpSpPr>
            <a:xfrm>
              <a:off x="0" y="115920"/>
              <a:ext cx="9140760" cy="6548400"/>
              <a:chOff x="0" y="115920"/>
              <a:chExt cx="9140760" cy="6548400"/>
            </a:xfrm>
          </p:grpSpPr>
          <p:sp>
            <p:nvSpPr>
              <p:cNvPr id="71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74" name="Picture 9"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ffffff"/>
              </a:solidFill>
              <a:latin typeface="Times New Roman"/>
            </a:endParaRPr>
          </a:p>
        </p:txBody>
      </p:sp>
      <p:grpSp>
        <p:nvGrpSpPr>
          <p:cNvPr id="7176" name="Group 2"/>
          <p:cNvGrpSpPr/>
          <p:nvPr/>
        </p:nvGrpSpPr>
        <p:grpSpPr>
          <a:xfrm>
            <a:off x="0" y="115920"/>
            <a:ext cx="9140760" cy="6548400"/>
            <a:chOff x="0" y="115920"/>
            <a:chExt cx="9140760" cy="6548400"/>
          </a:xfrm>
        </p:grpSpPr>
        <p:grpSp>
          <p:nvGrpSpPr>
            <p:cNvPr id="7177" name="Group 3"/>
            <p:cNvGrpSpPr/>
            <p:nvPr/>
          </p:nvGrpSpPr>
          <p:grpSpPr>
            <a:xfrm>
              <a:off x="0" y="115920"/>
              <a:ext cx="9140760" cy="6548400"/>
              <a:chOff x="0" y="115920"/>
              <a:chExt cx="9140760" cy="6548400"/>
            </a:xfrm>
          </p:grpSpPr>
          <p:sp>
            <p:nvSpPr>
              <p:cNvPr id="71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83" name="Picture 9"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ffffff"/>
              </a:solidFill>
              <a:latin typeface="Times New Roman"/>
            </a:endParaRPr>
          </a:p>
        </p:txBody>
      </p:sp>
      <p:grpSp>
        <p:nvGrpSpPr>
          <p:cNvPr id="7185" name="Group 2"/>
          <p:cNvGrpSpPr/>
          <p:nvPr/>
        </p:nvGrpSpPr>
        <p:grpSpPr>
          <a:xfrm>
            <a:off x="0" y="115920"/>
            <a:ext cx="9140760" cy="6548400"/>
            <a:chOff x="0" y="115920"/>
            <a:chExt cx="9140760" cy="6548400"/>
          </a:xfrm>
        </p:grpSpPr>
        <p:grpSp>
          <p:nvGrpSpPr>
            <p:cNvPr id="7186" name="Group 3"/>
            <p:cNvGrpSpPr/>
            <p:nvPr/>
          </p:nvGrpSpPr>
          <p:grpSpPr>
            <a:xfrm>
              <a:off x="0" y="115920"/>
              <a:ext cx="9140760" cy="6548400"/>
              <a:chOff x="0" y="115920"/>
              <a:chExt cx="9140760" cy="6548400"/>
            </a:xfrm>
          </p:grpSpPr>
          <p:sp>
            <p:nvSpPr>
              <p:cNvPr id="71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2"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250920" y="1197000"/>
            <a:ext cx="8569080" cy="4587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ffffff"/>
              </a:solidFill>
              <a:latin typeface="Times New Roman"/>
            </a:endParaRPr>
          </a:p>
        </p:txBody>
      </p:sp>
      <p:grpSp>
        <p:nvGrpSpPr>
          <p:cNvPr id="7194" name="Group 2"/>
          <p:cNvGrpSpPr/>
          <p:nvPr/>
        </p:nvGrpSpPr>
        <p:grpSpPr>
          <a:xfrm>
            <a:off x="0" y="115920"/>
            <a:ext cx="9140760" cy="6548400"/>
            <a:chOff x="0" y="115920"/>
            <a:chExt cx="9140760" cy="6548400"/>
          </a:xfrm>
        </p:grpSpPr>
        <p:grpSp>
          <p:nvGrpSpPr>
            <p:cNvPr id="7195" name="Group 3"/>
            <p:cNvGrpSpPr/>
            <p:nvPr/>
          </p:nvGrpSpPr>
          <p:grpSpPr>
            <a:xfrm>
              <a:off x="0" y="115920"/>
              <a:ext cx="9140760" cy="6548400"/>
              <a:chOff x="0" y="115920"/>
              <a:chExt cx="9140760" cy="6548400"/>
            </a:xfrm>
          </p:grpSpPr>
          <p:sp>
            <p:nvSpPr>
              <p:cNvPr id="71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1" name="Picture 9"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ffffff"/>
              </a:solidFill>
              <a:latin typeface="Times New Roman"/>
            </a:endParaRPr>
          </a:p>
        </p:txBody>
      </p:sp>
      <p:grpSp>
        <p:nvGrpSpPr>
          <p:cNvPr id="7203" name="Group 2"/>
          <p:cNvGrpSpPr/>
          <p:nvPr/>
        </p:nvGrpSpPr>
        <p:grpSpPr>
          <a:xfrm>
            <a:off x="0" y="115920"/>
            <a:ext cx="9140760" cy="6548400"/>
            <a:chOff x="0" y="115920"/>
            <a:chExt cx="9140760" cy="6548400"/>
          </a:xfrm>
        </p:grpSpPr>
        <p:grpSp>
          <p:nvGrpSpPr>
            <p:cNvPr id="7204" name="Group 3"/>
            <p:cNvGrpSpPr/>
            <p:nvPr/>
          </p:nvGrpSpPr>
          <p:grpSpPr>
            <a:xfrm>
              <a:off x="0" y="115920"/>
              <a:ext cx="9140760" cy="6548400"/>
              <a:chOff x="0" y="115920"/>
              <a:chExt cx="9140760" cy="6548400"/>
            </a:xfrm>
          </p:grpSpPr>
          <p:sp>
            <p:nvSpPr>
              <p:cNvPr id="72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10" name="Picture 9"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1"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ffffff"/>
              </a:solidFill>
              <a:latin typeface="Times New Roman"/>
            </a:endParaRPr>
          </a:p>
        </p:txBody>
      </p:sp>
      <p:grpSp>
        <p:nvGrpSpPr>
          <p:cNvPr id="7212" name="Group 2"/>
          <p:cNvGrpSpPr/>
          <p:nvPr/>
        </p:nvGrpSpPr>
        <p:grpSpPr>
          <a:xfrm>
            <a:off x="0" y="115920"/>
            <a:ext cx="9140760" cy="6548400"/>
            <a:chOff x="0" y="115920"/>
            <a:chExt cx="9140760" cy="6548400"/>
          </a:xfrm>
        </p:grpSpPr>
        <p:grpSp>
          <p:nvGrpSpPr>
            <p:cNvPr id="7213" name="Group 3"/>
            <p:cNvGrpSpPr/>
            <p:nvPr/>
          </p:nvGrpSpPr>
          <p:grpSpPr>
            <a:xfrm>
              <a:off x="0" y="115920"/>
              <a:ext cx="9140760" cy="6548400"/>
              <a:chOff x="0" y="115920"/>
              <a:chExt cx="9140760" cy="6548400"/>
            </a:xfrm>
          </p:grpSpPr>
          <p:sp>
            <p:nvSpPr>
              <p:cNvPr id="72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19" name="Picture 9"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ffffff"/>
              </a:solidFill>
              <a:latin typeface="Times New Roman"/>
            </a:endParaRPr>
          </a:p>
        </p:txBody>
      </p:sp>
      <p:grpSp>
        <p:nvGrpSpPr>
          <p:cNvPr id="7221" name="Group 2"/>
          <p:cNvGrpSpPr/>
          <p:nvPr/>
        </p:nvGrpSpPr>
        <p:grpSpPr>
          <a:xfrm>
            <a:off x="0" y="115920"/>
            <a:ext cx="9140760" cy="6548400"/>
            <a:chOff x="0" y="115920"/>
            <a:chExt cx="9140760" cy="6548400"/>
          </a:xfrm>
        </p:grpSpPr>
        <p:grpSp>
          <p:nvGrpSpPr>
            <p:cNvPr id="7222" name="Group 3"/>
            <p:cNvGrpSpPr/>
            <p:nvPr/>
          </p:nvGrpSpPr>
          <p:grpSpPr>
            <a:xfrm>
              <a:off x="0" y="115920"/>
              <a:ext cx="9140760" cy="6548400"/>
              <a:chOff x="0" y="115920"/>
              <a:chExt cx="9140760" cy="6548400"/>
            </a:xfrm>
          </p:grpSpPr>
          <p:sp>
            <p:nvSpPr>
              <p:cNvPr id="72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28" name="Picture 9"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9"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ffffff"/>
              </a:solidFill>
              <a:latin typeface="Times New Roman"/>
            </a:endParaRPr>
          </a:p>
        </p:txBody>
      </p:sp>
      <p:grpSp>
        <p:nvGrpSpPr>
          <p:cNvPr id="7230" name="Group 2"/>
          <p:cNvGrpSpPr/>
          <p:nvPr/>
        </p:nvGrpSpPr>
        <p:grpSpPr>
          <a:xfrm>
            <a:off x="0" y="115920"/>
            <a:ext cx="9140760" cy="6548400"/>
            <a:chOff x="0" y="115920"/>
            <a:chExt cx="9140760" cy="6548400"/>
          </a:xfrm>
        </p:grpSpPr>
        <p:grpSp>
          <p:nvGrpSpPr>
            <p:cNvPr id="7231" name="Group 3"/>
            <p:cNvGrpSpPr/>
            <p:nvPr/>
          </p:nvGrpSpPr>
          <p:grpSpPr>
            <a:xfrm>
              <a:off x="0" y="115920"/>
              <a:ext cx="9140760" cy="6548400"/>
              <a:chOff x="0" y="115920"/>
              <a:chExt cx="9140760" cy="6548400"/>
            </a:xfrm>
          </p:grpSpPr>
          <p:sp>
            <p:nvSpPr>
              <p:cNvPr id="72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37" name="Picture 9"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8"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ffffff"/>
              </a:solidFill>
              <a:latin typeface="Times New Roman"/>
            </a:endParaRPr>
          </a:p>
        </p:txBody>
      </p:sp>
      <p:grpSp>
        <p:nvGrpSpPr>
          <p:cNvPr id="7239" name="Group 2"/>
          <p:cNvGrpSpPr/>
          <p:nvPr/>
        </p:nvGrpSpPr>
        <p:grpSpPr>
          <a:xfrm>
            <a:off x="0" y="115920"/>
            <a:ext cx="9140760" cy="6548400"/>
            <a:chOff x="0" y="115920"/>
            <a:chExt cx="9140760" cy="6548400"/>
          </a:xfrm>
        </p:grpSpPr>
        <p:grpSp>
          <p:nvGrpSpPr>
            <p:cNvPr id="7240" name="Group 3"/>
            <p:cNvGrpSpPr/>
            <p:nvPr/>
          </p:nvGrpSpPr>
          <p:grpSpPr>
            <a:xfrm>
              <a:off x="0" y="115920"/>
              <a:ext cx="9140760" cy="6548400"/>
              <a:chOff x="0" y="115920"/>
              <a:chExt cx="9140760" cy="6548400"/>
            </a:xfrm>
          </p:grpSpPr>
          <p:sp>
            <p:nvSpPr>
              <p:cNvPr id="72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46" name="Picture 9"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7"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ffffff"/>
              </a:solidFill>
              <a:latin typeface="Times New Roman"/>
            </a:endParaRPr>
          </a:p>
        </p:txBody>
      </p:sp>
      <p:grpSp>
        <p:nvGrpSpPr>
          <p:cNvPr id="7248" name="Group 2"/>
          <p:cNvGrpSpPr/>
          <p:nvPr/>
        </p:nvGrpSpPr>
        <p:grpSpPr>
          <a:xfrm>
            <a:off x="0" y="115920"/>
            <a:ext cx="9140760" cy="6548400"/>
            <a:chOff x="0" y="115920"/>
            <a:chExt cx="9140760" cy="6548400"/>
          </a:xfrm>
        </p:grpSpPr>
        <p:grpSp>
          <p:nvGrpSpPr>
            <p:cNvPr id="7249" name="Group 3"/>
            <p:cNvGrpSpPr/>
            <p:nvPr/>
          </p:nvGrpSpPr>
          <p:grpSpPr>
            <a:xfrm>
              <a:off x="0" y="115920"/>
              <a:ext cx="9140760" cy="6548400"/>
              <a:chOff x="0" y="115920"/>
              <a:chExt cx="9140760" cy="6548400"/>
            </a:xfrm>
          </p:grpSpPr>
          <p:sp>
            <p:nvSpPr>
              <p:cNvPr id="72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55" name="Picture 9"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6"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ffffff"/>
              </a:solidFill>
              <a:latin typeface="Times New Roman"/>
            </a:endParaRPr>
          </a:p>
        </p:txBody>
      </p:sp>
      <p:grpSp>
        <p:nvGrpSpPr>
          <p:cNvPr id="7257" name="Group 2"/>
          <p:cNvGrpSpPr/>
          <p:nvPr/>
        </p:nvGrpSpPr>
        <p:grpSpPr>
          <a:xfrm>
            <a:off x="0" y="115920"/>
            <a:ext cx="9140760" cy="6548400"/>
            <a:chOff x="0" y="115920"/>
            <a:chExt cx="9140760" cy="6548400"/>
          </a:xfrm>
        </p:grpSpPr>
        <p:grpSp>
          <p:nvGrpSpPr>
            <p:cNvPr id="7258" name="Group 3"/>
            <p:cNvGrpSpPr/>
            <p:nvPr/>
          </p:nvGrpSpPr>
          <p:grpSpPr>
            <a:xfrm>
              <a:off x="0" y="115920"/>
              <a:ext cx="9140760" cy="6548400"/>
              <a:chOff x="0" y="115920"/>
              <a:chExt cx="9140760" cy="6548400"/>
            </a:xfrm>
          </p:grpSpPr>
          <p:sp>
            <p:nvSpPr>
              <p:cNvPr id="72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64" name="Picture 9"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65" name="Group 1"/>
          <p:cNvGrpSpPr/>
          <p:nvPr/>
        </p:nvGrpSpPr>
        <p:grpSpPr>
          <a:xfrm>
            <a:off x="0" y="115920"/>
            <a:ext cx="9140760" cy="6548400"/>
            <a:chOff x="0" y="115920"/>
            <a:chExt cx="9140760" cy="6548400"/>
          </a:xfrm>
        </p:grpSpPr>
        <p:grpSp>
          <p:nvGrpSpPr>
            <p:cNvPr id="7266" name="Group 2"/>
            <p:cNvGrpSpPr/>
            <p:nvPr/>
          </p:nvGrpSpPr>
          <p:grpSpPr>
            <a:xfrm>
              <a:off x="0" y="115920"/>
              <a:ext cx="9140760" cy="6548400"/>
              <a:chOff x="0" y="115920"/>
              <a:chExt cx="9140760" cy="6548400"/>
            </a:xfrm>
          </p:grpSpPr>
          <p:sp>
            <p:nvSpPr>
              <p:cNvPr id="7267"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8"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69"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0"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1"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72" name="Picture 8" descr=""/>
          <p:cNvPicPr/>
          <p:nvPr/>
        </p:nvPicPr>
        <p:blipFill>
          <a:blip r:embed="rId3"/>
          <a:stretch/>
        </p:blipFill>
        <p:spPr>
          <a:xfrm>
            <a:off x="250920" y="333360"/>
            <a:ext cx="1417680" cy="879480"/>
          </a:xfrm>
          <a:prstGeom prst="rect">
            <a:avLst/>
          </a:prstGeom>
          <a:ln w="0">
            <a:noFill/>
          </a:ln>
        </p:spPr>
      </p:pic>
      <p:sp>
        <p:nvSpPr>
          <p:cNvPr id="7273" name="Text Box 9"/>
          <p:cNvSpPr/>
          <p:nvPr/>
        </p:nvSpPr>
        <p:spPr>
          <a:xfrm>
            <a:off x="250920" y="1555920"/>
            <a:ext cx="8497800" cy="3970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4"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ffffff"/>
              </a:solidFill>
              <a:latin typeface="Times New Roman"/>
            </a:endParaRPr>
          </a:p>
        </p:txBody>
      </p:sp>
      <p:grpSp>
        <p:nvGrpSpPr>
          <p:cNvPr id="7275" name="Group 2"/>
          <p:cNvGrpSpPr/>
          <p:nvPr/>
        </p:nvGrpSpPr>
        <p:grpSpPr>
          <a:xfrm>
            <a:off x="0" y="115920"/>
            <a:ext cx="9140760" cy="6548400"/>
            <a:chOff x="0" y="115920"/>
            <a:chExt cx="9140760" cy="6548400"/>
          </a:xfrm>
        </p:grpSpPr>
        <p:grpSp>
          <p:nvGrpSpPr>
            <p:cNvPr id="7276" name="Group 3"/>
            <p:cNvGrpSpPr/>
            <p:nvPr/>
          </p:nvGrpSpPr>
          <p:grpSpPr>
            <a:xfrm>
              <a:off x="0" y="115920"/>
              <a:ext cx="9140760" cy="6548400"/>
              <a:chOff x="0" y="115920"/>
              <a:chExt cx="9140760" cy="6548400"/>
            </a:xfrm>
          </p:grpSpPr>
          <p:sp>
            <p:nvSpPr>
              <p:cNvPr id="72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3:27Z</dcterms:modified>
  <cp:revision>1</cp:revision>
  <dc:subject/>
  <dc:title/>
</cp:coreProperties>
</file>